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AA87-8557-4081-9924-7EDDABE48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3FEC-9F61-47A4-9BA9-6D197737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3125-EC9E-4D3F-B3F6-699BE654D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736F-4703-4514-A525-98E71B075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68D0-94D1-45A4-BA17-D95C2413C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990B-C9DA-4982-844F-1879B59DB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0910-EDB0-4AB9-B65A-F1AB2722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C8B1-4A6F-450C-A3E0-B3CEC67AA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40F8-1A42-42CF-BE90-B21A72021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351F-94B1-4193-A15E-E292FCC9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3402-78CE-40B2-B4D1-F46D08B0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4F7A-C357-4056-B2B1-C6355B4D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9DAD6F-7538-4D7D-9E83-0899A5716C2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60560" y="353880"/>
            <a:ext cx="8740800" cy="17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70c0"/>
                </a:solidFill>
                <a:latin typeface="Arial Black"/>
              </a:rPr>
              <a:t>Elemente de noutate ale programei școlare pentru discipli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17520" y="2290320"/>
            <a:ext cx="96217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 Black"/>
              </a:rPr>
              <a:t>LIMBA MODERNĂ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 Black"/>
              </a:rPr>
              <a:t>ENGLEZĂ/ FRANCEZĂ / SPANIOLĂ / ITALIAN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o-RO" sz="1600" spc="-1" strike="noStrike">
                <a:solidFill>
                  <a:srgbClr val="000000"/>
                </a:solidFill>
                <a:latin typeface="Arial Black"/>
              </a:rPr>
              <a:t>LIMBA MODERNĂ 1 – STUDIU INTENSIV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 Black"/>
              </a:rPr>
              <a:t>ENGLEZĂ/ FRANCEZĂ / SPANIOLĂ / ITALIAN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 Black"/>
              </a:rPr>
              <a:t>LIMBA MODERNĂ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 Black"/>
              </a:rPr>
              <a:t>CHINEZĂ/ ENGLEZĂ/ FRANCEZĂ / SPANIOLĂ / ITALIANĂ/ TURC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 Black"/>
              </a:rPr>
              <a:t>LIMBA MODERNĂ 1/ LIMBA MODERNĂ 2/ LIMBA MODERNĂ 1 – STUDIU INTENSIV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 Black"/>
              </a:rPr>
              <a:t>GERMANĂ/ RUSĂ/ JAPONEZ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49400" y="619200"/>
            <a:ext cx="9905760" cy="47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1) CENTRAREA PE COMPETENȚE DE COMUNICARE ȘI NU PE CONȚINUTURI LINGVISTICE SPECIF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4840" y="263160"/>
            <a:ext cx="9585000" cy="19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PRECIZAREA NIVELURILOR DIN CECRL LA INTRAREA ELEVILOR ÎN CICLUL DE ÎNVĂȚĂMÂNT GIMNAZIAL, PRECUM ȘI A NIVELURILOR AȘTEPTATE </a:t>
            </a:r>
            <a:r>
              <a:rPr b="0" lang="ro-RO" sz="2600" spc="-1" strike="noStrike">
                <a:solidFill>
                  <a:srgbClr val="000000"/>
                </a:solidFill>
                <a:latin typeface="Calibri"/>
              </a:rPr>
              <a:t>LA FINALUL CICLULUI GIMNAZIAL (a)</a:t>
            </a:r>
            <a:br>
              <a:rPr sz="2600"/>
            </a:b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Calibri"/>
              </a:rPr>
              <a:t>- limbile engleză, franceză, spaniolă, italiană -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103400" y="3105000"/>
          <a:ext cx="9943920" cy="2926080"/>
        </p:xfrm>
        <a:graphic>
          <a:graphicData uri="http://schemas.openxmlformats.org/drawingml/2006/table">
            <a:tbl>
              <a:tblPr/>
              <a:tblGrid>
                <a:gridCol w="3314520"/>
                <a:gridCol w="3314880"/>
                <a:gridCol w="3314520"/>
              </a:tblGrid>
              <a:tr h="960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9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NIVELUL DE COMPETENȚĂ LINGVISTICĂ AL ELEVILOR LA </a:t>
                      </a: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ÎNCEPUTUL CLASEI A V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INALUL CLASEI A VIII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4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IMBA MODERNĂ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2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dd0"/>
                    </a:solidFill>
                  </a:tcPr>
                </a:tc>
              </a:tr>
              <a:tr h="94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IMBA MODERNĂ 1 INTENSI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6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6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6e9"/>
                    </a:solidFill>
                  </a:tcPr>
                </a:tc>
              </a:tr>
              <a:tr h="94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IMBA MODERNĂ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1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dd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73000" y="534960"/>
            <a:ext cx="937584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2) PRECIZAREA NIVELURILOR DIN CECRL LA INTRAREA ELEVILOR ÎN CICLUL DE ÎNVĂȚĂMÂNT GIMNAZIAL, PRECUM ȘI A NIVELURILOR AȘTEPTATE LA FINALUL CICLULUI GIMNAZIAL (b)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58800" y="1944360"/>
            <a:ext cx="9391680" cy="43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- limbile germană, rusă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627200" y="3094200"/>
          <a:ext cx="7709040" cy="2031840"/>
        </p:xfrm>
        <a:graphic>
          <a:graphicData uri="http://schemas.openxmlformats.org/drawingml/2006/table">
            <a:tbl>
              <a:tblPr/>
              <a:tblGrid>
                <a:gridCol w="1882800"/>
                <a:gridCol w="5826240"/>
              </a:tblGrid>
              <a:tr h="771480"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ivel CECR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umăr de ore necesar pentru atingerea nivelului în gimnaziu GE/ R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840"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b050"/>
                          </a:solidFill>
                          <a:latin typeface="Arial"/>
                          <a:ea typeface="Calibri"/>
                        </a:rPr>
                        <a:t>A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b050"/>
                          </a:solidFill>
                          <a:latin typeface="Arial"/>
                          <a:ea typeface="Calibri"/>
                        </a:rPr>
                        <a:t>1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840"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b050"/>
                          </a:solidFill>
                          <a:latin typeface="Arial"/>
                          <a:ea typeface="Calibri"/>
                        </a:rPr>
                        <a:t>A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b050"/>
                          </a:solidFill>
                          <a:latin typeface="Arial"/>
                          <a:ea typeface="Calibri"/>
                        </a:rPr>
                        <a:t>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840"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b050"/>
                          </a:solidFill>
                          <a:latin typeface="Arial"/>
                          <a:ea typeface="Calibri"/>
                        </a:rPr>
                        <a:t>B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b050"/>
                          </a:solidFill>
                          <a:latin typeface="Arial"/>
                          <a:ea typeface="Calibri"/>
                        </a:rPr>
                        <a:t>6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6320" y="1787400"/>
            <a:ext cx="1024272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DETALIEREA FIEC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EI 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COMPETENȚ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 GEN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ALE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 ÎN COMPETENȚE SPECIFICE, ULTIMA COMPETENȚĂ SPECIFICĂ FIIND DE NATURĂ SOCIO-CULTURALĂ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itre 1"/>
          <p:cNvSpPr/>
          <p:nvPr/>
        </p:nvSpPr>
        <p:spPr>
          <a:xfrm>
            <a:off x="976320" y="3619440"/>
            <a:ext cx="990612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entury Gothic"/>
              </a:rPr>
              <a:t>4) PREZENTAREA DETALIATĂ A RECOMANDĂRILOR ȘI A SUGESTIILOR METODOLOGICE, PRECUM ȘI A STRATEGIILOR DE PRED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itre 1"/>
          <p:cNvSpPr/>
          <p:nvPr/>
        </p:nvSpPr>
        <p:spPr>
          <a:xfrm>
            <a:off x="808200" y="1639800"/>
            <a:ext cx="10399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Gothic"/>
              </a:rPr>
              <a:t>5) PREZENTAREA DE EXEMPLE SPECIFICE FIECĂREI LIMBI, PREZENTAREA DE TEME RECOMANDATE CE EVOLUEAZĂ PROGRESIV DE LA O CLASĂ LA A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re 1"/>
          <p:cNvSpPr/>
          <p:nvPr/>
        </p:nvSpPr>
        <p:spPr>
          <a:xfrm>
            <a:off x="741240" y="2603520"/>
            <a:ext cx="1046664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6) PREZENTAREA DE TEME DE PROIECT INTRODUSE PROGRESIV DE LA UN NIVEL LA ALT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tre 1"/>
          <p:cNvSpPr/>
          <p:nvPr/>
        </p:nvSpPr>
        <p:spPr>
          <a:xfrm>
            <a:off x="741240" y="3830760"/>
            <a:ext cx="10855440" cy="19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Gothic"/>
              </a:rPr>
              <a:t>7)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PREZENTAREA GRAMATICII </a:t>
            </a:r>
            <a:r>
              <a:rPr b="0" lang="ro-RO" sz="2400" spc="-1" strike="noStrike">
                <a:solidFill>
                  <a:srgbClr val="000000"/>
                </a:solidFill>
                <a:latin typeface="Century Gothic"/>
              </a:rPr>
              <a:t>FUNCȚIONAL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</a:t>
            </a:r>
            <a:r>
              <a:rPr b="0" lang="ro-RO" sz="2400" spc="-1" strike="noStrike">
                <a:solidFill>
                  <a:srgbClr val="000000"/>
                </a:solidFill>
                <a:latin typeface="Century Gothic"/>
              </a:rPr>
              <a:t> ÎNTR-O DUBLĂ PERSPECTIVĂ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571680"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entury Gothic"/>
              </a:rPr>
              <a:t>ACEEA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Century Gothic"/>
              </a:rPr>
              <a:t> A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Century Gothic"/>
              </a:rPr>
              <a:t>ACTELOR DE VORBIRE / A FUNCȚIILOR LIMB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571680" algn="just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571680"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entury Gothic"/>
              </a:rPr>
              <a:t>ACEEA A ELEMENTELOR DE CONSTRUCȚIE A COMUNICĂRII CE CONTRIBUIE LA REALIZAREA DIVERSELOR ACTE DE VORB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itre 1"/>
          <p:cNvSpPr/>
          <p:nvPr/>
        </p:nvSpPr>
        <p:spPr>
          <a:xfrm>
            <a:off x="988920" y="1082520"/>
            <a:ext cx="990612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Gothic"/>
              </a:rPr>
              <a:t>8) PREZENTAREA DESCRIPTIVĂ, ÎN ANEXĂ, A ELEMENTELOR DE CONSTRUCȚIE A COMUNICĂRII SPECIFICE  FIECĂREI CLASE /FIECĂRUI  NI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itre 1"/>
          <p:cNvSpPr/>
          <p:nvPr/>
        </p:nvSpPr>
        <p:spPr>
          <a:xfrm>
            <a:off x="1139760" y="2738520"/>
            <a:ext cx="100044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300" spc="-1" strike="noStrike">
                <a:solidFill>
                  <a:srgbClr val="000000"/>
                </a:solidFill>
                <a:latin typeface="Calibri"/>
              </a:rPr>
              <a:t>9) INDICAREA RESURSELOR ON LINE UTILE PARCURGERII PROGRAME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itre 1"/>
          <p:cNvSpPr/>
          <p:nvPr/>
        </p:nvSpPr>
        <p:spPr>
          <a:xfrm>
            <a:off x="1055520" y="3879720"/>
            <a:ext cx="98758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Gothic"/>
              </a:rPr>
              <a:t>10) CORELAREA PROGRAMELOR ȘCOLARE PENTRU LIMBI MODERNE CU NIVELURILE DIN CECRL, PRECUM ȘI CU INSTRUMENTELE CONEXE - REFERENȚIALUL PENTRU CECRL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(LIMBA FRANCEZ</a:t>
            </a:r>
            <a:r>
              <a:rPr b="0" lang="ro-RO" sz="2400" spc="-1" strike="noStrike">
                <a:solidFill>
                  <a:srgbClr val="000000"/>
                </a:solidFill>
                <a:latin typeface="Century Gothic"/>
              </a:rPr>
              <a:t>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07T14:36:34Z</dcterms:created>
  <dc:creator>Manuela Delia</dc:creator>
  <dc:description/>
  <dc:language>en-US</dc:language>
  <cp:lastModifiedBy>Micky</cp:lastModifiedBy>
  <dcterms:modified xsi:type="dcterms:W3CDTF">2018-09-16T16:59:14Z</dcterms:modified>
  <cp:revision>25</cp:revision>
  <dc:subject/>
  <dc:title>Elemente de noutate ale programei școlare pentru disciplina</dc:title>
</cp:coreProperties>
</file>