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sldIdLst>
    <p:sldId id="256" r:id="rId36"/>
    <p:sldId id="257" r:id="rId37"/>
    <p:sldId id="258" r:id="rId38"/>
    <p:sldId id="259" r:id="rId39"/>
    <p:sldId id="260" r:id="rId40"/>
    <p:sldId id="261" r:id="rId41"/>
    <p:sldId id="262" r:id="rId42"/>
    <p:sldId id="263" r:id="rId43"/>
    <p:sldId id="264" r:id="rId44"/>
    <p:sldId id="265" r:id="rId45"/>
    <p:sldId id="266" r:id="rId46"/>
    <p:sldId id="267" r:id="rId47"/>
    <p:sldId id="268" r:id="rId48"/>
    <p:sldId id="269" r:id="rId49"/>
    <p:sldId id="270" r:id="rId50"/>
    <p:sldId id="271" r:id="rId51"/>
    <p:sldId id="272" r:id="rId52"/>
    <p:sldId id="273" r:id="rId53"/>
    <p:sldId id="274" r:id="rId54"/>
    <p:sldId id="275" r:id="rId55"/>
  </p:sldIdLst>
  <p:sldSz cx="12193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slide" Target="slides/slide5.xml"/><Relationship Id="rId41" Type="http://schemas.openxmlformats.org/officeDocument/2006/relationships/slide" Target="slides/slide6.xml"/><Relationship Id="rId42" Type="http://schemas.openxmlformats.org/officeDocument/2006/relationships/slide" Target="slides/slide7.xml"/><Relationship Id="rId43" Type="http://schemas.openxmlformats.org/officeDocument/2006/relationships/slide" Target="slides/slide8.xml"/><Relationship Id="rId44" Type="http://schemas.openxmlformats.org/officeDocument/2006/relationships/slide" Target="slides/slide9.xml"/><Relationship Id="rId45" Type="http://schemas.openxmlformats.org/officeDocument/2006/relationships/slide" Target="slides/slide10.xml"/><Relationship Id="rId46" Type="http://schemas.openxmlformats.org/officeDocument/2006/relationships/slide" Target="slides/slide11.xml"/><Relationship Id="rId47" Type="http://schemas.openxmlformats.org/officeDocument/2006/relationships/slide" Target="slides/slide12.xml"/><Relationship Id="rId48" Type="http://schemas.openxmlformats.org/officeDocument/2006/relationships/slide" Target="slides/slide13.xml"/><Relationship Id="rId49" Type="http://schemas.openxmlformats.org/officeDocument/2006/relationships/slide" Target="slides/slide14.xml"/><Relationship Id="rId50" Type="http://schemas.openxmlformats.org/officeDocument/2006/relationships/slide" Target="slides/slide15.xml"/><Relationship Id="rId51" Type="http://schemas.openxmlformats.org/officeDocument/2006/relationships/slide" Target="slides/slide16.xml"/><Relationship Id="rId52" Type="http://schemas.openxmlformats.org/officeDocument/2006/relationships/slide" Target="slides/slide17.xml"/><Relationship Id="rId53" Type="http://schemas.openxmlformats.org/officeDocument/2006/relationships/slide" Target="slides/slide18.xml"/><Relationship Id="rId54" Type="http://schemas.openxmlformats.org/officeDocument/2006/relationships/slide" Target="slides/slide19.xml"/><Relationship Id="rId55" Type="http://schemas.openxmlformats.org/officeDocument/2006/relationships/slide" Target="slides/slide20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92AF-8EED-43C6-81B7-F4729110E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AF5B-F2F0-4A76-AAFD-A35A81ED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1088B-3985-4978-96B6-6808D3C4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033A3-5900-4250-B057-621485E7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B1409-144C-4287-820D-DA89D3DC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2AE1F-E0DF-4019-970D-83EBC068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C17EF-715B-408C-BE36-F1755B0A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A68BF-83AB-42B9-8243-A0867F85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3D298-3776-442D-9CB9-EA735F52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69AAC-A615-4219-BC7C-49EC3A7A9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C6C057-F1F0-4E0F-BB41-58B6D5CF4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60AD9-7BCF-45AE-AD07-C0EB10A9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FFCF-19D8-4EC3-B8EA-48E3B0F0D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908D7C-82F2-45E2-AA20-72D8EF77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68963-772E-4847-8526-5AF26F93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BF715E-5DE8-4EC6-98DE-C846B3A0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06655E-3A78-4424-9A8F-20E8738E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BCC2D-129E-4F59-B160-F2C9B5FF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569416-0777-49E2-9753-A2258F04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7AF5D8-AC32-4DDE-8610-4E106695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C4FCBB-5B1E-41F2-A724-3F574478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31D8E-8B7A-45F8-9C22-72276AC7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C9460-836B-4E06-975A-DA33F6D8D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509D-58DB-42C7-BBEB-F70F8FDA5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15D0B-DB3B-4DE5-8F56-FED6D2136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93EC1-1F24-469B-AA5F-D953C5E20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73299-B992-494E-8080-F1FBEDD2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9EA1F-30DE-4A1D-B0EA-39FB01ED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C38B2-1144-4BA3-839D-2F211BA2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C5BCE-A290-45A8-82CD-1106E386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41DEF-9A29-4E30-B807-0BCAEE31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C66D4-DAFB-49D2-A72F-725089C8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A006D-529E-4D1A-8908-C16B638E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A32C0-FCC1-4BD1-BD9E-42C94D05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529F-27C1-49EA-BBFB-CF416A4E2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FB67B-E680-4669-A844-788097DE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A92AF-82E0-4FAD-9432-64BB73604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2CCA2-41E0-4352-BDE6-BF250214E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E14193-94DF-491D-A9F8-B0612569F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5CB632-5507-4870-B0EA-1F1876E9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E7BD18-3D6D-4B1A-BDF9-8AC67852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A9D7AD-6CB5-4CF6-B2D3-22C78F6E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B5D7D9-48DC-4DE5-863C-3B377EF2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AECC63-2C90-4E56-8CC7-C6160D8A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B7F01D-8056-475B-9B60-CEC02FC6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B243-972D-4F97-BD6A-BF5E2DE1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423605-6C49-43AD-9A14-4628A985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547FCF-DCD5-47B4-BAE4-90DFA3D1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1E0C75-7E89-4103-9DC4-55B12F0E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66E9C8-28E3-4980-9EB0-D07BB2986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9DCC1E-BFE5-4B96-9442-B6CE188A4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58F979-1F41-4CDE-B294-49FD2DABE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9E9D1B-9DAB-4779-BB22-7F7F8E87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FA8C19-39E6-4599-A1FE-BDF010F1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17A6F5-F5FD-4CF5-A039-4D7F6343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C22F62-4CB0-4D12-8D7B-6996605E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13BF-859F-4F58-8DF3-D0488437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90A985-C8F5-4119-839C-D6B7BED5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3399D4-AF19-4B01-B309-6FD74ABA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F87790-57D9-4256-9A76-1BB5304D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0B9BB7-9A6E-42F7-BAAC-6141A8AA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A388F1-10A5-4200-8693-5080B3C5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97DDE2-0614-40A3-BB83-D2B8BF240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174992-85B8-430A-BD35-A89D02BC3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9F25C0-2D74-4AA0-9B9D-A5D214B8F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8502D3-BAA9-4752-B1AA-6AB9A1AA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8B143D-1408-4DB9-A28E-2C339EC9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931B-D939-48A6-A178-461E1017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188B6B-9BD2-4B32-8CCA-8131A642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053E85-1CE6-4022-8724-EFB9DF5E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F0D159-EB6D-4E9A-AA23-BC49176D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25C540-DD0F-41E8-8EC5-E6CCC7BA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631BDD-5A97-4F1E-BD0F-4B53DB7C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F360B0-1E5E-43BE-876D-EAF12EE8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F81D97-D663-44D9-AE12-3E30DB17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A2B0C4-CFA1-43EB-91C9-C96D8DE79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CD113D-3223-468B-AE8A-7EF622AFF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0BB021-4297-4480-BCDD-1D75003E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00BE-6E4B-4A52-895E-CE57CA38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BF93DD-7786-4485-94CE-C28FE348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DB76C8-8323-4783-9870-05456261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6E46DA-931A-474B-A871-FC078D27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239A86-BB9F-4986-BC45-F6D7DAEC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40B654-D216-47CC-996E-08586547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D152F9-B6E0-47A4-AB0D-12789626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374048-43EF-4CD3-8CCE-E7F1F9DC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05F84F-C993-43FC-94B7-1663946C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2E7EA1-4E1E-45CF-AF73-CAE73711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00B4D4-5990-40C1-8A0D-5B2B3C58B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5FB8-6C9E-4F5B-BF59-D10FAEB8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CFC9F9-4552-4248-9253-9A2BB230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400485-DCCA-46C6-8AE7-7519A0E0E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BDBCA9-8898-4C94-BAB9-14F074D7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BBBA8A-AE49-486D-9CA6-C6F7D621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051C55-BDA7-4233-82BC-D4047FC5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187AAE-0390-4C69-AA83-5D6CD132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283DDA-930C-430E-AD2A-8D7E0895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983732-72B3-4A59-8A11-722F929A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FDC675-5781-4788-BB70-D0C402ED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F88DBF-3D59-4975-9695-1106D98C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B610-B8FE-4D9D-BA51-C2C5479A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25EFB0-7232-4643-BCD5-37AF0F57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2D01BE-20F9-49B9-A3FB-F066C2750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8B7F1A-4B09-4786-AA0D-643305DED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EF0CDD-D402-40D8-BDC7-A7A98B00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E070AB-6D4C-4EA6-9A0F-1B7E1432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507C82-C5A7-4BC7-B734-8DB770E8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9A983A-1944-4458-926A-7DE4CF69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498FB7-1C82-458F-B18C-E6AFAD4B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341213-E01F-4DFC-B90F-F9FB9A5D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C4A0A6-9F98-4B05-B88F-9BD9D3CD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18B7-B35E-45CB-98F4-CBDC6D92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BF02-09D7-453E-A29B-D19D5365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29CE80-77B3-4507-91E7-57A06904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0EE4DE-0D5E-43A7-944B-F96D63AA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97FF32-A0CF-43CA-97D9-C1F3D1F7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73D7C1-BED4-40DC-9C06-8D11A4D19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703EDE-16A2-4C29-918D-900E7D9A2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0CE551-15F4-4DB5-8ED7-BDEC8679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E803BF-C95A-46FA-A3C8-85D05495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BE284A-1347-46F8-ABB3-49096D83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DEBDCD-3ACB-47CC-9801-09FDF7A8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95E668-F681-473E-BDDB-BAFAA136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653E-F356-4F8B-9C18-19F32A7C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D8898D-F27B-4B1A-A8FE-B3FD1CD5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568830-2DD8-4D97-8186-B7FCB0E5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6AD266-768E-435B-B56C-CB6CCE17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C5C520-A279-494D-BACD-50D9E9EF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52637B-6A5C-4E81-9BFB-C4119393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BF7558-439C-4E61-8680-D34C1BFA7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B0C5E1-D417-4A7F-9570-13F127D06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3B1311-461D-4F30-8D25-BFC44DF2E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8AD820-04B0-4E5C-9BFB-1470A3E3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492A71-0020-4D09-B3A7-5BDE8770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0818-4FA0-42B9-9AF6-11965BA1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F337C3-6A1F-421C-A7FA-45C45230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B8DF81-F43A-4A0E-AB1E-30F8FCB9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C77F06-28D8-4B38-A72A-9F5AB790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51634D-670C-4C6B-9125-2F617DFD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9D790E-B5E2-42ED-9E59-D73E338F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CEAE85-E9CD-4B4E-80D2-8424EE3B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8E79C7-D275-422E-917C-8A79CC4C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77D5EA-3A8F-41F5-9211-D1EEDCF4C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271747-4CD1-4D91-AC8F-C3293469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78472E-733B-4688-9616-F79C72B4F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4328-48DB-4E3B-A259-7C90B1101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075CDF-51D7-4910-BAD5-649BCF73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C09A16-2C5F-478F-BFBA-29382BE7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3BF772-5D84-4563-8C24-95C4EA70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20971F-CD5A-4F83-B772-124C5055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39FFFA-28BF-4337-BCF2-F28FA51D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43FD08-B900-4EC0-AC36-DF04B4C2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D382EC-94F4-40C1-B78F-9422F2FA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25AB98-FEF4-414B-A1D2-45729CF6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8C61F4-25B0-4BBA-9A1A-DB878D1F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61B9E8-8ECE-4783-B121-3EAA6045C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340A-84AB-4FAE-B6BE-F59BE9BD3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2B84B6-40DE-4A0B-867E-F381616F3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ECAF4F-5A4D-4394-BB63-D7E8A5F70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1D71E0-B1EA-4FA7-89B8-D4B339F2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A12422-6290-4E53-87ED-A882D3E5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A40D83-B69A-4C72-9317-E73FC40B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C138D0-7669-4FDA-B86D-DD74B1BF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DF5EC0-18B0-4205-BD29-E5189293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56C89C-9EB8-4F21-8C34-0E7E7411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6A63E8-085A-47E3-A20B-EE04575A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CFAB9C-F66A-48FF-B473-00D3EF62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E3A01-2492-4F38-A48A-B348A1659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A67203-65DC-4232-9FCC-D8D6C21A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C93976-DC73-4F6F-BFC0-2F2C33862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D62ADC-995F-4920-BE71-B3351BAA1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6465B3-66C5-48FA-B569-C80177E81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1D7FD2-80E8-4DC2-9D1D-A595758F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7F8B2B-BA7A-4EC2-AC10-474E001A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BD2B07-CAA9-4C03-AD40-E8A8060B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622AA3-8694-4119-BEAB-AC90601A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BBC92E-50AE-4806-9E95-C1029AD6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9719B4-CABE-4DF0-86DB-E295AECD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F7F87-36AA-4660-B109-26A306EB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832A0E-210D-4199-A4B7-CBAEB06F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A679B9-9872-4AD4-ACCB-31E40BB4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54EACB-C17D-4964-A1F0-0C56B88F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314622-7434-48C3-A3BA-C5A785CA5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409150-C8AA-48A3-ACC8-7C7606690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CA7CED-20D7-4D5A-99E8-1E758B14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FA2492-F7AF-4DF1-AE93-15BB0190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F52A15-33C0-4B42-B7B4-5CE2E440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4654BA-3432-4136-9BCC-031B9A6A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0C7AFC-F640-4FD1-9E89-2AC0A895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BEE9B-9270-4420-9351-B3512D2C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90CB8C-5D24-418C-BC6A-7DE0F294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8B655E-6EDF-475B-B489-A9D78E8B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01B4E6-32B4-4255-9582-ED4D2069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F10E78-FD61-4F47-98E3-BED9FD23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0F8C0F-CB4B-476A-9A48-E9D0E604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100EE0-F6CF-4823-A2EB-B03B79118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6C55B4-5962-48AC-BB2A-D29DF81AB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6AE09E-22AE-42D9-BFF3-C67D19779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A0F777-CB27-443C-BBA9-A2C41EAA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F6F8A8-B80D-443E-ADFF-310B991F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F1A96-3A11-43AC-8FC3-2F0ADDA0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9F5F71-0E26-4EC9-BB4F-2CBA56DC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D50742-D4AF-47C8-81F6-19D43827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D023CB-67AF-4651-B39C-B49F0DC3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5CA9AF-7E5B-48F6-B022-71AFD6ED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5CA716-796A-4A63-8135-45C08E75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36BED8-1068-4656-90FB-5BE704D1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37D3B6-3FB2-414B-B608-5E0E3C65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091DE1-1F0B-4C9B-858B-8992CCEC3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BF14BF-4CE1-4C4D-9AB5-A3DF244E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A7A3FA-0A91-4EED-9F19-834ACC47D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E35DE-C249-46DB-82F9-4B81ED71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B22F9A-0773-4323-BEAF-ED8CFD05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5C5B92-85E1-48D1-A591-7F7B2F01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975D98-176E-474B-9E6A-6E299ABA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74FE4B9-8BE2-4F8C-A3E8-48F9B33E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E9E1D80-1476-411B-B506-831AD1AE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28C1487-19CF-4916-864B-5BA619FE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E06E7C5-1E69-48AE-AF1E-970C719E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EE5177E-721E-42E9-9128-4317E7E7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868FF4-B426-40CE-BFD5-037CBE48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7F780A2-03C6-4061-95DB-6E3EEB56F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2068-0FEA-49C0-808A-4FCD18C3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C5402-C6DE-4A65-90F2-AF642A85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885FB3B-6DE4-432C-9CD3-44C7A770F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408D513-A8F1-4D60-A30B-8744D216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5AB217-5D1B-4D25-926E-17376B5C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EA481F0-2C21-48CE-BF07-E5C99A0C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39FF0E6-030E-4DDC-9D9A-A05BACD1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90A1C50-7267-4F71-A7C9-88351D91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CDC052-B701-4A25-B9D8-756C2287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94ACCE3-0968-4EBD-A7B9-78963DA8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CEB2C9-CBC8-4852-A0A9-B774CF52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A1C59AC-ACCA-4517-859E-685BE57C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C9B46-DEC2-4CA8-8B16-86BF5D23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817F32C-138D-45CE-BF30-7753931E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E659449-B996-4449-8A66-0F61B564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DA2880B-04B1-4508-8ECF-607987BBF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FF24E08-2FC2-4E94-9197-DF2EDD8FB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30ABF6F-ADEA-4B6D-AFC4-2EDAF494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BB8BDE0-A3D2-478A-B9BA-F9F765DF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1F142A7-CDCC-4C15-AB0D-7B98552E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0D47B1B-1744-4161-976E-F1BF7679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A926FD-0BD4-43CB-8364-E0F367AD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9F42858-D6CC-435A-A9B4-BD036CBF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B7D37-E989-449B-9910-2423F729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0F18669-0D9B-4E7F-A02D-A0244DB2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BFE7F17-B2BA-4EB5-A874-BA9923F1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6077FC7-21D6-4327-A763-CD4A192C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21C44EF-B31B-4BA1-8295-BAA146321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24D9653-35AB-4392-A423-BA8C1A7F0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42942E3-580D-4425-BBD6-A17B44CD2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1D65E30-F42F-4EE5-BDEF-97157306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49903DF-AFA4-4F36-9E95-D425AB4D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C0A2490-EEEA-4CC3-BA8F-98A06F96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0FA8E7-C115-40B0-8D60-FB0C0341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A2887-3D3C-4FC3-A2CE-02B4EA80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B766F96-DBCC-46E3-BC0D-DAC78FD2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3FE7570-AB79-47D9-907C-B905EBD1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D3349D7-970C-4B23-BA67-E7625538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F6AF119-AD16-4ACD-A8D0-95F6E802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BBE6BFE-3C9D-4B20-8839-0A95C00D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F101AA-19A1-4533-8566-368AA55BA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49CBF1B-7A9D-44AB-87C9-5B7E13F79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EBE0DAA-11E4-4979-895D-FC1EC79C6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6AAD09B-0C63-4BF0-9CD0-92134F19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82365BF-30E0-4BAF-BFAB-F9C87C86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8C73A-8D88-4C34-93DB-3BE078D3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0EABE00-54B0-404A-8116-7F441331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FD949A7-7775-42B9-B688-1C850F22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130037E-D93F-4273-AABE-0F6B1499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8B7C996-552E-427D-9D26-46E6CD9E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1EF1074-086F-44CF-92DB-8D3688DD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94E7BA0-6974-4538-8DD7-872DAD3B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3302C27-5AC6-44A4-A8FC-B32F0A18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C6B8AAF-A4A8-40C4-9E68-D880A27B8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0F265A5-A5CC-4D70-A539-BE3F594B2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ED51FC7-6317-4742-9AE2-17442530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92864-4B0A-450A-8636-8E0388A24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D71DD5B-AA26-4143-A8AD-FE84DDBF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FC36000-2224-4B91-98A7-BC4B1274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641E7F2-A0B0-40A8-957A-2716C37B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61BD5BB-E9E7-4FF6-9AEF-A5BFA315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AF092CB-DAB2-4B4C-9595-E4675513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8548DC0-AB35-4454-8275-BD94F464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3B177A0-7DC8-4EBD-8BC1-6C5C1E21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45D240F-1BCA-4AD3-BE09-5E74AF0E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CD8046B-357E-46BC-8902-52FE48EF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2E8C550-5559-4EAA-9E54-8F67EB58A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FCA3A-1101-4DFD-97B5-4784CEF74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AE5A7DE-2C5F-4F53-B720-367AFCB40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9117703-26A4-4FFB-9712-91082E327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5090E58-B07B-4120-B83B-54C10899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6D4B891-0B36-4268-9DD9-AF6E140E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31F84CB-7C9E-46BF-A6D8-9439A125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7DD1784-883B-4605-A659-2F7D3DDC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0EDAEF4-512E-462D-AF0B-254C758B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D863CAF-2877-444D-B3FB-A2E0FBF2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9997D47-6C8A-4606-8B2D-5EAC6299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9BC0972-DB51-4ABC-8625-4D84F777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BA18B-C572-41B2-AAB3-F5B0E081D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2C80921-0CCF-4BE3-9590-CD7B4972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92326C2-35C3-43C1-99B1-CB61D2F7A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9112E9C-1250-4B42-8C74-540F040BD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1003D96-DF4D-454F-9B1F-7FC24714D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855A584-857F-468D-AB33-7BD10EAD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FA0EC2B-3AF5-4E02-95F6-0AD5AFE9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33024D0-3A2D-4542-9FC0-F252B184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271594E-A0F9-4145-897B-6A9AE95B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850FD8F-6FDE-423F-B37D-83F0ADCC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4EDD387-8560-4D7F-AA58-BEE3F32F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306E4-E369-4BE3-A60F-0B6BBE8B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08404CC-4A21-49A6-8276-5D1D5548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DE998A0-2C12-492C-B68B-62A86F87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A18CE3F-BC2B-4039-83A4-7C60018A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00DFE72-9122-42B3-90BA-26B73FA1A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A642DAB-200C-44A3-87D5-AB1DE7408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2D570E3-A1B1-4B44-8490-65BB2E362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21DED37-CE99-413F-B9C7-4F0E38A3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0E7CE4A-39B7-4CD0-A89F-7C87CE18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304443C-7BEC-4791-8572-ECF01A96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8D6C3B3-1FB6-4FCD-BB62-7DC393EE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6878D-E534-4024-9673-90005A57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6123743-FD2A-4E19-ABB4-5B7A2D61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BA592EC-AB82-4D7C-B71C-C0443838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86706CA-A671-4346-A2E5-6F0F229B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7DEF543-01DE-41E4-8A40-232EDEF0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4F9E77D-9577-4BA9-8E02-4BA3480A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D43C88F-E7B7-41DD-8CA3-BA72E9BDC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8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8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8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EEC00FA-4360-4F94-AF31-8252C0E57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488E8BE-BA55-4B62-8DFD-E7F21272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3B02F8C-F6F5-42E2-86E2-6DDDA5C6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FADB559-F20D-4FA9-ABB9-23C447D5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EC69-1591-424D-A37C-6D3422A3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07114-47DC-4236-A26C-63298F9C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895CCD3-0646-47F2-99CF-94B45CFA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5A220CE-2E1D-44E6-8C3E-F5902A85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6E1A972-4A56-421E-8F19-168BEB2E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69B1875-1F8D-4F88-B3B4-DACA4BB5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9767A92-6305-4782-8BF1-F44048D1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9B77AA2-AFA5-47D9-995B-D4F04514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E4E5BBC-E972-4C2A-A461-287410CA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6D6946B-D3A6-4C6C-B284-392CE5E0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5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5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D60523B-0B61-43A1-A54A-4D0D4761F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0AC9B-AE2F-4AC5-8518-BBF0DF49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27C3F-0644-4A2D-922D-481C65DA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0800A-F318-4315-BB94-17121B61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75A64-DF7B-4804-AF1C-ACD336CE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D6CBD-0C76-46F4-8FA8-83187636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3083F-8314-4FDC-B339-E7F57920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7E1FB-9084-4278-893A-F6E96AD60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6250D-DF31-43EA-92DD-270B0184C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57B6F-1660-49DF-B1BA-FBB9E55EA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8788-16AA-4F16-9A72-8F7E3D21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D43A7-1FA7-42BE-90C5-DE8D3FD2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1BBFB-23E3-4DF4-96A0-900A7CCF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0680F-1CB6-4B21-8723-ABE453BD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5A589-765A-4160-B1BE-40E8E372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B1BD3-A5C8-4E98-94A5-1A8F23D2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75A32-701C-42CA-B42F-27E4D7BD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9874D-DA1E-4B4F-B077-DCF8C98F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681FD-4AAC-4D44-9636-2E942B16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82A11-B405-4FAA-8393-A9765280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37C99-CBB9-4E49-843B-3F1872F00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757D-06A0-4655-98D0-EB5413F1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13C7F-8E80-4603-9437-8C1518730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7289E-85BF-4F73-B1CC-39BC6F1F4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2D597-DDD0-4707-841A-CA307715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457C1-D513-448F-915E-114870FB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B476E-C4C5-45A9-87B5-55AA7369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9403A-A3A6-4787-8A7F-323DD0C0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1C851-1826-4962-AF59-FEE4EBA6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AD5B8-4C2A-43D1-B130-8CE9B7F0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D2527-E4B8-4450-9A54-1BBD6A09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CBF9B-39DA-4B57-9961-74CFDCC8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D801-75F4-427E-B525-5B1714E2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D2954-B8E1-4D75-8BAE-5B8514CB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10CC9-D956-451D-A8E7-62311AC1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B0F3A-02D3-4235-9CD5-9F44C8C02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50879-54FD-4F1F-B1CF-F74569A08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F5B14-423C-4512-AAAA-7E937825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4A7B4-607A-4B91-8709-00E254CA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F2739-5375-4782-8716-12846F20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75248-4CF1-438B-8801-7C236FA7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C6CBF-CBBB-442E-8DFD-F605183A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0CE3C-3AF8-4709-9F27-36B6EBF3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C8EE-86B8-415C-A6D7-72E89701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C2931-0567-4437-B45A-E334DEA5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E4DBE-A6A5-4C94-BA76-FB7B5A13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92A59-B650-4DB3-AF3C-C86AA26A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0AA09-A1C1-4239-8D24-A0DD10F56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64803-B565-42F3-97E3-7340EAD58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C6BB4-BC49-48C9-9E42-55663D993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3878D-BF21-4B3A-A0CB-200047E3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39F48-01A4-4959-BB04-3A5FC6F5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B3768-60AF-4E94-84E3-E361AB40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01C45-3C8A-4E27-BA4E-DB93D7C6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163A-D1F5-4765-9A98-FD5B617D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AE9F2-E98A-4828-80CD-D5648A5C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AD23F-BE3B-4E46-B06A-5A5FFC84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A4B3A-A463-4295-B990-526B9B10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CC76E-7560-485F-96C1-203991AE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EFE6D-4664-4BAF-8750-F7C641A7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FFE7D-CD9B-45FA-9208-A3B7CBD66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2DFBB-1857-4719-89A1-3A69AE2F0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BB66E-98A9-4C6B-85CD-C03566F09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833E5-A315-4B99-8A1E-F54CC3BE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1E992-DB69-4443-AF7E-C439DDE2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9D53-A2BA-4132-8121-16EBB2786689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3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sldNum" idx="30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5B9F-7635-4088-BD1E-BF36D0CAC28B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8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33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B0B0-9C5B-4000-83ED-E28C687FC1E6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2C8A-DBFF-405D-B25F-9E327D3EC8D5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2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0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Box 13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14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39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9B91-8EEB-49AE-A51D-AC32B34EB0F2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CA99-9AC3-4BFF-A08D-A97B87BD551B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6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0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Box 1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Box 1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AACC-4E92-48F4-B2DC-A78A71FD2543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48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7103-7977-4BCB-9F56-A27A9E69B804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0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62AC-8363-4644-A81A-7AC200FEB1DA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7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89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0C03-132F-4F43-B901-FC55923D4CE9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24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258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>
              <a:gd name="textAreaLeft" fmla="*/ 0 w 1744560"/>
              <a:gd name="textAreaRight" fmla="*/ 1744920 w 17445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 type="dt" idx="5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 type="ftr" idx="5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 type="sldNum" idx="57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2F11-CE73-4103-9D79-37ED64BB200E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55DB-B08A-4B26-8B0C-4C9798BE1C93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14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327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 type="dt" idx="5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 type="ftr" idx="5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 type="sldNum" idx="60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DB1F-9BFD-42D4-A453-2B317A0DAAC5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3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396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 type="dt" idx="6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 type="ftr" idx="6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 type="sldNum" idx="6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199C-31AF-4B64-AD4D-DDE9236332B4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452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65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6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6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66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ACCC-E931-4FA8-AF51-25983EFBA811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521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34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 type="dt" idx="6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 type="ftr" idx="6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 type="sldNum" idx="6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26C0-CE9C-41F2-B3A1-F4C2A2B0CBD9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59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603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 type="dt" idx="7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 type="ftr" idx="7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5"/>
          <p:cNvSpPr>
            <a:spLocks noGrp="1"/>
          </p:cNvSpPr>
          <p:nvPr>
            <p:ph type="sldNum" idx="72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0969-6EC7-4099-8435-0CB992903897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65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67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 type="dt" idx="7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 type="ftr" idx="7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5"/>
          <p:cNvSpPr>
            <a:spLocks noGrp="1"/>
          </p:cNvSpPr>
          <p:nvPr>
            <p:ph type="sldNum" idx="7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CF8F-FDD9-45A0-8C89-2373590D19DA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72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74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 type="dt" idx="7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 type="ftr" idx="7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5"/>
          <p:cNvSpPr>
            <a:spLocks noGrp="1"/>
          </p:cNvSpPr>
          <p:nvPr>
            <p:ph type="sldNum" idx="7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745E-8659-4EE5-8C3C-271F7C748593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79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810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 type="dt" idx="7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 type="ftr" idx="8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5"/>
          <p:cNvSpPr>
            <a:spLocks noGrp="1"/>
          </p:cNvSpPr>
          <p:nvPr>
            <p:ph type="sldNum" idx="81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A132-6773-4D14-94C1-AFFE238E4B7C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86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879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 type="dt" idx="8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 type="ftr" idx="8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5"/>
          <p:cNvSpPr>
            <a:spLocks noGrp="1"/>
          </p:cNvSpPr>
          <p:nvPr>
            <p:ph type="sldNum" idx="84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A7DC-3BE7-4FE0-9A6C-B383DEA873DF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93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948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TextBox 13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TextBox 14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 type="dt" idx="8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 type="ftr" idx="8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5"/>
          <p:cNvSpPr>
            <a:spLocks noGrp="1"/>
          </p:cNvSpPr>
          <p:nvPr>
            <p:ph type="sldNum" idx="87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E7AF-689B-42B0-B5ED-E74CC1219A27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0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>
              <a:gd name="textAreaLeft" fmla="*/ 0 w 1744560"/>
              <a:gd name="textAreaRight" fmla="*/ 1744920 w 17445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9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0F61-A806-4E50-9CDE-614A5C4BBC57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0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019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 type="dt" idx="8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PlaceHolder 4"/>
          <p:cNvSpPr>
            <a:spLocks noGrp="1"/>
          </p:cNvSpPr>
          <p:nvPr>
            <p:ph type="ftr" idx="8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5"/>
          <p:cNvSpPr>
            <a:spLocks noGrp="1"/>
          </p:cNvSpPr>
          <p:nvPr>
            <p:ph type="sldNum" idx="9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185E-6AF4-4C41-82D0-D3C65E0AF9E0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088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TextBox 1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TextBox 1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 type="dt" idx="9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 type="ftr" idx="9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PlaceHolder 5"/>
          <p:cNvSpPr>
            <a:spLocks noGrp="1"/>
          </p:cNvSpPr>
          <p:nvPr>
            <p:ph type="sldNum" idx="93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C97A-11F8-4A13-B8BC-A8EAAE318947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14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159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dt" idx="9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ftr" idx="9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 type="sldNum" idx="96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1083-C63B-47D5-826E-6BE9BA87E893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21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28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 type="dt" idx="9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 type="ftr" idx="9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5"/>
          <p:cNvSpPr>
            <a:spLocks noGrp="1"/>
          </p:cNvSpPr>
          <p:nvPr>
            <p:ph type="sldNum" idx="9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6F85-89C1-4F91-9A50-ADC3DD68C359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284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97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13" name="PlaceHolder 3"/>
          <p:cNvSpPr>
            <a:spLocks noGrp="1"/>
          </p:cNvSpPr>
          <p:nvPr>
            <p:ph type="dt" idx="10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PlaceHolder 4"/>
          <p:cNvSpPr>
            <a:spLocks noGrp="1"/>
          </p:cNvSpPr>
          <p:nvPr>
            <p:ph type="ftr" idx="10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PlaceHolder 5"/>
          <p:cNvSpPr>
            <a:spLocks noGrp="1"/>
          </p:cNvSpPr>
          <p:nvPr>
            <p:ph type="sldNum" idx="102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2E3E-D425-4FC0-A66E-CC444C84DA57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19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2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413B-9B16-4575-9478-1FCA04221935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8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5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C4B8-8A9D-41D0-8621-666914C534CA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4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7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6C6A-9724-40C0-B8F6-50C202E5F0AD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3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6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2272-E566-4DBB-A2A1-D49CEB10FE97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2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5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C0A5-7A8A-4532-BFBF-BD5DA55C7E5A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1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4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1477-D0C8-4F1B-96A6-75B240035E7F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programe.ise.ro/actuale.aspx" TargetMode="External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manuale.edu.ro/" TargetMode="External"/><Relationship Id="rId2" Type="http://schemas.openxmlformats.org/officeDocument/2006/relationships/hyperlink" Target="https://www.manuale.edu.ro/" TargetMode="External"/><Relationship Id="rId3" Type="http://schemas.openxmlformats.org/officeDocument/2006/relationships/hyperlink" Target="http://www.edu.ro/" TargetMode="External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ubiecte2019.edu.ro/" TargetMode="External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2066400" y="231840"/>
            <a:ext cx="8915400" cy="464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5400" spc="-1" strike="noStrike">
                <a:solidFill>
                  <a:srgbClr val="19017f"/>
                </a:solidFill>
                <a:latin typeface="Calisto MT"/>
              </a:rPr>
              <a:t>CONSFĂTUIREA PROFESORILOR DE </a:t>
            </a:r>
            <a:br>
              <a:rPr sz="5400"/>
            </a:br>
            <a:r>
              <a:rPr b="0" lang="ro-RO" sz="5400" spc="-1" strike="noStrike">
                <a:solidFill>
                  <a:srgbClr val="19017f"/>
                </a:solidFill>
                <a:latin typeface="Calisto MT"/>
              </a:rPr>
              <a:t>LIMBI MODERNE</a:t>
            </a:r>
            <a:br>
              <a:rPr sz="5400"/>
            </a:br>
            <a:r>
              <a:rPr b="0" lang="ro-RO" sz="5400" spc="-1" strike="noStrike">
                <a:solidFill>
                  <a:srgbClr val="19017f"/>
                </a:solidFill>
                <a:latin typeface="Calisto MT"/>
              </a:rPr>
              <a:t>(engleză, germană modernă)</a:t>
            </a:r>
            <a:endParaRPr b="0" lang="en-US" sz="5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 type="subTitle"/>
          </p:nvPr>
        </p:nvSpPr>
        <p:spPr>
          <a:xfrm>
            <a:off x="1689120" y="4776480"/>
            <a:ext cx="1010448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800" spc="-1" strike="noStrike">
                <a:solidFill>
                  <a:srgbClr val="00cc00"/>
                </a:solidFill>
                <a:latin typeface="Calisto MT"/>
              </a:rPr>
              <a:t>17 SEPTEMBRIE 2018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9" name="Picture 2" descr=""/>
          <p:cNvPicPr/>
          <p:nvPr/>
        </p:nvPicPr>
        <p:blipFill>
          <a:blip r:embed="rId1"/>
          <a:stretch/>
        </p:blipFill>
        <p:spPr>
          <a:xfrm>
            <a:off x="2625840" y="522360"/>
            <a:ext cx="807876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0" name="Picture 2" descr=""/>
          <p:cNvPicPr/>
          <p:nvPr/>
        </p:nvPicPr>
        <p:blipFill>
          <a:blip r:embed="rId1"/>
          <a:stretch/>
        </p:blipFill>
        <p:spPr>
          <a:xfrm>
            <a:off x="2558880" y="1606680"/>
            <a:ext cx="817884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1531800" y="623520"/>
            <a:ext cx="997272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METODOLOGII/CONVENȚII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 DE PARTENERIAT 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/ACORDURI DE COLABORARE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72" name=""/>
          <p:cNvSpPr txBox="1"/>
          <p:nvPr/>
        </p:nvSpPr>
        <p:spPr>
          <a:xfrm>
            <a:off x="1698120" y="2042640"/>
            <a:ext cx="9806040" cy="38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Protocol de colaborare privind derularea în România a programului FLEX – </a:t>
            </a:r>
            <a:r>
              <a:rPr b="0" lang="en-GB" sz="2400" spc="-1" strike="noStrike">
                <a:solidFill>
                  <a:srgbClr val="000000"/>
                </a:solidFill>
                <a:latin typeface="Calisto MT"/>
                <a:ea typeface="Tahoma"/>
              </a:rPr>
              <a:t>Future Leaders 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Exchange Program – nr. 10584/06.10.2015 (valabil până la data de 06.10.2020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Acord de colaborare încheiat între MENCS – Goethe Institut, privind promovarea limbii germane moderne și a calității predării limbii germane în învățământul preuniversitar – nr. 8713/07.03.2016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1617480" y="553680"/>
            <a:ext cx="94503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OLIMPIADE ȘI CONCURSURI: REGULAMENTE, METODOLOGII SPECIFICE</a:t>
            </a: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74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2200" spc="-1" strike="noStrike">
                <a:solidFill>
                  <a:srgbClr val="404040"/>
                </a:solidFill>
                <a:latin typeface="Calisto MT"/>
                <a:ea typeface="Tahoma"/>
              </a:rPr>
              <a:t>Metodologia-cadru de organizare şi desfăşurare a competiţiilor şcolare şi Regulamentul de organizare a activităţilor cuprinse în calendarul activităţilor educative, şcolare şi extraşcolare </a:t>
            </a:r>
            <a:r>
              <a:rPr b="0" lang="ro-RO" sz="2200" spc="-1" strike="noStrike">
                <a:solidFill>
                  <a:srgbClr val="404040"/>
                </a:solidFill>
                <a:latin typeface="Calisto MT"/>
                <a:ea typeface="Tahoma"/>
              </a:rPr>
              <a:t>– aprobată prin OM</a:t>
            </a:r>
            <a:r>
              <a:rPr b="0" lang="en-US" sz="2200" spc="-1" strike="noStrike">
                <a:solidFill>
                  <a:srgbClr val="404040"/>
                </a:solidFill>
                <a:latin typeface="Calisto MT"/>
                <a:ea typeface="Tahoma"/>
              </a:rPr>
              <a:t>EN</a:t>
            </a:r>
            <a:r>
              <a:rPr b="0" lang="ro-RO" sz="2200" spc="-1" strike="noStrike">
                <a:solidFill>
                  <a:srgbClr val="404040"/>
                </a:solidFill>
                <a:latin typeface="Calisto MT"/>
                <a:ea typeface="Tahoma"/>
              </a:rPr>
              <a:t> nr. 4203/2018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Actualizarea Regulamentelor specifice de organizare și desfășurare a </a:t>
            </a:r>
            <a:r>
              <a:rPr b="0" i="1" lang="ro-RO" sz="2200" spc="-1" strike="noStrike">
                <a:solidFill>
                  <a:srgbClr val="404040"/>
                </a:solidFill>
                <a:latin typeface="Calisto MT"/>
              </a:rPr>
              <a:t>Olimpiadelor naționale de limbi moderne, </a:t>
            </a: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conform OM</a:t>
            </a: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EN</a:t>
            </a: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 4203/2018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sto MT"/>
                <a:ea typeface="Calibri"/>
              </a:rPr>
              <a:t>Rezultatele olimpiadelor școlare (naționale și internaționale) la disciplina LIMBI MODERNE, aferente anului școlar 2017-2018, se găsesc pe site-ul MEN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200" spc="-1" strike="noStrike">
                <a:solidFill>
                  <a:srgbClr val="00b050"/>
                </a:solidFill>
                <a:latin typeface="Calisto MT"/>
              </a:rPr>
              <a:t>Introducerea etapei naționale pentru clasele a VII-a și a VIII-a la LIMBA ENGLEZĂ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262626"/>
                </a:solidFill>
                <a:latin typeface="Calisto MT"/>
              </a:rPr>
              <a:t>PRIORITĂȚI EDUCAȚIONAL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76" name=""/>
          <p:cNvSpPr txBox="1"/>
          <p:nvPr/>
        </p:nvSpPr>
        <p:spPr>
          <a:xfrm>
            <a:off x="2588760" y="1441440"/>
            <a:ext cx="89154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Calisto MT"/>
              </a:rPr>
              <a:t>PREDAREA – ÎNVĂȚAREA – FORMAREA COMPETENȚELOR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Calisto MT"/>
              </a:rPr>
              <a:t>Centrarea predării pe formarea competențelor;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Calisto MT"/>
              </a:rPr>
              <a:t>Relaționarea formării competențelor cu evaluarea acestora;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Calisto MT"/>
              </a:rPr>
              <a:t>Accentuarea dimensiunii conștiente a învățării, </a:t>
            </a:r>
            <a:r>
              <a:rPr b="0" lang="ro-RO" sz="2000" spc="-1" strike="noStrike">
                <a:solidFill>
                  <a:srgbClr val="404040"/>
                </a:solidFill>
                <a:latin typeface="Calisto MT"/>
              </a:rPr>
              <a:t>prin proiectarea activităților de învățare care să stimuleze gândirea critică și creativă a elevilor;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Calisto MT"/>
              </a:rPr>
              <a:t>Crearea unor contexte de învățare care să determine exprimarea perspectivei personale și creativitatea;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Calisto MT"/>
              </a:rPr>
              <a:t>Elaborarea unor sarcini de lucru care să evite simpla reproducere a unor informații, a regulilor gramaticale, a canoanelor;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Calisto MT"/>
              </a:rPr>
              <a:t>Utilizarea elementelor de noutate (input audio – video, sarcini de lucru diversificate, atractive, atipice etc.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262626"/>
                </a:solidFill>
                <a:latin typeface="Calisto MT"/>
              </a:rPr>
              <a:t>PRIORITĂȚI EDUCAȚIONAL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78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EVALUAREA – EVALUAREA COMPETENȚELOR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Proiectarea și diversificarea activităților de evaluare astfel încât să stimuleze gândirea analitică, sintetică, creativă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Elaborarea itemilor/sarcinilor de evaluare pe competență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Utilizarea unor sarcini de lucru diverse, inedite, atractive, care să stimuleze participarea elevilor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Calibrarea testelor de evaluare conform nivelului lingvistic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262626"/>
                </a:solidFill>
                <a:latin typeface="Calisto MT"/>
              </a:rPr>
              <a:t>FORMAREA PROFESORILOR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0" name=""/>
          <p:cNvSpPr txBox="1"/>
          <p:nvPr/>
        </p:nvSpPr>
        <p:spPr>
          <a:xfrm>
            <a:off x="1952280" y="1689120"/>
            <a:ext cx="955188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Valorificarea inspecțiilor efectuate în proiectarea activităților de formare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Includerea, cu prioritate, în cursurile/sesiunile de formare a componentelor de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conținut științific și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metodică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Accentuarea dimensiunii creative a proiectării didactice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Alocarea unui număr mai mare de ore activităților practice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Mentorat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Proiectul CRED (</a:t>
            </a:r>
            <a:r>
              <a:rPr b="0" i="1" lang="ro-RO" sz="2400" spc="-1" strike="noStrike">
                <a:solidFill>
                  <a:srgbClr val="404040"/>
                </a:solidFill>
                <a:latin typeface="Calisto MT"/>
              </a:rPr>
              <a:t>Curriculum Relevant, Educație Deschisă pentru toți</a:t>
            </a: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262626"/>
                </a:solidFill>
                <a:latin typeface="Calisto MT"/>
              </a:rPr>
              <a:t>INSPECȚIA ȘCOLARĂ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2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Elaborarea documentelor de proiectare didactică conform programelor în vigoare;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Aplicarea programelor școlare de limbi moderne la gimnaziu;  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Aplicarea eficientă a programei școlare pentru clasele cu program intensiv/bilingv de studiu al unei limbi moderne;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Adecvarea procesului de predare – evaluare la fiecare regim de studiu;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Respectarea programelor școlare în raport cu criteriile de evaluare specifice examenelor finale de absolvire/de admitere în învățământul liceal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216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262626"/>
                </a:solidFill>
                <a:latin typeface="Calisto MT"/>
              </a:rPr>
              <a:t>Programa școlară – clasa a VI 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4" name=""/>
          <p:cNvSpPr txBox="1"/>
          <p:nvPr/>
        </p:nvSpPr>
        <p:spPr>
          <a:xfrm>
            <a:off x="2588760" y="1352160"/>
            <a:ext cx="891540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Elemente de noutate – Programa: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este structurată pe formarea – evaluarea competențelor;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 </a:t>
            </a: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include procesele de construcție a competenței;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indică tipuri de activități specifice formării acestora;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relaționează  subcompetențele cu norma lingvistică și conținutul adecvat;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face referire la modalitatea de evaluare a competențelor;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sugerează tipuri de activități de evaluare specifice fiecărei competențe/subcompetențe;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stimulează exprimarea punctului de vedere și creativitatea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2085480" y="623520"/>
            <a:ext cx="94186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PREDAREA – </a:t>
            </a:r>
            <a:r>
              <a:rPr b="0" lang="ro-RO" sz="3200" spc="-1" strike="noStrike">
                <a:solidFill>
                  <a:srgbClr val="262626"/>
                </a:solidFill>
                <a:latin typeface="Calisto MT"/>
              </a:rPr>
              <a:t>Î</a:t>
            </a: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NV</a:t>
            </a:r>
            <a:r>
              <a:rPr b="0" lang="ro-RO" sz="3200" spc="-1" strike="noStrike">
                <a:solidFill>
                  <a:srgbClr val="262626"/>
                </a:solidFill>
                <a:latin typeface="Calisto MT"/>
              </a:rPr>
              <a:t>ĂȚ</a:t>
            </a: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AREA</a:t>
            </a:r>
            <a:r>
              <a:rPr b="0" lang="ro-RO" sz="3200" spc="-1" strike="noStrike">
                <a:solidFill>
                  <a:srgbClr val="262626"/>
                </a:solidFill>
                <a:latin typeface="Calisto MT"/>
              </a:rPr>
              <a:t> – EVALUAREA CREATIVĂ</a:t>
            </a:r>
            <a:br>
              <a:rPr sz="3200"/>
            </a:br>
            <a:r>
              <a:rPr b="0" lang="ro-RO" sz="3200" spc="-1" strike="noStrike">
                <a:solidFill>
                  <a:srgbClr val="262626"/>
                </a:solidFill>
                <a:latin typeface="Calisto MT"/>
              </a:rPr>
              <a:t> CREATIVE TEACHERS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6" name=""/>
          <p:cNvSpPr txBox="1"/>
          <p:nvPr/>
        </p:nvSpPr>
        <p:spPr>
          <a:xfrm>
            <a:off x="1261800" y="2133360"/>
            <a:ext cx="564012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Think outside the box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Explore all possibilitie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Foster creativit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Encourage multiple viewpoint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Ask open question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Avoid demonstrating a right wa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Highlight diversit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Encourage creative problem solving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Encourage risks and allow mistake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Rethink literatur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Assess creativel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87" name=""/>
          <p:cNvSpPr txBox="1"/>
          <p:nvPr/>
        </p:nvSpPr>
        <p:spPr>
          <a:xfrm>
            <a:off x="7191000" y="2125440"/>
            <a:ext cx="4630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Methods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Brainstorming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Mind Maps (words, symbols, images etc.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Get hypothetical!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Build a storyboard!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Flip it and reverse it (multiple viewpoints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Real world problem solving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Tell stories!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Create your own text (re-writing a fragment/story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1531800" y="623880"/>
            <a:ext cx="997272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900" spc="-1" strike="noStrike">
                <a:solidFill>
                  <a:srgbClr val="000000"/>
                </a:solidFill>
                <a:latin typeface="Calisto MT"/>
                <a:ea typeface="Tahoma"/>
              </a:rPr>
              <a:t>C</a:t>
            </a:r>
            <a:r>
              <a:rPr b="0" lang="en-US" sz="2900" spc="-1" strike="noStrike">
                <a:solidFill>
                  <a:srgbClr val="000000"/>
                </a:solidFill>
                <a:latin typeface="Calisto MT"/>
                <a:ea typeface="Tahoma"/>
              </a:rPr>
              <a:t>ADRUL NORMATIV PRIVIND ORGANIZAREA </a:t>
            </a:r>
            <a:r>
              <a:rPr b="0" lang="ro-RO" sz="2900" spc="-1" strike="noStrike">
                <a:solidFill>
                  <a:srgbClr val="000000"/>
                </a:solidFill>
                <a:latin typeface="Calisto MT"/>
                <a:ea typeface="Tahom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alisto MT"/>
                <a:ea typeface="Tahoma"/>
              </a:rPr>
              <a:t>PROCESULUI DE</a:t>
            </a:r>
            <a:r>
              <a:rPr b="0" lang="ro-RO" sz="2900" spc="-1" strike="noStrike">
                <a:solidFill>
                  <a:srgbClr val="000000"/>
                </a:solidFill>
                <a:latin typeface="Calisto MT"/>
                <a:ea typeface="Tahom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alisto MT"/>
                <a:ea typeface="Tahoma"/>
              </a:rPr>
              <a:t>ÎNVĂȚĂMÂNT, ÎN ANUL ȘCOLAR 201</a:t>
            </a:r>
            <a:r>
              <a:rPr b="0" lang="ro-RO" sz="2900" spc="-1" strike="noStrike">
                <a:solidFill>
                  <a:srgbClr val="000000"/>
                </a:solidFill>
                <a:latin typeface="Calisto MT"/>
                <a:ea typeface="Tahoma"/>
              </a:rPr>
              <a:t>8</a:t>
            </a:r>
            <a:r>
              <a:rPr b="0" lang="en-US" sz="2900" spc="-1" strike="noStrike">
                <a:solidFill>
                  <a:srgbClr val="000000"/>
                </a:solidFill>
                <a:latin typeface="Calisto MT"/>
                <a:ea typeface="Tahoma"/>
              </a:rPr>
              <a:t>-201</a:t>
            </a:r>
            <a:r>
              <a:rPr b="0" lang="ro-RO" sz="2900" spc="-1" strike="noStrike">
                <a:solidFill>
                  <a:srgbClr val="000000"/>
                </a:solidFill>
                <a:latin typeface="Calisto MT"/>
                <a:ea typeface="Tahoma"/>
              </a:rPr>
              <a:t>9:</a:t>
            </a:r>
            <a:r>
              <a:rPr b="0" lang="en-US" sz="2900" spc="-1" strike="noStrike">
                <a:solidFill>
                  <a:srgbClr val="000000"/>
                </a:solidFill>
                <a:latin typeface="Calisto MT"/>
                <a:ea typeface="Tahoma"/>
              </a:rPr>
              <a:t> 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355" name="Content Placeholder 2" descr=""/>
          <p:cNvPicPr/>
          <p:nvPr/>
        </p:nvPicPr>
        <p:blipFill>
          <a:blip r:embed="rId1"/>
          <a:stretch/>
        </p:blipFill>
        <p:spPr>
          <a:xfrm>
            <a:off x="1139760" y="2255760"/>
            <a:ext cx="943128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2644920" y="1503360"/>
            <a:ext cx="8804160" cy="390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listo MT"/>
              </a:rPr>
              <a:t>SPOR </a:t>
            </a:r>
            <a:br>
              <a:rPr sz="4800"/>
            </a:br>
            <a:r>
              <a:rPr b="0" lang="ro-RO" sz="4800" spc="-1" strike="noStrike">
                <a:solidFill>
                  <a:srgbClr val="262626"/>
                </a:solidFill>
                <a:latin typeface="Calisto MT"/>
              </a:rPr>
              <a:t>ȘI OAMENI BUNI ALĂTURI, ÎN ANUL ȘCOLAR </a:t>
            </a:r>
            <a:br>
              <a:rPr sz="4800"/>
            </a:br>
            <a:r>
              <a:rPr b="0" lang="ro-RO" sz="4800" spc="-1" strike="noStrike">
                <a:solidFill>
                  <a:srgbClr val="262626"/>
                </a:solidFill>
                <a:latin typeface="Calisto MT"/>
              </a:rPr>
              <a:t>2018 – 2019!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2588760" y="5181120"/>
            <a:ext cx="891540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o-RO" sz="18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ro-RO" sz="3200" spc="-1" strike="noStrike">
                <a:solidFill>
                  <a:srgbClr val="262626"/>
                </a:solidFill>
                <a:latin typeface="Calisto MT"/>
                <a:ea typeface="Tahoma"/>
              </a:rPr>
              <a:t>S</a:t>
            </a:r>
            <a:r>
              <a:rPr b="0" lang="en-US" sz="3200" spc="-1" strike="noStrike">
                <a:solidFill>
                  <a:srgbClr val="262626"/>
                </a:solidFill>
                <a:latin typeface="Calisto MT"/>
                <a:ea typeface="Tahoma"/>
              </a:rPr>
              <a:t>TRUCTURA ANULUI ŞCOLAR </a:t>
            </a:r>
            <a:r>
              <a:rPr b="0" lang="it-IT" sz="3200" spc="-1" strike="noStrike">
                <a:solidFill>
                  <a:srgbClr val="262626"/>
                </a:solidFill>
                <a:latin typeface="Calisto MT"/>
                <a:ea typeface="Tahoma"/>
              </a:rPr>
              <a:t>201</a:t>
            </a:r>
            <a:r>
              <a:rPr b="0" lang="ro-RO" sz="3200" spc="-1" strike="noStrike">
                <a:solidFill>
                  <a:srgbClr val="262626"/>
                </a:solidFill>
                <a:latin typeface="Calisto MT"/>
                <a:ea typeface="Tahoma"/>
              </a:rPr>
              <a:t>8</a:t>
            </a:r>
            <a:r>
              <a:rPr b="0" lang="it-IT" sz="3200" spc="-1" strike="noStrike">
                <a:solidFill>
                  <a:srgbClr val="262626"/>
                </a:solidFill>
                <a:latin typeface="Calisto MT"/>
                <a:ea typeface="Tahoma"/>
              </a:rPr>
              <a:t>-201</a:t>
            </a:r>
            <a:r>
              <a:rPr b="0" lang="ro-RO" sz="3200" spc="-1" strike="noStrike">
                <a:solidFill>
                  <a:srgbClr val="262626"/>
                </a:solidFill>
                <a:latin typeface="Calisto MT"/>
                <a:ea typeface="Tahoma"/>
              </a:rPr>
              <a:t>9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7" name=""/>
          <p:cNvSpPr txBox="1"/>
          <p:nvPr/>
        </p:nvSpPr>
        <p:spPr>
          <a:xfrm>
            <a:off x="1061640" y="2133360"/>
            <a:ext cx="1044252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sto MT"/>
                <a:ea typeface="Tahoma"/>
              </a:rPr>
              <a:t>Structura anului </a:t>
            </a:r>
            <a:r>
              <a:rPr b="1" lang="ro-RO" sz="1900" spc="-1" strike="noStrike">
                <a:solidFill>
                  <a:srgbClr val="000000"/>
                </a:solidFill>
                <a:latin typeface="Calisto MT"/>
                <a:ea typeface="Tahoma"/>
              </a:rPr>
              <a:t>ş</a:t>
            </a:r>
            <a:r>
              <a:rPr b="1" lang="en-US" sz="1900" spc="-1" strike="noStrike">
                <a:solidFill>
                  <a:srgbClr val="000000"/>
                </a:solidFill>
                <a:latin typeface="Calisto MT"/>
                <a:ea typeface="Tahoma"/>
              </a:rPr>
              <a:t>colar 201</a:t>
            </a:r>
            <a:r>
              <a:rPr b="1" lang="ro-RO" sz="1900" spc="-1" strike="noStrike">
                <a:solidFill>
                  <a:srgbClr val="000000"/>
                </a:solidFill>
                <a:latin typeface="Calisto MT"/>
                <a:ea typeface="Tahoma"/>
              </a:rPr>
              <a:t>8-2</a:t>
            </a:r>
            <a:r>
              <a:rPr b="1" lang="en-US" sz="1900" spc="-1" strike="noStrike">
                <a:solidFill>
                  <a:srgbClr val="000000"/>
                </a:solidFill>
                <a:latin typeface="Calisto MT"/>
                <a:ea typeface="Tahoma"/>
              </a:rPr>
              <a:t>01</a:t>
            </a:r>
            <a:r>
              <a:rPr b="1" lang="ro-RO" sz="1900" spc="-1" strike="noStrike">
                <a:solidFill>
                  <a:srgbClr val="000000"/>
                </a:solidFill>
                <a:latin typeface="Calisto MT"/>
                <a:ea typeface="Tahoma"/>
              </a:rPr>
              <a:t>9 </a:t>
            </a:r>
            <a:r>
              <a:rPr b="0" lang="ro-RO" sz="1900" spc="-1" strike="noStrike">
                <a:solidFill>
                  <a:srgbClr val="000000"/>
                </a:solidFill>
                <a:latin typeface="Calisto MT"/>
                <a:ea typeface="Tahoma"/>
              </a:rPr>
              <a:t>a fost aprobată prin O</a:t>
            </a:r>
            <a:r>
              <a:rPr b="0" lang="en-US" sz="1900" spc="-1" strike="noStrike">
                <a:solidFill>
                  <a:srgbClr val="000000"/>
                </a:solidFill>
                <a:latin typeface="Calisto MT"/>
                <a:ea typeface="Tahoma"/>
              </a:rPr>
              <a:t>MEN </a:t>
            </a:r>
            <a:r>
              <a:rPr b="0" lang="ro-RO" sz="1900" spc="-1" strike="noStrike">
                <a:solidFill>
                  <a:srgbClr val="000000"/>
                </a:solidFill>
                <a:latin typeface="Calisto MT"/>
                <a:ea typeface="Tahoma"/>
              </a:rPr>
              <a:t>nr. 3.220/19.02.2018</a:t>
            </a:r>
            <a:r>
              <a:rPr b="0" lang="ro-RO" sz="1900" spc="-1" strike="noStrike">
                <a:solidFill>
                  <a:srgbClr val="ff0000"/>
                </a:solidFill>
                <a:latin typeface="Calisto MT"/>
                <a:ea typeface="Tahoma"/>
              </a:rPr>
              <a:t>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262626"/>
                </a:solidFill>
                <a:latin typeface="Calisto MT"/>
                <a:ea typeface="Tahoma"/>
              </a:rPr>
              <a:t>Cursurile anului şcolar 2018-2019 încep luni, 10 septembrie și însumează 168 de zile lucrătoare (34 de săptămâni). 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262626"/>
                </a:solidFill>
                <a:latin typeface="Calisto MT"/>
                <a:ea typeface="Tahoma"/>
              </a:rPr>
              <a:t>Structura anului școlar cuprinde semestrul I (10 septembrie 2018 - 1 februarie 2019) şi semestrul al II-lea (11 februarie 2019 - 14 iunie 2019)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262626"/>
                </a:solidFill>
                <a:latin typeface="Calisto MT"/>
                <a:ea typeface="Tahoma"/>
              </a:rPr>
              <a:t>Vacanţele elevilor din toate ciclurile de învățământ sunt programate astfel: vacanţa de iarnă (22 decembrie 2018 - 13 ianuarie 2019), vacanţă intersemestrială (2 - 10 februarie 2019), vacanţa de primăvară (20 aprilie - 5 mai 2019) şi vacanţa de vară (15 iunie - 15 septembrie 2019). 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262626"/>
                </a:solidFill>
                <a:latin typeface="Calisto MT"/>
                <a:ea typeface="Tahoma"/>
              </a:rPr>
              <a:t>Suplimentar, clasele din învăţământul primar şi grupele din învăţământul preşcolar beneficiază de vacanţă în săptămâna 27 octombrie - 4 noiembrie 2018. 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262626"/>
                </a:solidFill>
                <a:latin typeface="Calisto MT"/>
                <a:ea typeface="Tahoma"/>
              </a:rPr>
              <a:t>Pentru clasele terminale din învăţământul liceal, anul şcolar se încheie în data de 31 mai 2019, iar pentru clasa a VIII-a, în data de 7 iunie 2019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8" name="Title 1" descr=""/>
          <p:cNvPicPr/>
          <p:nvPr/>
        </p:nvPicPr>
        <p:blipFill>
          <a:blip r:embed="rId1"/>
          <a:stretch/>
        </p:blipFill>
        <p:spPr>
          <a:xfrm>
            <a:off x="2030400" y="457200"/>
            <a:ext cx="9588600" cy="1378080"/>
          </a:xfrm>
          <a:prstGeom prst="rect">
            <a:avLst/>
          </a:prstGeom>
          <a:ln w="0">
            <a:noFill/>
          </a:ln>
        </p:spPr>
      </p:pic>
      <p:sp>
        <p:nvSpPr>
          <p:cNvPr id="2359" name=""/>
          <p:cNvSpPr txBox="1"/>
          <p:nvPr/>
        </p:nvSpPr>
        <p:spPr>
          <a:xfrm>
            <a:off x="1496520" y="2114640"/>
            <a:ext cx="1000764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  <a:ea typeface="Tahoma"/>
              </a:rPr>
              <a:t>●  </a:t>
            </a:r>
            <a:r>
              <a:rPr b="0" lang="ro-RO" sz="2400" spc="-1" strike="noStrike">
                <a:solidFill>
                  <a:srgbClr val="404040"/>
                </a:solidFill>
                <a:latin typeface="Calisto MT"/>
                <a:ea typeface="Tahoma"/>
              </a:rPr>
              <a:t>OMENCS nr. 3590/5.04.2016 - Plan-cadru de învățământ pentru gimnaziu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48040" indent="-248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48040" indent="-2480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  <a:ea typeface="Tahoma"/>
              </a:rPr>
              <a:t>● 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OMEN nr. 4221/01.08.2018 privind modificarea și completarea Ordinului ministrului educaţiei naţionale nr. 3590/2016, privind aprobarea planurilor-cadru de învăţământ pentru învăţământul gimnazial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48040" indent="-2480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48040" indent="-2480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  <a:ea typeface="Tahoma"/>
              </a:rPr>
              <a:t>●   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Planurile - cadru  și programele școlare valabile în  anul şcolar 2018-2019  pot fi accesate la adresa:   </a:t>
            </a:r>
            <a:r>
              <a:rPr b="0" lang="ro-RO" sz="2400" spc="-1" strike="noStrike" u="sng">
                <a:solidFill>
                  <a:srgbClr val="fb4a18"/>
                </a:solidFill>
                <a:uFillTx/>
                <a:latin typeface="Calisto MT"/>
                <a:ea typeface="Tahoma"/>
                <a:hlinkClick r:id="rId2"/>
              </a:rPr>
              <a:t>http://programe.ise.ro/actuale.aspx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48040" indent="-248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48040" indent="-2480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1455480" y="623880"/>
            <a:ext cx="1004868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262626"/>
                </a:solidFill>
                <a:latin typeface="Calisto MT"/>
                <a:ea typeface="Times New Roman"/>
              </a:rPr>
              <a:t>PROGRAMELE ŞCOLARE PENTRU ÎNVĂȚĂMÂNTUL BILINGV VALABILE ÎN ANUL ŞCOLAR 2018 – 2019</a:t>
            </a:r>
            <a:r>
              <a:rPr b="0" lang="en-US" sz="3200" spc="-1" strike="noStrike">
                <a:solidFill>
                  <a:srgbClr val="262626"/>
                </a:solidFill>
                <a:latin typeface="Calisto MT"/>
                <a:ea typeface="Times New Roman"/>
              </a:rPr>
              <a:t> 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61" name=""/>
          <p:cNvSpPr txBox="1"/>
          <p:nvPr/>
        </p:nvSpPr>
        <p:spPr>
          <a:xfrm>
            <a:off x="1700280" y="2133360"/>
            <a:ext cx="9804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Învățământul bilingv – limba engleză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Ordinul ministrului educației naționale nr. 4775/2014 – </a:t>
            </a:r>
            <a:r>
              <a:rPr b="0" i="1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Elemente de cultură și civilizație engleză 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– Clasele a XI-a și a XII-a cu program de studiu bilingv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Ordinul ministrului educației, cercetării și tineretului nr. 5240/2008 – Istoria Marii Britanii și a Statelor Unite ale Americii – Clasa a X-a  cu program de studiu bilingv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1663560" y="623880"/>
            <a:ext cx="9840960" cy="13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sto MT"/>
                <a:ea typeface="Times New Roman"/>
              </a:rPr>
              <a:t>Ordine de ministru </a:t>
            </a:r>
            <a:r>
              <a:rPr b="0" lang="ro-RO" sz="2400" spc="-1" strike="noStrike">
                <a:solidFill>
                  <a:srgbClr val="262626"/>
                </a:solidFill>
                <a:latin typeface="Calisto MT"/>
                <a:ea typeface="Times New Roman"/>
              </a:rPr>
              <a:t>valabile în anul şcolar 2018 – 2019 referitoare la limbile moderne 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63" name=""/>
          <p:cNvSpPr txBox="1"/>
          <p:nvPr/>
        </p:nvSpPr>
        <p:spPr>
          <a:xfrm>
            <a:off x="1463400" y="2133360"/>
            <a:ext cx="1004076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sto MT"/>
                <a:ea typeface="Tahoma"/>
              </a:rPr>
              <a:t>Limba germană</a:t>
            </a:r>
            <a:r>
              <a:rPr b="0" lang="en-US" sz="2800" spc="-1" strike="noStrike">
                <a:solidFill>
                  <a:srgbClr val="000000"/>
                </a:solidFill>
                <a:latin typeface="Calisto MT"/>
                <a:ea typeface="Tahoma"/>
              </a:rPr>
              <a:t>: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sto MT"/>
                <a:ea typeface="Tahoma"/>
              </a:rPr>
              <a:t>Ordin nr. 4130/ 17.07.2018 </a:t>
            </a:r>
            <a:r>
              <a:rPr b="0" i="1" lang="ro-RO" sz="2800" spc="-1" strike="noStrike">
                <a:solidFill>
                  <a:srgbClr val="000000"/>
                </a:solidFill>
                <a:latin typeface="Calisto MT"/>
                <a:ea typeface="Tahoma"/>
              </a:rPr>
              <a:t>privind primirea unor profesori germani în învățământul preuniversitar din România, în anul școlar 2018-2019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"/>
          <p:cNvSpPr txBox="1"/>
          <p:nvPr/>
        </p:nvSpPr>
        <p:spPr>
          <a:xfrm>
            <a:off x="2090880" y="831600"/>
            <a:ext cx="9378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Calisto MT"/>
              </a:rPr>
              <a:t>OMEN nr. 3027/08.01.2018 </a:t>
            </a:r>
            <a:r>
              <a:rPr b="0" lang="ro-RO" sz="2000" spc="-1" strike="noStrike">
                <a:solidFill>
                  <a:srgbClr val="404040"/>
                </a:solidFill>
                <a:latin typeface="Calisto MT"/>
              </a:rPr>
              <a:t>pentru modificarea și completarea Anexei - Regulament-cadru de organizare și funcționare a unităților de învățământ preuniversitar la Ordinul ministrului educației naționale și cercetării științifice nr. 5079/2016 privind aprobarea Regulamentului-cadru de organizare și funcționare a unităților de învățământ preuniversitar (</a:t>
            </a:r>
            <a:r>
              <a:rPr b="0" lang="ro-RO" sz="2000" spc="-1" strike="noStrike">
                <a:solidFill>
                  <a:srgbClr val="404040"/>
                </a:solidFill>
                <a:latin typeface="Calisto MT"/>
                <a:ea typeface="Tahoma"/>
              </a:rPr>
              <a:t>modificarea și completarea </a:t>
            </a:r>
            <a:r>
              <a:rPr b="1" lang="ro-RO" sz="2000" spc="-1" strike="noStrike">
                <a:solidFill>
                  <a:srgbClr val="404040"/>
                </a:solidFill>
                <a:latin typeface="Calisto MT"/>
                <a:ea typeface="Tahoma"/>
              </a:rPr>
              <a:t>art. 66 </a:t>
            </a:r>
            <a:r>
              <a:rPr b="0" lang="ro-RO" sz="2000" spc="-1" strike="noStrike">
                <a:solidFill>
                  <a:srgbClr val="404040"/>
                </a:solidFill>
                <a:latin typeface="Calisto MT"/>
                <a:ea typeface="Tahoma"/>
              </a:rPr>
              <a:t>– privind atribuțiile catedrelor/comisiilor metodice în elaborarea ofertei CDȘ și selectarea auxiliarelor didactice și a mijloacelor de învățământ 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Calisto MT"/>
              </a:rPr>
              <a:t>Regulamentul – cadru de organizare şi funcționare a claselor cu  predare a unei limbi moderne în regim intensiv sau bilingv în unitățile de învățământ preuniversitar – aprobat prin OMEN nr. 4797/2017;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1968480" y="449280"/>
            <a:ext cx="886608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FERTA NAŢIONALĂ PENTRU MANUALE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ȘCOLARE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66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Manuale școlare digitale 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- </a:t>
            </a:r>
            <a:r>
              <a:rPr b="0" i="1" lang="ro-RO" sz="2400" spc="-1" strike="noStrike">
                <a:solidFill>
                  <a:srgbClr val="000000"/>
                </a:solidFill>
                <a:latin typeface="Calisto MT"/>
              </a:rPr>
              <a:t>Manuale școlare - </a:t>
            </a:r>
            <a:r>
              <a:rPr b="0" lang="ro-RO" sz="2400" spc="-1" strike="noStrike" u="sng">
                <a:solidFill>
                  <a:srgbClr val="fb4a18"/>
                </a:solidFill>
                <a:uFillTx/>
                <a:latin typeface="Calisto MT"/>
                <a:hlinkClick r:id="rId1"/>
              </a:rPr>
              <a:t>https://www.manuale.edu.ro</a:t>
            </a:r>
            <a:r>
              <a:rPr b="0" lang="ro-RO" sz="2400" spc="-1" strike="noStrike" u="sng">
                <a:solidFill>
                  <a:srgbClr val="fb4a18"/>
                </a:solidFill>
                <a:uFillTx/>
                <a:latin typeface="Calisto MT"/>
                <a:hlinkClick r:id="rId2"/>
              </a:rPr>
              <a:t>/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sto MT"/>
              </a:rPr>
              <a:t>Auxiliare didactice 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– OMEN nr. 3022/2018 privind aprobarea auxiliarelor didactice din învățământul preuniversitar (anexă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sto MT"/>
              </a:rPr>
              <a:t>Mijloace de învățământ 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omologate în perioada mai-iulie 2018, în vederea utilizării lor în învățământul preuniversitar (</a:t>
            </a:r>
            <a:r>
              <a:rPr b="0" lang="ro-RO" sz="2400" spc="-1" strike="noStrike" u="sng">
                <a:solidFill>
                  <a:srgbClr val="fb4a18"/>
                </a:solidFill>
                <a:uFillTx/>
                <a:latin typeface="Calisto MT"/>
                <a:hlinkClick r:id="rId3"/>
              </a:rPr>
              <a:t>www.edu.ro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 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1919160" y="398520"/>
            <a:ext cx="8886960" cy="11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ahoma"/>
              </a:rPr>
              <a:t>METODOLOGII 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ALE 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ahoma"/>
              </a:rPr>
              <a:t>EXAMENE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LOR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ahoma"/>
              </a:rPr>
              <a:t> NA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Ţ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ahoma"/>
              </a:rPr>
              <a:t>IONALE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ahoma"/>
              </a:rPr>
              <a:t>201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9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68" name=""/>
          <p:cNvSpPr txBox="1"/>
          <p:nvPr/>
        </p:nvSpPr>
        <p:spPr>
          <a:xfrm>
            <a:off x="1162080" y="1534680"/>
            <a:ext cx="10663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Century Gothic"/>
              </a:rPr>
              <a:t>Recunoașterea și echivalarea rezultatelor obținute la examene cu recunoaștere internațională – </a:t>
            </a:r>
            <a:r>
              <a:rPr b="0" lang="ro-RO" sz="1800" spc="-1" strike="noStrike">
                <a:solidFill>
                  <a:srgbClr val="000000"/>
                </a:solidFill>
                <a:latin typeface="Century Gothic"/>
              </a:rPr>
              <a:t>aprobată prin OM nr. 5905/2016;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Examenul național de evaluare națională - </a:t>
            </a:r>
            <a:r>
              <a:rPr b="0" lang="ro-RO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OMEN nr. 4813/29.08.2018</a:t>
            </a:r>
            <a:r>
              <a:rPr b="0" i="1" lang="ro-RO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;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Admiterea în învățământul liceal și profesional de stat - </a:t>
            </a:r>
            <a:r>
              <a:rPr b="0" lang="ro-RO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OMEN nr. – 4829/30.08.2018</a:t>
            </a:r>
            <a:r>
              <a:rPr b="0" i="1" lang="ro-RO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;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 algn="just"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o-RO" sz="1800" spc="-1" strike="noStrike">
                <a:solidFill>
                  <a:srgbClr val="ff0000"/>
                </a:solidFill>
                <a:latin typeface="Century Gothic"/>
              </a:rPr>
              <a:t>Candidaților, care, în clasa a VII-a/a VIII- a, au obținut premiul I, al II-lea sau al III-lea la etapa națională a olimpiadei de limba engleză/ franceză/ germană/ italiană/ spaniolă/ rusă, li se recunosc rezultatele obținute la olimpiadă, în baza diplomei emise de Ministerul Educației Naționale, și li se echivalează cu nota 10 la proba de verificare a cunoștințelor de limbă modernă pentru admiterea în clasele a IX-a cu program bilingv de predare a unei limbi moderne de circulaţie internaţională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Examenul național de bacalaureat  - </a:t>
            </a:r>
            <a:r>
              <a:rPr b="0" lang="ro-RO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OMEN nr. 4830/30.08.2018</a:t>
            </a:r>
            <a:r>
              <a:rPr b="0" i="1" lang="ro-RO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 ;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i="1" lang="ro-RO" sz="1800" spc="-1" strike="noStrike">
                <a:solidFill>
                  <a:srgbClr val="000000"/>
                </a:solidFill>
                <a:latin typeface="Century Gothic"/>
              </a:rPr>
              <a:t>Model subiect - </a:t>
            </a:r>
            <a:r>
              <a:rPr b="0" lang="ro-RO" sz="1800" spc="-1" strike="noStrike" u="sng">
                <a:solidFill>
                  <a:srgbClr val="fb4a18"/>
                </a:solidFill>
                <a:uFillTx/>
                <a:latin typeface="Century Gothic"/>
                <a:hlinkClick r:id="rId1"/>
              </a:rPr>
              <a:t>www.subiecte2019.edu.ro</a:t>
            </a:r>
            <a:r>
              <a:rPr b="0" i="1" lang="ro-RO" sz="1800" spc="-1" strike="noStrike">
                <a:solidFill>
                  <a:srgbClr val="000000"/>
                </a:solidFill>
                <a:latin typeface="Century Gothic"/>
              </a:rPr>
              <a:t> (1 noiembrie 2018 ) - </a:t>
            </a:r>
            <a:r>
              <a:rPr b="0" lang="ro-RO" sz="1800" spc="-1" strike="noStrike">
                <a:solidFill>
                  <a:srgbClr val="000000"/>
                </a:solidFill>
                <a:latin typeface="Century Gothic"/>
              </a:rPr>
              <a:t>model pentru proiectarea testelor de  valuare curentă și a celor pentru teze (clasa a VIII-a și a XII-a 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OMEN nr. 4461/27.08.2018 privind aprobarea Calendarului de administrare a Evaluărilor Naționale la finalul claselor a II-a, a IV-a și a VI-a în anul școlar 2018-2019.              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2T08:59:18Z</dcterms:created>
  <dc:creator>Rodica Cherciu;Manuela Delia</dc:creator>
  <dc:description/>
  <dc:language>en-US</dc:language>
  <cp:lastModifiedBy>Micky</cp:lastModifiedBy>
  <cp:lastPrinted>2018-08-23T12:17:35Z</cp:lastPrinted>
  <dcterms:modified xsi:type="dcterms:W3CDTF">2018-09-16T19:50:59Z</dcterms:modified>
  <cp:revision>84</cp:revision>
  <dc:subject/>
  <dc:title>CONSFĂTUIREA INSPECTORILOR ȘCOLARI PENTRU LIMBI MODERNE</dc:title>
</cp:coreProperties>
</file>