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AB2-4AE5-473F-8FE7-7F8DCD82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C1A-5155-4A57-9790-28373B68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13A-C9C6-4663-87CB-FF9573F9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F00-7533-457C-BA48-959B4323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D01-0705-42F2-B11C-21C2B1D8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754-0C1F-45F7-8A71-BC805A74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978-D23D-402F-921E-C917EBF7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D5EC-3C5E-4CEC-B654-7DC9BD9D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20A-18B2-4063-A831-DF1D1A38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739-2C47-4D43-82BE-DF86C7F3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7A8-31C6-4EAA-9AA3-0FFA262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B62-7700-4911-96F1-58012B5A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EAC3C-72A4-4FB5-9CAE-DAE8AFC670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PRECIZAREA NIVELURILOR DIN CECRL LA INTRAREA ELEVILOR ÎN CICLUL DE ÎNVĂȚĂMÂNT GIMNAZIAL, PRECUM ȘI A NIVELURILOR AȘTEPTATE </a:t>
            </a: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LA FINALUL CICLULUI GIMNAZIAL (a)</a:t>
            </a:r>
            <a:br>
              <a:rPr sz="2600"/>
            </a:b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- limbile engleză, franceză, spaniolă, italiană 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- limbile germană, rusă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TALIEREA FIEC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I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OMPETENȚ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GE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L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ÎN COMPETENȚE SPECIFICE, ULTIMA COMPETENȚĂ SPECIFICĂ FIIND DE NATURĂ SOCIO-CULTURAL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9) INDICAREA RESURSELOR ON LINE UTILE PARCURGERII PROGRAM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icky</cp:lastModifiedBy>
  <dcterms:modified xsi:type="dcterms:W3CDTF">2018-09-16T16:57:30Z</dcterms:modified>
  <cp:revision>25</cp:revision>
  <dc:subject/>
  <dc:title>Elemente de noutate ale programei școlare pentru disciplina</dc:title>
</cp:coreProperties>
</file>