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24C-18C1-4544-895D-092DE7E7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F66-B305-4FE9-A0A0-A8BD0871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AB36D-16D2-4772-A51D-059BE1C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DE6AD-3379-4F15-9E01-9A0B1B2A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D4427-70D4-4B58-9E3A-C22C992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4F59B-5382-44A3-ABF8-4296595B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3C5A-DB8C-40DD-83BB-8C5F351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6A0EF-15E7-4647-8880-03EF0C1C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C6656-D40D-460E-8ECC-27108B1E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756A9-44DF-4173-8BFD-B5A53CD8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D04E7-62D5-4772-B166-50620235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9897-DFAB-4745-9DB7-614FE21D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BD3-FFDD-48A3-A48B-A8B01CD2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F15CD-06C3-4BE4-B20C-AB347AD7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2BE50-5C4E-4D6C-8FEC-8C0B59C3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89CBA-E2B7-4E80-AB61-A766BD2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C971C-FE64-4A94-B574-B9D7DD47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3EB7E-16CA-43F3-AA50-61551FE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5017E-3E5F-4B91-9A62-0FE28CC9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3A216-D714-45A3-8ECD-45931198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4CE26-2C48-41A9-9B23-482AA2B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819E7-6244-4C1F-9D1A-3B82D20A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EE81F-A2B7-4A0E-A51B-7434DD58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EC6-0312-4F59-90A5-3C6B3B44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E7B24-C61C-4055-9770-AE1C3F37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A9CDF-281D-4C1B-9DB2-9EECDA49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20480-22B1-4804-84AA-E4F9AD0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888C7-2EDB-4D22-A6D6-CEEA43E8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7AD5B-038A-423C-8443-CF4D437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3868C-8FE8-466F-BF27-11489B0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CFC46-3FA5-4AEE-9228-0CD3FEA6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D3C95-6006-4EEB-BFC8-D21F47C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CCF93-D33A-4ED9-A240-0207CFE5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B8A6-D670-49B4-8659-1F4BD661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00EA-9761-4703-A9BA-B6327A8B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AD794-0D64-4866-9BB5-DCB2755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8E61D-5267-4270-92F8-6597B974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29C6E-CBB2-498B-AD86-97336F7C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D7409-6C21-42F1-9D36-FDD2B91B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F508B-A0F2-401F-A491-4F72CCCD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0147B-CED0-4A6B-A3CE-18D721D9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88823-F5CB-4660-AD15-D03BD7BF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30EAF-16CF-45D8-84B1-CD6BF9D8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C14BF-C144-44E1-8A27-E4866F16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71D79-D31D-4855-8015-19D4C4E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2827-F5BA-43FE-80CA-C033C4F1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B17FD-791B-49D8-A1C0-639794A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C2821-6454-48D7-A24C-493126FC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9D285-9AF9-412A-A891-0180E3CA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C7045-88D7-4789-A68F-C12AAE55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C6252-209A-4BB7-9DF9-BCE919E5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EBF6F-7BA2-4568-BA58-3BA538D0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D29AD-66CA-48A8-B08D-846AE81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68C33-5093-46B7-9198-9AE881E1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A74DC-3C79-4929-A995-C1E5A1F5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112BF-43FF-4E85-B3DA-882984BA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E375-F50C-4291-AADA-45928CA4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BE391-DA07-495E-89E9-558F47D0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31AE6-8773-4899-9226-4BD43044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9879A-E6AA-40DC-9CD5-D850B95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22EF1-FB7B-48EB-8C5E-5ADDDA25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D85D3-CF91-4D40-BF6C-338DCDD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6DD3A-4F91-419C-875E-DB0C518F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DECDA-B32E-4C2E-963A-D29DA140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3E469-B4DA-4548-ADDC-D0BDB2B8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7C355-7345-4989-A267-5531305F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E9F86-3EB1-44AB-A224-6D495E4C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5FB8-E6DF-4B09-9FE1-4DEF37C4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0EE30-06FA-401D-B67D-8BB59C3C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8918F-3A1E-479D-A99A-46EEB1F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39343-28C5-4100-8E62-710DB889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5C35C-1034-47D9-9310-56FCB7C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9F0F9-CEEE-4DBC-A1CE-46CD36DF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51F58-43C5-4E93-99A1-36D99A8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2CF1B-0849-49E3-91DF-38BF678E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480A0-5A65-4A28-9621-B942BA85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08882-9BD2-40D8-AB2D-51D45EC6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DFA96-F95B-406F-9123-89A843D0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7BD9-44CF-4E0B-AA6D-14B3227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AB241-5AA0-4F1D-8D7A-D10EACDA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A1617-B7DC-4320-9152-ECF01E5B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EE671-7387-45D8-8DF9-84F6DAC2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79548-FA46-435C-A89F-83BCBB72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1647C-9A88-43C2-9593-35AFECC6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8FE2F-9826-45AD-B50E-72D6FDE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20033-E0E4-4C17-ACE7-9BA8EF3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2393F-8A93-42D6-A561-1407E56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F3192E-002B-490E-8629-F64C482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AF70C-AB71-4191-9359-562C8575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3B8B-AC0C-4643-A3AE-F178FB92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6F5E2-FB10-461B-B699-8238723C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D148A-643F-4C7D-BD16-42A0814C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991AB-48E3-44E2-8A56-5DBF4BD9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92A1A5-2759-41AC-B455-FA0629B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36FBA-3069-4257-81AC-6ADD6BBE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B94E8-E755-4661-9B88-A0B5E17B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925AD0-72E9-4FE0-8E55-5D3E6FD4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498BF-E2AF-4D2A-B56D-FF090B8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977EE-48FE-4311-AFEB-C15EDF8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19BC8-D71C-46D5-B5EB-E61D1F0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C6F6-E2DF-432D-8BFC-14E6DEC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D3F09-10B8-41A8-B140-2B6A7807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4D9942-7C06-46AB-9B32-26926FEE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AB060B-5A39-4A59-816D-08FC0560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E4E424-DB4B-418A-B0F0-3DA185B3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FD8B1-36D2-4C19-AA37-2C3ABACD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3DDAB-47AF-440F-86AA-DA9B94D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01456-8E96-44D1-AEDE-DD33250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C657F-5BCD-4FD5-B95A-DEF2BAE1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F765F-E549-4A87-BA27-0F7642AD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C6CF4-0FB3-4AB8-8012-9FCB2EF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B56-B02C-492A-BEFC-B8FE803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AA56-2BFF-4527-924A-3B920C8F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B9F3F-4F89-485B-9157-220C302E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BE9E45-BCB6-48CA-888C-ABD4253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E706C-2E29-4CC5-AFCA-AA55FC9E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08539-4391-498E-80ED-A6DAE432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24EBA-0871-4E84-9B51-95974A4A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FCAB9B-F157-4F66-A1DB-C86C21A0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628F0-30C6-4C6A-90C4-691A2CC1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B01B6-29CF-479B-BE3D-3C83D54B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255F1-F2D3-4D2B-ABCD-D3ABAC7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CAB0A6-933A-4D58-A169-A4CE089F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342F-85EF-4855-B8BD-D6990BE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A2AF3-00FC-4AF6-98F2-5A7A1EC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BA51BB-8E91-40AB-9451-63DF56DF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F1682-C71E-4DC9-B883-6FE8B513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11A53-1D67-4492-8802-D6DE7C0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51A3E-198B-4BD8-944C-F2C61863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E9CD9-A857-49A0-A177-48654ADB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35B481-98B9-4F4B-BF9D-5B2ECB85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AB9AF-A6C9-4A42-A166-F6DAD4EE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69DB4-D85A-465B-9E20-5A8712AE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94294-5C3D-47B0-9C57-25405E9B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0DD4-D2A0-45F5-8879-E0E1C8ED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811057-001E-46BA-B246-110D21B0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F31C9-468B-4CED-B4A4-2C14F963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35932-51D8-4E38-A668-041B038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69F2C-976D-49F4-AA91-C256D42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3CDDE-CEEF-4E08-BA37-C91CACA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181F0-5590-4525-8F22-858E5CAB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FDB2A-D4A7-435C-BE9B-1FC11D93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8D3BD-377C-48E6-9BCB-8D396436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F1008-AAAE-4FFF-A764-975B7F56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A3F824-7CEF-4CF6-A276-D125E996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16D-301D-483D-91B3-5591BDE4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D6F7B-9081-460D-A8E5-EAC62770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1425A-4DAD-48F2-8A74-4C5BD470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7CFE2-636D-4819-9222-C17745BC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7B8F6-73FA-4435-8875-F7790C98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0925A-2923-4B32-944A-AD96D97F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AAECB-3D00-4A34-8037-68EF9228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B0636-CFE5-4427-93C9-21BFC24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168EE-3EDC-4FA9-9C83-BEE6EF7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A7BFD5-BACA-49EE-8F61-23A597FD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A1B7AB-E56B-4FD8-B5CB-C01CA278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F118-B504-46AE-9A25-6C30973A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898CA-952F-43AE-8869-78BADB4F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35DCC-C39B-47AB-B34E-00AB7BD8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E27B31-CB3B-4943-B3F3-8CD18D6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8E8AC-C433-4A73-9863-63C92645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9C37C-8AA1-498A-B68F-9977587A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B3061B-2F2C-4AEC-99AB-8BF5328E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08585-0E15-4232-A7B7-FBBF4A2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1FE49-6A88-4A79-A262-7EC6D37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90F8D4-66D7-49D2-BC2F-8A73014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FD9ECD-C511-4209-9381-D2C7839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FD73-9453-4C3E-ADF9-72817AE0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1F330F-CB8A-4B99-8964-A6FF86E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6DD75-298F-4B17-B5A7-D8C362D0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3015EC-2CD9-4865-8CEE-B42BA2EA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36D4C8-9A27-43DE-A06D-E45D0F63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02D9DA-9E37-460D-BD30-43E85BE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88FCD-63BD-4FF2-AADF-A34725C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83DA9-DC3A-4528-9FFC-75E5BFE2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68666-3968-429D-9F82-5B04AE2B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1779DF-8819-48B4-9F57-9DED6088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309BA-E9C9-4BCA-9B8D-B8F889B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50BA3-C0D9-455F-8DFC-BBD27CF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048EFB-93B5-47E7-B1FD-8AEB8CE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0044E5-DB4F-41C9-9125-726FF97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0EC25F-8743-4B9B-BF99-36D0A52F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C0B65B-8E27-440E-86B9-9F6E58B9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1CF86B-1B0C-46E8-B72B-BC326CBE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EB933-D79A-4CF1-A9D0-7E2DE884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E89E56-7596-4FF8-BB36-5767D83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E786C-6591-41BF-ABB4-AF7A46D1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7E54AA-410A-4B3C-B26E-8C91422B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7F5A3E-EE91-4ED5-9984-6BFC601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BC04-BAA1-427F-B9EB-191F667E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5158B-1E2D-4F24-A2B6-D81D1493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BA0058-D637-4F4C-9D9B-CFCEBCB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D06694-C1D7-46ED-B0B2-08A0EC8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D18412-5FBA-415D-8015-F12BCC8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26FCD5-AF77-4168-BCE3-CB8D13E2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C6E69-8F48-4005-82E1-AFF6F065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5D50C3-1562-4A16-84EF-1A3B0DA4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9A52B7-9C44-4914-AA88-F7D58890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BF10A-90EE-43E2-9DFF-A134C492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F0D27-4762-4532-9883-02E41113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FC3A-2EA1-4D74-A643-3EDF3C4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0D4B2D-DAFF-4B6A-9733-2C6ADEA4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FBE5E8-56A3-47C5-AE2E-F211E0EF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FD0445-E005-40B4-96ED-7840881E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FA9AC-5AE6-4874-85BC-39ECF35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4E6D2B-F6DB-4A00-9424-21FFE3B8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FD6944-7247-4480-95DB-E3EDBD8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C027D-28D0-4FCF-8816-3CA2301E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095E30-1EAA-47AF-8434-18A81B6B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9BA6B0-FE36-46DE-86B9-8CD655A5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BC55A9-2425-48AF-A1DE-562ACCA4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DE17F-F65B-4A52-9338-3073189F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407613-05F2-4EDD-AA2E-2BF41DF1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F69B94-7197-40A9-865E-A8348317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97DDBE-831E-41FB-BEE6-0A0E8446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9D3D9E-D161-4456-A99F-4C7BB151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6F191E-9CCC-414E-9D20-BD91966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143C3-EAE8-4FC7-BC65-4F8D35B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FF5F96-ABB9-47A2-9C4C-49A1B47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F6B9ED-2E5A-4F6C-B464-A06247F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A7393-B946-4E08-B101-C677A1B1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A8980-7B74-4189-99F7-DC4164C5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3BF-87E6-4791-9E3B-FB962E8C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E7BF-2E78-46E7-A6B6-6E7E16DD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25DD77-0D4D-42F5-8526-CED9CACC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D79A40-C57C-43C0-95AA-FF0119B7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90041C-DF30-4FBB-8AD5-E0DC838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84FA79-B38A-4A1E-93F0-0AE9905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F48801-63B3-4C79-B056-14040EE8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5A3D8A-086E-4865-8370-FB76E2CB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955351-9BA1-4F2E-AFD1-E2D4884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5D1661-5D91-4B40-AE28-AF32BF90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AC6AB8-43D0-44AD-B743-480AF3E9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57CC6B-8501-493C-90A6-DAA67B9F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7A93-6460-4F4A-924E-CDC4242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F5CD1A-5BA1-440A-A075-4EC80C0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A213F9-4AF8-4556-89B5-585BC215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107503-1858-4CCB-96D2-2A27EA76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80FFA0-EF09-4E65-B4D3-EDCAF239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5E049-B6BF-4AD3-8AE4-8825CE69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5BE062-8ACF-47C4-B13F-A7DED1C4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3F11E6-FAD4-49D3-A482-E68A196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437864-9345-4362-9B66-E0C79EDC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67A3A9-C202-4E32-844C-A01A16E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F6556-2A13-4575-8484-38B1DC0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B820-D553-4D71-A3FA-8F450C0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FECFB5-1571-4A92-97DA-1F292CC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E703B3-674C-489A-A79E-1A8C9064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005026-2EA3-4E7D-B787-51BA3B0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A36F40-A67C-4AAD-AB94-8AB3D4F5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EB6F22-1CD0-4383-AA92-96E1620F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E26DAC-D0ED-49EB-9B12-5517CEB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B84F32-0DA5-4B9B-BC61-B198F2AB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AC53AB-6C3E-4C51-9B5E-FB35A7FA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20AD3F-4DA6-4486-99BD-D7CB739E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AA005A-28DC-4DD9-ADFB-B8407384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6890-FA7A-4B4F-8DAA-C8A1C475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7E50A3-A29A-43C3-AF2E-82C9FF9F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7AA382-F332-4EF9-9F25-D088870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9A50DF-E0FA-40E9-8182-1B89F25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2DF24F-9535-4FF2-9C15-0D670A0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5F1B57-A78E-49F1-9B4B-BCAE39A5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180C30-B73C-4455-A4DA-FD28120B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5EE0A8-1361-483E-ABFA-2BA08B03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D5DAB7-705F-4E68-B385-FCD3F5B2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A8423F-0438-4627-AC59-EF134B1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01550-8FDA-4259-ADC8-B5ECBC43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0C7F-7385-49D3-BBAD-8C88B66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DA0B3E-A7EC-47FC-A4A1-1FE0AB8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FC078F-9522-454F-989A-D30FBFC8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1A0A66-A348-408F-8E12-B115ACA0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414D21-1F85-4C4F-933F-362722AE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8830C0-EE17-4694-98E9-20991BF7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C6568E-0F45-4446-8FE5-F91A03A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CEB35C-1E3A-42FA-8AF7-071E722B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E00C10-E0B2-4474-96D8-C240D87D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80BFC5-9E8B-478A-9A20-B37443A6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C5CEB7-49BC-4B9E-B785-1F3FF68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9BC4-F276-4750-8687-5EF32D94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CD79B8-0F24-47C6-A9DF-1C44ED24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405D04-3111-4D79-8768-11BAEF7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F8FF03-93EC-40C1-9CB3-F71F1EEA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1F5D58-4C60-4C99-8D30-E318D36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404176-FE57-402B-B87A-09FA2BA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8B9C2-E9FE-48CC-8A63-1C78DA16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863554-3C7B-4143-8488-A3ACE48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5904E8-48DE-4CFB-BDB9-42D41E9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BFE10C-4C2B-4078-B9F5-35546099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25BFCD-EE2D-4B23-B740-2E30DC99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754D-7B6E-4CBC-A799-0F38AC0A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E790B3-5D54-4260-9D0A-1D116229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9E27F9-6A5D-4627-AFB9-6624F69E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A22ECD-F7E7-4798-87CF-F1989CA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160520-928A-4B96-8CE4-69F2FBD0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13DE71-BC01-480A-8C13-8FEFC04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A5204C-A863-4154-9784-2C7A9A6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C08232-9D77-44FE-8DF5-BBD5D788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484617-E6D4-4F99-BAA9-9A5C88E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7E13A7-BCC8-45C6-B186-91DEE17E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D291E4-2B59-45DE-9F82-4F27FC2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A62C-0F55-4E4C-A9E4-E20727FA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348AF6-FE36-4A0A-9EC4-717B399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6925A1-2F22-4C6E-97DD-EBFCF9A1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17E372-645E-4963-A73B-FAE8D8D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506777-3FE1-4B7F-85A4-E0DD640E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2AB776-FE69-41BB-984C-4CA37859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0103F3-5B8F-43BE-A1DA-0AB3B52D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1C9338-8B08-4376-86DB-56C5259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CBBD04-B93C-4AE9-A45F-651AE19A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5FC8A-1CE0-420B-96C1-73CE8F6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3B64A-DEB7-4D20-BF8D-DCC8489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BD570-984D-43B8-BCAD-863EB5FE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E678D1-76A9-4C0C-A324-B1238839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C3E127-9288-4171-9A22-0031E092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D4C034-3816-4DD1-A45E-2C5361EA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77536B-6659-4790-8EBF-D40DE8A0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0276CB-DA86-4D70-BA80-542CDB26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6B20FA-1A6D-425A-BD01-3ED6AA15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DB9D39-E428-460A-BE49-82FF1EF3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7D686B-C3D7-491C-9042-3DA2991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888E84-C65F-4C5D-BAD4-5E8F8B14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7595FE-2A64-465C-B41D-47EFBE9D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8C025-8408-4680-B3E3-A084F825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5913A7-6F3D-41D3-B577-15654A4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B146E7-8049-4233-A998-C4DC4309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9A524F-7E98-498E-9C27-3267889F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2EDA13-4518-4C48-A231-D9670A38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0ADD66-DBA4-4532-B09B-3813C1FD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0DF78C-579F-4226-903E-136A8D9E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464EF4-A729-4E91-A928-C74DB76C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AA3FBA-1D43-4EA1-965C-E5C5BE4A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68080D-1767-4AFD-A28A-1FAA3327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F6A45F-87FA-4E34-8777-7221EFFB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AAF-C190-4F57-BE53-5DFB415B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F296-995A-4E2A-BBE3-F09419D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F0A62A-3F42-4799-BCE4-160FC3CE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54DDA6-6388-45FB-841C-1BA061AF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948408-3A91-4404-A29D-B8E1FBD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32A121-2CB9-48FB-ABCC-BBD2B47F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51CB01-AB17-4FA8-995E-9928E8B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7882B8-86F4-4A71-A4EE-D718510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9E26FE-DC05-4A30-8AF8-CBD339C2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27FE6B-24C9-46F1-AF2F-C93A864E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51DD4D-74B0-4CC9-ADE6-B9D37F98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392D-4474-4775-A3A7-6EB481C6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A0A7E-95C7-4D3B-8912-97AEB304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D1C1-ADC9-47B5-B99B-45A51B9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BAE0-254D-4ED5-A409-F2699C7E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93B5D-C325-464D-A92F-D6AB32BA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BB24-9CB8-43B3-B21F-D6DE67A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CA44-7948-4DFB-A7A9-3A45F772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E960-0AB0-4564-9CF3-D14650BF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A1DA-350D-4C77-AEE4-4331CD7C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438-A490-4061-8797-5C650AE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8996-F90D-4313-AECF-C82CE20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D9AC-A771-40EA-9520-05536229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2EB7-CB80-4533-A395-9F964A4A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3B98-2438-4954-BDE5-2C4407A8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78A56-E98F-403E-BA4E-3FD530D0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E9AA8-51F3-42EA-8FFB-CB26A4F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C4AC-9B3B-4EC9-9FEB-C6BA4D6D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F2F8-B7C7-4B62-9469-2F8EDF9D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3EC17-A00F-4CA1-8BCC-E026C46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4815-FAF3-43DB-94C2-8D354AFF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CB7-BC13-4BE1-96EA-DFCC63A6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01D22-CC4C-4E53-AC1E-65D5DC45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8A7DF-79F0-481E-A71A-AC00252E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B23F0-CC18-403C-B168-735412A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51481-5FFA-4E9B-B04A-EC156600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094C6-E7C5-4DD9-8840-4D394B3B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E32B0-DCFC-44CD-8121-3645532E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213E-B2EC-4BE3-9419-D8B9CD0C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B741-1814-4179-80D2-AF650AA4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FB79-2A27-443E-8029-C6DD89B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2125-CF06-48F9-9799-0167DB4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438-577B-467E-AE56-CDA0ECF7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E601D-800D-4696-9561-CEB1CBC0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43734-4CBE-494B-B375-63ED8151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F8333-A69E-43A7-821C-F59E6FF5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624A-2480-47B9-B0F2-1F5971A4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4092-C5C7-477A-BE46-B333F72D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AADB2-B135-4905-BA82-3A880A02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13863-1FCB-4369-A5F2-816F0A44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F50F-3D8D-450B-85A4-142C2FE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54580-912C-495E-863E-8213124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4A897-7463-4218-9435-D261143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F4E-20AC-4E46-B8FD-C01684D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D277-FF5B-4FC5-A050-C38CF9B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3479-EBD4-493B-ABD7-208B113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8AAA-8750-4EB6-9D52-F843D5B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9C864-0259-494E-AB9F-8F7ACD2A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AE76-5450-4A1B-A226-2FC14500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4CA93-12F4-4250-8F89-AF3942E5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9947-AEF9-4BBE-8868-8E9BBE5B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2C872-AD8F-4E49-8C93-31A5D177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E5EA-90C9-4CAD-91B6-1024868B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1F207-BC06-46AD-92CE-FB450518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12F-A0A1-4C7D-A4ED-F6AD7C5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F54F-3469-4561-B466-7913BF6C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200A6-C08B-40BD-B400-1607A07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D6EB0-3872-4B00-8E72-6A7E9A3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6AFB9-C142-4E84-914B-DF56A44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941E2-A11F-41E0-BF1F-96B95B99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C230-0BF1-49AD-876B-67888BC8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0297-9853-4188-94A1-5DB7DE53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E4586-9562-48AE-A610-548D1CDA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912D-43A5-48AE-80E3-E86C02D6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CFB2B-0982-436F-A70B-20AE8B31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81BE-3FDD-4983-AB27-2543E0DD56D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BD2-FF6F-4A86-B132-F045E8D4CE8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4FF-D778-4781-8D70-C23B11F7AE3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3954-30C5-4EB5-A974-24EA7FBEFBF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B70-EFC0-4319-89A5-BEBA0847699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BA24-2A55-4B73-A211-29AED1F4D7F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D5D5-9801-46C9-97BE-602C7981D59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E9D-A842-4ECE-BAFD-EFFE01F275F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5290-5ED9-486B-A2C8-509E5EFDE4E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548-965B-4986-9CD4-30890CCEDA7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C749-DE54-4231-B7A0-F22088EE79B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294-497D-4243-A947-86D759E2E11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667E-B706-43C8-98C2-199369DE37E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CC46-36F2-420C-8F94-09A7D8A62D4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114-BA20-4436-866C-544ED11CA8A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3303-F146-4AB4-9655-B39FADCEB5F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B791-E133-49F5-A7FA-D9E8643F323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969-6B07-4288-88A2-DE1F35D1FCD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141-53F2-46B4-B688-A70630A213B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687-0303-4B44-BE8C-E80F206238A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758B-D216-4BAE-BE02-A1C08F9AE89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D45D-C74F-4D1C-A660-9E30AA1D5C3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FEED-F883-4D64-80DE-51993F9B957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49D8-F77D-4266-B197-0C11B3B059EE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A68-B5F5-4792-B03E-481B0E4655E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B4D3-8E5F-41E7-B4F2-F11353D1622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FD38-12B2-4654-B6B1-44CE2E42E61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D84F-0A1A-4D77-AC94-42AC25035FF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0BD-F328-4299-9B86-BDEBA6B9F30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A13-B2B7-4168-9F68-2DEECD342D4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5FB-C6EB-4052-B425-87A4CC6BFF4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3AF-0E96-4FBC-B1F1-E5D76CE4626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18B-013E-4F85-8E05-36B11ED8B47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776-30AE-42A6-8D75-FFCBB9CFB6F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4768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ROMANIC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</a:t>
            </a:r>
            <a:r>
              <a:rPr b="1" lang="en-US" sz="2800" spc="-1" strike="noStrike">
                <a:solidFill>
                  <a:srgbClr val="00cc00"/>
                </a:solidFill>
                <a:latin typeface="Calisto MT"/>
              </a:rPr>
              <a:t> </a:t>
            </a: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430280" y="623520"/>
            <a:ext cx="100742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751040" y="1904760"/>
            <a:ext cx="94312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 de organizare a secțiilor bilingve francofone incluse în proiectul bilateral franco-român “De la învățământul bilingv către filierele universitare francofone“ aprobată prin ordinul ministrului educației naționale nr. 4424/28.08.2014, publicată în M. Of. nr. 658/08.09.2014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Convenția de parteneriat nr. 9801/29.08.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(recunoașterea și echivalarea DELF A1, A2 sau superior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cord de colaborare (nr. 43 /DS/ 04.02.2014) între Institutul Francez din România și Ministerul Educației Naționale privind recunoașterea participării cadrelor didactice la activitățile de formare continuă realizate de Institutul Francez din România și acordarea de credite profesionale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între Ministerul Educației Naționale și Asociația Română a Profesorilor de Limba Franceză privind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implementarea unei serii de acțiuni</a:t>
            </a:r>
            <a:r>
              <a:rPr b="1" lang="ro-RO" sz="32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culturale și educative adresate elevilor și cadrelor didactice pentru promovarea limbii franceze și a francofoniei în învățământul preuniversitar</a:t>
            </a:r>
            <a:r>
              <a:rPr b="0" lang="ro-RO" sz="32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</a:rPr>
              <a:t>nr. </a:t>
            </a:r>
            <a:r>
              <a:rPr b="0" lang="fr-FR" sz="3200" spc="-1" strike="noStrike">
                <a:solidFill>
                  <a:srgbClr val="000000"/>
                </a:solidFill>
                <a:latin typeface="Calisto MT"/>
              </a:rPr>
              <a:t>11372/ 12.12.2016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4203/2018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1456920" y="1673280"/>
            <a:ext cx="100472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611360"/>
            <a:ext cx="89154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060280" y="1363680"/>
            <a:ext cx="94438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644920" y="1084320"/>
            <a:ext cx="8804160" cy="418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C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ADRUL NORMATIV PRIVIND ORGANIZAREA 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PROCESULUI DE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ÎNVĂȚĂMÂNT, ÎN ANUL ȘCOLAR 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8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-201</a:t>
            </a:r>
            <a:r>
              <a:rPr b="1" lang="ro-RO" sz="2900" spc="-1" strike="noStrike">
                <a:solidFill>
                  <a:srgbClr val="c00000"/>
                </a:solidFill>
                <a:latin typeface="Calisto MT"/>
                <a:ea typeface="Tahoma"/>
              </a:rPr>
              <a:t>9:</a:t>
            </a:r>
            <a:r>
              <a:rPr b="1" lang="en-US" sz="2900" spc="-1" strike="noStrike">
                <a:solidFill>
                  <a:srgbClr val="c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09520" y="2255760"/>
            <a:ext cx="94615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  <a:ea typeface="Tahoma"/>
              </a:rPr>
              <a:t>Plan-cadru de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  <a:ea typeface="Tahoma"/>
              </a:rPr>
              <a:t>EN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1054080" y="1709280"/>
            <a:ext cx="106156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7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7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7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700" spc="-1" strike="noStrike">
                <a:solidFill>
                  <a:srgbClr val="000000"/>
                </a:solidFill>
                <a:latin typeface="Century Gothic"/>
              </a:rPr>
              <a:t>model pentru proiectarea testelor de evaluare curentă și a celor pentru teze (clasa a VIII-a și a XII-a )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7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5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6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23:24Z</dcterms:modified>
  <cp:revision>85</cp:revision>
  <dc:subject/>
  <dc:title>CONSFĂTUIREA INSPECTORILOR ȘCOLARI PENTRU LIMBI MODERNE</dc:title>
</cp:coreProperties>
</file>