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E08-E081-4C3B-BBDD-78D590E8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652-2697-4B55-911F-6F6DACFF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0C9-02E9-46DD-8313-16F24FC5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77F-72B4-44E0-A0E5-D80A05BC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1C4C-83F4-4CE2-B954-742D4AFC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D42E-3C4D-4034-B5A2-61CE6056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DEBE-3D88-4129-8115-0B1609AB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61C1-BC53-49D4-84A9-1FDF2E34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5E82-F146-4617-ADAA-10A2C71F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A41F-4274-4C5A-AE68-A944AD0A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18BE-4EDE-4852-A39E-00E36E9A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3ED-6895-4AD0-A9F2-59F2B053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7CE0-6B10-4994-A189-139AFCBE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5495-46EB-454A-926D-73B96A33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AB92-9AB0-4752-B4EB-FE16EF2C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5CEE-C78A-402A-8234-B700A81A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9BD1-07E6-490C-A4B4-89EB2EB6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79557-D1DB-4426-9A84-69C51E51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4269B-D674-4954-880A-E8F6BB7F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7ABBA-DF80-4821-B7F4-817EB5A7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41B35-EFE2-43E9-A9C5-6A9AA396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D4B9-4C69-43CB-B007-2069E32F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DF5-088C-412B-BE92-1D29CF49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A4A6-DD06-4830-BBB0-7452B038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FE91F-5E3B-4A63-B2AB-D49642AB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72F7F-586E-48E2-8A48-E421E113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BDE3C-E8D0-4E86-A852-EAACB872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DA5D4-43FF-4C49-8DBC-98222B5B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A32D0-E3B4-4C91-AA99-E3CC1ACF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D8BFA-A553-4669-9EDC-13CBFE02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3BCB-9035-44F7-B72E-20F24919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23F42-33CA-49D7-BF98-71B6BAF3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012A9-C74F-4C39-AA84-63D30A7A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B86-7EC8-4812-B6EB-19E71471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25718-92FF-4336-9048-ADAEB4BF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3236-35E0-4BEB-AB98-AF693541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ECC85-1BA1-4F64-8B0B-32E5F0F0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9650D-2566-4C87-8953-A9405A0C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597E9-08CB-451B-A0AE-5C1905CE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C0EA0-5247-46A2-8E65-19411F1A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32F3E-501B-4EE4-992A-92315E14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19DCD-1E9C-47C3-B78B-D6463249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EA457-F8EB-4693-8F1A-CAA92904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14F-5306-4937-BE50-A8A25330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805-BF1B-41F6-ADFA-A2F7F34C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005-F5EC-41F2-BAEE-7A2A0DEF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D42-0775-4198-8C10-E6792559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E79-9C67-4087-AC02-8A96FA52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9985-143B-4551-AC3E-9E881C0370F6}" type="slidenum">
              <a:rPr b="0" lang="ro-RO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1B98-461D-487A-80B7-68DE2F0018FB}" type="slidenum">
              <a:rPr b="0" lang="ro-RO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A594-DE25-4228-87CE-BB4461DC41BC}" type="slidenum">
              <a:rPr b="0" lang="ro-RO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D92C-ACA6-42AF-8F13-484BC4787287}" type="slidenum">
              <a:rPr b="0" lang="ro-RO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120" y="1599840"/>
            <a:ext cx="723924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ebebeb"/>
                </a:solidFill>
                <a:latin typeface="Century Gothic"/>
              </a:rPr>
              <a:t>Proiectarea, organizarea şi evaluarea activităţilor didactice 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o-RO" sz="3000" spc="-1" strike="noStrike">
              <a:solidFill>
                <a:srgbClr val="8ad0d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2. Planificarea calendaristică orientativă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Asociază elemente ale programei (competenţe generale, specifice, conţinuturi) cu alocarea de timp pe parcursul unui an şcol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Etap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Realizarea asocierilor dintre competenţele specifice şi conţinuturi (extrase din programa şcolară)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Împărţirea în unităţi de învăţare (teme stabilite de profesor)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Stabilirea succesiunii de parcurgere a unităţilor de învăţare (stabilită de profesor)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Alocarea timpului considerat necesar pentru fiecare unitate de învăţare, în concordanţă cu competenţele general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/ specifice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şi conţinuturile vizate (stabilită de profesor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2. Etapele proiectării demersului didactic. Etapa 3. Proiectarea unei unităţi de învăţare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Şcoala ......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Profesor: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Disciplina....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Clasa</a:t>
            </a: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/ Nr. ore pe s</a:t>
            </a: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ăpt.</a:t>
            </a:r>
            <a:r>
              <a:rPr b="1" lang="en-US" sz="1000" spc="-1" strike="noStrike">
                <a:solidFill>
                  <a:srgbClr val="ffffff"/>
                </a:solidFill>
                <a:latin typeface="Century Gothic"/>
              </a:rPr>
              <a:t>/ Anul..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Proiectul unităţii de învăţare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Unitatea de învăţare:........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Century Gothic"/>
              </a:rPr>
              <a:t>Nr. ore alocate: ........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33520" y="3429000"/>
          <a:ext cx="8076960" cy="1905120"/>
        </p:xfrm>
        <a:graphic>
          <a:graphicData uri="http://schemas.openxmlformats.org/drawingml/2006/table">
            <a:tbl>
              <a:tblPr/>
              <a:tblGrid>
                <a:gridCol w="1143000"/>
                <a:gridCol w="1549440"/>
                <a:gridCol w="1346040"/>
                <a:gridCol w="1346040"/>
                <a:gridCol w="1473480"/>
                <a:gridCol w="12189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ţinutu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nţe specif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ăţi de învăţ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aţ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3. Proiectarea unei unităţi de învăţar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38088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ce scop voi 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98108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 voi 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350532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 ce voi 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02920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m voi 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6629400" y="198108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ât s-a realiza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1600200" y="2286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1"/>
          <p:cNvSpPr/>
          <p:nvPr/>
        </p:nvSpPr>
        <p:spPr>
          <a:xfrm>
            <a:off x="3200400" y="2286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4686480" y="22860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13"/>
          <p:cNvSpPr/>
          <p:nvPr/>
        </p:nvSpPr>
        <p:spPr>
          <a:xfrm>
            <a:off x="6248520" y="22096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98280" y="3581280"/>
            <a:ext cx="167652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rea competenţe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15"/>
          <p:cNvSpPr/>
          <p:nvPr/>
        </p:nvSpPr>
        <p:spPr>
          <a:xfrm>
            <a:off x="83808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1828800" y="3581280"/>
            <a:ext cx="152388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Selectarea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onţinuturi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17"/>
          <p:cNvSpPr/>
          <p:nvPr/>
        </p:nvSpPr>
        <p:spPr>
          <a:xfrm>
            <a:off x="251460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3505320" y="3581280"/>
            <a:ext cx="137160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naliza resurse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19"/>
          <p:cNvSpPr/>
          <p:nvPr/>
        </p:nvSpPr>
        <p:spPr>
          <a:xfrm>
            <a:off x="403848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5029200" y="3581280"/>
            <a:ext cx="167652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area activităţilor de învăţ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5562720" y="29718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22"/>
          <p:cNvSpPr/>
          <p:nvPr/>
        </p:nvSpPr>
        <p:spPr>
          <a:xfrm>
            <a:off x="7010280" y="3581280"/>
            <a:ext cx="182880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Stabilirea instrumentelor de evalu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23"/>
          <p:cNvSpPr/>
          <p:nvPr/>
        </p:nvSpPr>
        <p:spPr>
          <a:xfrm>
            <a:off x="7238880" y="29718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26"/>
          <p:cNvSpPr/>
          <p:nvPr/>
        </p:nvSpPr>
        <p:spPr>
          <a:xfrm>
            <a:off x="4419720" y="5029200"/>
            <a:ext cx="4724280" cy="914400"/>
          </a:xfrm>
          <a:custGeom>
            <a:avLst/>
            <a:gdLst>
              <a:gd name="textAreaLeft" fmla="*/ 0 w 4724280"/>
              <a:gd name="textAreaRight" fmla="*/ 3689280 w 4724280"/>
              <a:gd name="textAreaTop" fmla="*/ 7585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3990" y="7200"/>
                </a:lnTo>
                <a:lnTo>
                  <a:pt x="13990" y="17916"/>
                </a:lnTo>
                <a:lnTo>
                  <a:pt x="0" y="17916"/>
                </a:lnTo>
                <a:lnTo>
                  <a:pt x="0" y="21600"/>
                </a:lnTo>
                <a:lnTo>
                  <a:pt x="16867" y="21600"/>
                </a:lnTo>
                <a:lnTo>
                  <a:pt x="16867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27"/>
          <p:cNvSpPr/>
          <p:nvPr/>
        </p:nvSpPr>
        <p:spPr>
          <a:xfrm flipH="1">
            <a:off x="-720" y="5029200"/>
            <a:ext cx="4419720" cy="914400"/>
          </a:xfrm>
          <a:custGeom>
            <a:avLst/>
            <a:gdLst>
              <a:gd name="textAreaLeft" fmla="*/ 0 w 4419720"/>
              <a:gd name="textAreaRight" fmla="*/ 3451320 w 4419720"/>
              <a:gd name="textAreaTop" fmla="*/ 7585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8100"/>
                </a:lnTo>
                <a:lnTo>
                  <a:pt x="13990" y="8100"/>
                </a:lnTo>
                <a:lnTo>
                  <a:pt x="13990" y="17916"/>
                </a:lnTo>
                <a:lnTo>
                  <a:pt x="0" y="17916"/>
                </a:lnTo>
                <a:lnTo>
                  <a:pt x="0" y="21600"/>
                </a:lnTo>
                <a:lnTo>
                  <a:pt x="16867" y="21600"/>
                </a:lnTo>
                <a:lnTo>
                  <a:pt x="16867" y="8100"/>
                </a:lnTo>
                <a:lnTo>
                  <a:pt x="21600" y="8100"/>
                </a:lnTo>
                <a:lnTo>
                  <a:pt x="15429" y="0"/>
                </a:lnTo>
                <a:close/>
              </a:path>
            </a:pathLst>
          </a:cu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3. Proiectarea unei unităţi de învăţar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Elemente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Tema (numele unităţii de învăţare) – enunţ legat de analiza scopurilor învăţării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Competenţe specifice din programa şcolară (numerele acestora);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Activităţi de învăţare – activităţi pe care elevii le realizează în vederea formării competenţelor vizate; presupun orientarea către un scop, redat prin tema activităţii. Activităţile sunt propuse elevilor spre rezolvare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Resurse – specificări de timp, de loc, forme de organizare a clasei, material didactic folosit etc. pentru fiecare activitate de învăţare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Forme de organizare a clasei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Mijloace de învăţămân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Alocare de timp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Orice alte elemente util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Evaluare – instrumente sau modalităţi de evaluare aplicate la clasă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ffffff"/>
                </a:solidFill>
                <a:latin typeface="Century Gothic"/>
              </a:rPr>
              <a:t>Obs. la finalul fiecărei unităţi de învăţare se realizează evaluare sumativă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4. Proiectarea secvenţială a lecţiilor</a:t>
            </a:r>
            <a:r>
              <a:rPr b="0" lang="ro-RO" sz="3600" spc="-1" strike="noStrike">
                <a:solidFill>
                  <a:srgbClr val="ebebeb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Lecţia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Componentă operaţională, pe termen scurt, a unităţii de învăţar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Oferă înţelegerea procesului din perspectivă operativă, tactică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Elaborarea strategiilor didactic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Identificarea celor mai adecvate metode şi activităţi de învăţare; conceperea şi organizarea situaţiilor de învăţar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28600" y="2286000"/>
          <a:ext cx="8686800" cy="4297320"/>
        </p:xfrm>
        <a:graphic>
          <a:graphicData uri="http://schemas.openxmlformats.org/drawingml/2006/table">
            <a:tbl>
              <a:tblPr/>
              <a:tblGrid>
                <a:gridCol w="1600200"/>
                <a:gridCol w="3124080"/>
                <a:gridCol w="39625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tradiţional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modern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ul elevulu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măreşte prelegerea, expunerea, explicaţ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imă puncte de vedere propr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cearcă să reţină şi să reproducă ideile auz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ează un schimb de idei cu ceilalţ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ptă în mod pasiv ideile transmi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gumentează, pune întrebări cu scopul de a înţelege sensul unor ide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crează izol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perează în rezolvarea sarcinilor de lucr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Elaborarea strategiilor didactic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76320" y="2133720"/>
          <a:ext cx="8839080" cy="4389480"/>
        </p:xfrm>
        <a:graphic>
          <a:graphicData uri="http://schemas.openxmlformats.org/drawingml/2006/table">
            <a:tbl>
              <a:tblPr/>
              <a:tblGrid>
                <a:gridCol w="1828800"/>
                <a:gridCol w="3047760"/>
                <a:gridCol w="39625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tradiţional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modern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ul profesorulu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une, ţine preleger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ează şi moderează învăţar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une puncte de ved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jută elevii să înţeleagă şi să explice punctele de vedere prop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consideră şi se manifestă ca un pări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e partener în învăţ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Elaborarea strategiilor didactic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28600" y="1371600"/>
          <a:ext cx="8686800" cy="5394240"/>
        </p:xfrm>
        <a:graphic>
          <a:graphicData uri="http://schemas.openxmlformats.org/drawingml/2006/table">
            <a:tbl>
              <a:tblPr/>
              <a:tblGrid>
                <a:gridCol w="1600200"/>
                <a:gridCol w="3124080"/>
                <a:gridCol w="39625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tradiţional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modern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21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 de realizare a învăţă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văţarea are loc predominant prin memorare şi reproducere de cunoştinţe, prin apel la metode clasice şi valid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văţarea are loc predominant prin formare de competenţe şi deprinderi pract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văţarea conduce la competiţie între elevi, cu scopul de ierarhiz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Învăţarea se realizează prin cooper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Elaborarea strategiilor didactic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80880" y="1447920"/>
          <a:ext cx="8458200" cy="5486400"/>
        </p:xfrm>
        <a:graphic>
          <a:graphicData uri="http://schemas.openxmlformats.org/drawingml/2006/table">
            <a:tbl>
              <a:tblPr/>
              <a:tblGrid>
                <a:gridCol w="1532160"/>
                <a:gridCol w="3498840"/>
                <a:gridCol w="34272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tradiţional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ii didactice – orientare modern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re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zează măsurarea şi aprecierea cunoştinţe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zează măsurarea şi aprecierea competenţelor (ce poate face cu ceea ce şti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e accent pe aspectul cantitativ (cât de multă informaţie deţine elevu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e accent pe elementele de ordin calitativ (valori, atitudini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zează clasificarea elevi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zează progresul în învăţare pentru fiecare elev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4. Proiectarea evaluării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competenţele de evaluat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rforman</a:t>
            </a: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ţele minime, medii şi superioare pe care le pot atinge elevi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specificul colectivului de elev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momentul (iniţială, continuă, finală) şi scopul (predictivă, formativă, sumativă) evaluări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entury Gothic"/>
              </a:rPr>
              <a:t>instrumentele de evaluar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600" spc="-1" strike="noStrike">
                <a:solidFill>
                  <a:srgbClr val="ea6312"/>
                </a:solidFill>
                <a:latin typeface="Century Gothic"/>
              </a:rPr>
              <a:t>Este necesară…..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Identificarea elementelor definitorii ale curriculumului şi rolului acestor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Cunoaşterea etapelor proiectării demersului didactic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Realizarea planificării şi proiectării didactice pentru modulele din programa școlară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1.Elemente definitorii ale curriculumului. Rol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Century Gothic"/>
              </a:rPr>
              <a:t>Curriculumul național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reprezintă ansamblul coerent a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planurilor-cadru de învățământ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și al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programelor școlare di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învățământul preuniversit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1.Elemente definitorii ale curriculumului. Planurile-cadru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isciplinele, domeniile de studiu, respectiv modulele de pregătir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obligatorii și opțional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numărul minim și maxim d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ore aferente acestora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Trunchiul comun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 disciplinele/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omeniil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 studiu/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modulele de pregătire obligatorii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urriculumul diferen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ţiat – disciplinele /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omeniil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 studiu/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modulele de pregătire obligatorii, diferenţiat în funcţie de specializar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urriculumul la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cizia școlii se constituie din disciplinele/ domeniile d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studiu/ modulele de pregătire opțional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1.Elemente definitorii ale curriculumului. </a:t>
            </a:r>
            <a:r>
              <a:rPr b="1" lang="en-US" sz="3200" spc="-1" strike="noStrike">
                <a:solidFill>
                  <a:srgbClr val="ea6312"/>
                </a:solidFill>
                <a:latin typeface="Century Gothic"/>
              </a:rPr>
              <a:t>Programele </a:t>
            </a: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şcolare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Programele școlare stabilesc, pentru fiecare disciplină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domeniul de studiu/ modulul de pregătire din planul de învățământ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finalitățile urmărit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: competen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ţe generale şi specifice, valori şi atitudini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conținuturile fundamentale de ordin teoretic, experimental și aplicativ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;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</a:t>
            </a:r>
            <a:r>
              <a:rPr b="0" lang="ro-RO" sz="2400" spc="-1" strike="noStrike">
                <a:solidFill>
                  <a:srgbClr val="ffffff"/>
                </a:solidFill>
                <a:latin typeface="Century Gothic"/>
              </a:rPr>
              <a:t>rientări metodologice general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1.Elemente definitorii ale curriculumului. </a:t>
            </a:r>
            <a:r>
              <a:rPr b="1" lang="en-US" sz="3200" spc="-1" strike="noStrike">
                <a:solidFill>
                  <a:srgbClr val="ea6312"/>
                </a:solidFill>
                <a:latin typeface="Century Gothic"/>
              </a:rPr>
              <a:t>Programele </a:t>
            </a: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şcolare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coperă 75% din orele de predare și evaluare, lăsând l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dispoziția cadrului didactic 25% din timpul aloca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disciplinei/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domeniului de studiu respectiv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pentr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învățar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remedială, în cazul copiilor cu probleme specia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consolidarea cunoștințelor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stimularea elevilor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capabili de performanțe superioare, conform unor planuri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Century Gothic"/>
              </a:rPr>
              <a:t>individuale de învățare elaborate pentru fiecare elev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3200" spc="-1" strike="noStrike">
                <a:solidFill>
                  <a:srgbClr val="ea6312"/>
                </a:solidFill>
                <a:latin typeface="Century Gothic"/>
              </a:rPr>
              <a:t>2. Etapele proiectării demersului didactic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Proiectarea demersului didactic – activitatea desfăşurată de profesor care constă în anticiparea etapelor şi acţiunilor concrete de realizare a predării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Lectura personalizată a programelor şcolar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Planificarea calendaristică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Proiectarea secvenţială a unităţilor de învăţare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Proiectarea secvenţială a lecţiilor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roiectarea evalu</a:t>
            </a:r>
            <a:r>
              <a:rPr b="0" lang="ro-RO" sz="2600" spc="-1" strike="noStrike">
                <a:solidFill>
                  <a:srgbClr val="ffffff"/>
                </a:solidFill>
                <a:latin typeface="Century Gothic"/>
              </a:rPr>
              <a:t>ării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 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Etapa 1. Lectura personalizată a programelor şcolare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mersul didactic personalizat – dreptul profesorului de a lua decizii cu privire la un parcurs şcolar individualizat: asociază opti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elementele programei (competenţe generale, specifice, conţinuturi, activităţi de învăţare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alocarea de resurse (metodologice, temporale şi materiale)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Programa stabileşte competenţe, conţinuturi;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Profesorul poate opta pentru activităţi de învăţare, ordinea de parcurgere a conţinuturilor, mijloace didactice etc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Competenţă -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&gt; C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ompetenţă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-&gt;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Conţinuturi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-&gt;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 Activităţi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generală        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&lt;-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   specifică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   &lt;-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  &lt;- </a:t>
            </a:r>
            <a:r>
              <a:rPr b="0" lang="ro-RO" sz="2200" spc="-1" strike="noStrike">
                <a:solidFill>
                  <a:srgbClr val="ffffff"/>
                </a:solidFill>
                <a:latin typeface="Century Gothic"/>
              </a:rPr>
              <a:t>de învăţar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2. Etapele proiectării demersului didactic.</a:t>
            </a:r>
            <a:br>
              <a:rPr sz="2900"/>
            </a:br>
            <a:r>
              <a:rPr b="1" lang="ro-RO" sz="2900" spc="-1" strike="noStrike">
                <a:solidFill>
                  <a:srgbClr val="ea6312"/>
                </a:solidFill>
                <a:latin typeface="Century Gothic"/>
              </a:rPr>
              <a:t> Etapa 2. Planificarea calendaristică orientativă</a:t>
            </a:r>
            <a:endParaRPr b="0" lang="en-US" sz="29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Şcoala ......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Profesor: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just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Disciplina....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Clasa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/ Nr. ore pe s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ăpt.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Planificare calendaristic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ă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(Anul </a:t>
            </a: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şcolar .....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Century Gothic"/>
              </a:rPr>
              <a:t>Filiera teoretică, profil real, specializarea .................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33520" y="3809880"/>
          <a:ext cx="8076960" cy="1981440"/>
        </p:xfrm>
        <a:graphic>
          <a:graphicData uri="http://schemas.openxmlformats.org/drawingml/2006/table">
            <a:tbl>
              <a:tblPr/>
              <a:tblGrid>
                <a:gridCol w="1143000"/>
                <a:gridCol w="1549440"/>
                <a:gridCol w="1346040"/>
                <a:gridCol w="1346040"/>
                <a:gridCol w="1473480"/>
                <a:gridCol w="1218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atea de învăţ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nţe specif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ţinutur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ăr de ore aloc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ăptămâ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aţ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a Calugaru</dc:creator>
  <dc:description/>
  <dc:language>en-US</dc:language>
  <cp:lastModifiedBy>Daniela Calugaru</cp:lastModifiedBy>
  <dcterms:modified xsi:type="dcterms:W3CDTF">2017-08-31T12:08:12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