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65C-3358-4CDF-BBEB-AC527D0A80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652C-449D-46CF-A47A-BF9AC25A5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9A03-954A-465B-B24C-F5A2F8BAE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B0E-AE61-4220-A626-02C49215A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656-27DC-4222-B896-EB83FEA06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D03-C2CB-4020-96B2-F4142D3B97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BB8-3900-48AC-853E-734FCC9C3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4562-32DC-43EE-98FF-4AB53F73E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793-AF2C-45A7-888B-63FC0806A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9D6-FDD7-48B8-AE07-F2EFEE4CC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312-F1B8-475B-A8B2-380B41C10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9305-CE35-40BE-A09A-6C7AB421B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2F73-1880-4411-94F5-8B96B80CE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5FD-E871-4627-869F-38AC3086FB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687-84D5-4903-8B06-F4FA6B09A3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F2FC-F12D-4B20-B699-A7C4F5A76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94A-2BD4-4A6C-9365-982247F45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0E6-60D0-4160-A5E8-197EBCA09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18C-41BE-4058-8F50-FB47A0484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3D9-58ED-4F9D-9755-AC704B87F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632-FCB4-4A0A-A85F-A63181548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AC2-6DA5-4892-90DA-930D929E5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888-CDA6-4CBE-B372-8BE1CA71C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B9F-D53C-4AA3-AA00-6610A555C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3CE-BE5A-43D9-AD98-2A5D392B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465-5599-40F8-95CA-B3C991F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BC7-E66E-416A-9CAB-DB2201DB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4EC-BE25-497D-B725-6F70F397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83A-1E4B-413F-94EA-7051018B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ABD-05FB-48A0-BAF4-34285179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7854-75BB-4777-95E6-048D3F1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9E2-D4AC-4BC5-A75C-75EC0DD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CB92-F96A-41C7-9692-EC145C37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A96-C291-404A-B60B-1D5643F7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542-1650-4470-A354-C29743B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11A-2614-44E9-89F0-04BB5E2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25D-0534-4096-906C-50880F4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B61-A3AD-4803-A93E-176C113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277D-3EFC-4AD1-93D3-709A7B1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16FA-41A7-436F-8C74-972EC854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08C1-83F0-427F-860D-2DDF458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9E7-FA84-416E-B488-C9204C75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F9B-C4BC-48F3-BCF6-07774062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C31-249C-458A-B66E-DF2A168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FE2-0052-4A45-A56C-36754B65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CF2-6519-4B59-9FD3-0A9B9B0F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627-1E5B-40A3-B551-2687F026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ABC-9BFA-4E68-919B-B18B9EE3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5F7-82A0-4CE2-ACFE-EA97FE8C9A7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977d67">
                  <a:alpha val="85098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23600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4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74560" y="5479920"/>
            <a:ext cx="8569440" cy="1368720"/>
          </a:xfrm>
          <a:prstGeom prst="rect">
            <a:avLst/>
          </a:prstGeom>
          <a:gradFill rotWithShape="0">
            <a:gsLst>
              <a:gs pos="0">
                <a:srgbClr val="977d67">
                  <a:alpha val="60000"/>
                </a:srgbClr>
              </a:gs>
              <a:gs pos="100000">
                <a:srgbClr val="977d67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E861-1709-46B1-B092-7B81C3B4AF5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c_speranta@ise.ro" TargetMode="External"/><Relationship Id="rId2" Type="http://schemas.openxmlformats.org/officeDocument/2006/relationships/hyperlink" Target="mailto:c_speranta@ise.ro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ldr.ro/wp-content/uploads/2016/04/2.-Document_fundamentare_plan-cadru-gimnaziu_ISE.pdf" TargetMode="External"/><Relationship Id="rId2" Type="http://schemas.openxmlformats.org/officeDocument/2006/relationships/hyperlink" Target="http://www.ise.ro/wp-content/uploads/2015/07/Document-politici-curriculum_draft_mai_2016.pd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edu.ro/sites/default/files/Lista%20GrupLucruCurriculum%20V-VIII_0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1680" y="2276640"/>
            <a:ext cx="40719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Programa școlar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Consiliere și dezvoltare personală </a:t>
            </a:r>
            <a:br>
              <a:rPr sz="2300"/>
            </a:br>
            <a:r>
              <a:rPr b="1" lang="ro-RO" sz="2300" spc="-1" strike="noStrike">
                <a:solidFill>
                  <a:srgbClr val="ffffff"/>
                </a:solidFill>
                <a:latin typeface="Arial"/>
              </a:rPr>
              <a:t>gimnaziu</a:t>
            </a:r>
            <a:br>
              <a:rPr sz="2300"/>
            </a:b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5643720"/>
            <a:ext cx="87487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peranţa Ţibu</a:t>
            </a:r>
            <a:br>
              <a:rPr sz="2400"/>
            </a:b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stitutul de Ştiinţe ale Educaţiei Bucur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Sinaia, 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şcolară Consiliere și dezvoltare personală gimnaziu</a:t>
            </a:r>
            <a:r>
              <a:rPr b="0" lang="en-US" sz="2000" spc="-1" strike="noStrike">
                <a:solidFill>
                  <a:srgbClr val="0849a0"/>
                </a:solidFill>
                <a:latin typeface="Arial"/>
                <a:ea typeface="宋体"/>
              </a:rPr>
              <a:t>:</a:t>
            </a:r>
            <a:r>
              <a:rPr b="0" lang="en-US" sz="2400" spc="-1" strike="noStrike">
                <a:solidFill>
                  <a:srgbClr val="0849a0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potenţialului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ai albi"/>
          <p:cNvPicPr/>
          <p:nvPr/>
        </p:nvPicPr>
        <p:blipFill>
          <a:blip r:embed="rId1"/>
          <a:stretch/>
        </p:blipFill>
        <p:spPr>
          <a:xfrm>
            <a:off x="539640" y="2852640"/>
            <a:ext cx="223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amila"/>
          <p:cNvPicPr/>
          <p:nvPr/>
        </p:nvPicPr>
        <p:blipFill>
          <a:blip r:embed="rId2"/>
          <a:stretch/>
        </p:blipFill>
        <p:spPr>
          <a:xfrm>
            <a:off x="3780000" y="2970360"/>
            <a:ext cx="244944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oacaze"/>
          <p:cNvPicPr/>
          <p:nvPr/>
        </p:nvPicPr>
        <p:blipFill>
          <a:blip r:embed="rId3"/>
          <a:stretch/>
        </p:blipFill>
        <p:spPr>
          <a:xfrm>
            <a:off x="971640" y="4653000"/>
            <a:ext cx="266544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etita in campul cu maci"/>
          <p:cNvPicPr/>
          <p:nvPr/>
        </p:nvPicPr>
        <p:blipFill>
          <a:blip r:embed="rId4"/>
          <a:stretch/>
        </p:blipFill>
        <p:spPr>
          <a:xfrm>
            <a:off x="6300720" y="3284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507672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50920" y="3284640"/>
            <a:ext cx="8137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tarea de bin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a copilului cu sine şi în relaţie cu alţ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ştintizarea propriilor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resurs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şi a mecanismelor personale de a face faţă situaţiilor dific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reşterea autonomiei î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învăţ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gătirea pentru 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umea mar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– 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arier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ă</a:t>
            </a:r>
            <a:r>
              <a:rPr b="1" lang="en-US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,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 prof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e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ie,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ocupaţie, meser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Preocupare pentru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ănătatea personală şi a medi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92360" y="1663200"/>
            <a:ext cx="51436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gimnaz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Fundamentarea pe date ale </a:t>
            </a:r>
            <a:r>
              <a:rPr b="1" lang="ro-RO" sz="24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ercet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Review de literatură - competenţe, metode de implementare, metode de evaluare (ISE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Dezvoltarea abilităţilor noncognitive la adolescenţii din România (UNICEF, 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Studii de caz – consilierea în curriculumul altor ţări (ISE,20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orezu_BogdenP"/>
          <p:cNvPicPr/>
          <p:nvPr/>
        </p:nvPicPr>
        <p:blipFill>
          <a:blip r:embed="rId1"/>
          <a:stretch/>
        </p:blipFill>
        <p:spPr>
          <a:xfrm>
            <a:off x="179280" y="1773360"/>
            <a:ext cx="3024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“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etențele noncognitive sunt un concept umbrelă care acoperă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cele competențe care nu pot fi măsurate prin teste de inteligență sau de performanță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” (Kautz et al., OECD 2014). În literatură le regăsim sub diferite denumiri: competențe socio-emoționale, </a:t>
            </a:r>
            <a:r>
              <a:rPr b="0" i="1" lang="ro-RO" sz="2000" spc="-1" strike="noStrike">
                <a:solidFill>
                  <a:srgbClr val="0849a0"/>
                </a:solidFill>
                <a:latin typeface="Arial"/>
              </a:rPr>
              <a:t>soft-skills</a:t>
            </a: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, abilități de viață, inteligență emoțională, trăsături de personalitate sau caracter, calități morale. Se referă la un set de cunoștințe, abilități și atitudini care stau la baza succesul școlar și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67280" y="1663560"/>
            <a:ext cx="489744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rei domenii de inter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ș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socio-emoț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ezvoltarea carierei (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American School Counselor Association – ASCA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riterii de selecț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maleabilitat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– măsura în care s-a dovedit că respectiva competență poate fi dezvoltată prin intervenții de tip educaț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pot fi subsumate competențelor-cheie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, în mod special competențelor: sociale și civice, spirit de inițiativă și antreprenoriat, competența de a învăța să înveți, competența de comunicare în limba maternă, competențelor digi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școlar: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uprinde competențe noncognitive a căror bună dezvoltare influențează în mod pozitiv succesul școlar al elevil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concept de sine școlar, autoeficacitate școlară, autoreglarea învăță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Domeniul socio-emoțional: 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 referă la acele cunoștințe, abilități și atitudini care îi ajută pe elevi să își gestioneze stările emoționale și să aibă relații funcționale cu ceilalț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Ex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emoționale (exprimare emoțională, înțelegerea emoțiilor, reglarea emoționa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mpetențe interpersonale (cooperarea, disponibilitatea de folosi ceva în comun/de a împărți cu alții, sprijinul, comunicarea, exprimarea empatiei, oferirea de încurajare sau susținere verbală, în general abordarea prietenoasă sau amabi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67280" y="1663200"/>
            <a:ext cx="489744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Ce sunt competențele non-cogni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Domeniul dezvoltarea carierei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: se referă la capacitatea unei persoane de a se orienta în spațiul educațional și de mun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Ex: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c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pacitatea de a căuta, colecta și înțelege informații, precum și de a distinge între cele relevante și cele irelevante; selectarea unei alegeri din opțiunile disponib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ac_MirelaM"/>
          <p:cNvPicPr/>
          <p:nvPr/>
        </p:nvPicPr>
        <p:blipFill>
          <a:blip r:embed="rId1"/>
          <a:stretch/>
        </p:blipFill>
        <p:spPr>
          <a:xfrm>
            <a:off x="0" y="1628640"/>
            <a:ext cx="35640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45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26920" y="3284640"/>
            <a:ext cx="7705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  <a:ea typeface="宋体"/>
              </a:rPr>
              <a:t>5 arii de dezvolt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Autocunoaș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Dezvoltare socio-emoțional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Învăț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Carier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849a0"/>
                </a:solidFill>
                <a:latin typeface="Arial"/>
              </a:rPr>
              <a:t>Stild e viața sănătos și ecilib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4 Competențe generale (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1. Adoptarea atitudinilor pozitive faţă de sine şi a unui stil de viaţ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Sănătos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e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chilibrat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2. Relaţionarea armonioasă cu ceilalţ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în contexte școlare ș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xtrașcol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3. Reflectarea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asupra motivației ș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eficacității strategiilor pentru progres în învăț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4.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  <a:ea typeface="Arial"/>
              </a:rPr>
              <a:t>Luarea deciziilor legate de continuarea studiilor şi carieră prin valorificarea informațiilor despre sine, educație și ocupa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8 Competențe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76720" y="1628640"/>
            <a:ext cx="586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849a0"/>
                </a:solidFill>
                <a:latin typeface="Arial"/>
              </a:rPr>
              <a:t>Consiliere şi dezvoltare personală la gimnaziu (clasele V-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aloane"/>
          <p:cNvPicPr/>
          <p:nvPr/>
        </p:nvPicPr>
        <p:blipFill>
          <a:blip r:embed="rId1"/>
          <a:stretch/>
        </p:blipFill>
        <p:spPr>
          <a:xfrm>
            <a:off x="0" y="1484280"/>
            <a:ext cx="255600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627280" y="3141720"/>
            <a:ext cx="62658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Timpul schim</a:t>
            </a:r>
            <a:r>
              <a:rPr b="1" lang="en-US" sz="2800" spc="-1" strike="noStrike">
                <a:solidFill>
                  <a:srgbClr val="0849a0"/>
                </a:solidFill>
                <a:latin typeface="Arial"/>
              </a:rPr>
              <a:t>b</a:t>
            </a:r>
            <a:r>
              <a:rPr b="1" lang="ro-RO" sz="2800" spc="-1" strike="noStrike">
                <a:solidFill>
                  <a:srgbClr val="0849a0"/>
                </a:solidFill>
                <a:latin typeface="Arial"/>
              </a:rPr>
              <a:t>ării: prez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If you don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`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t step forward, 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ou will alwa</a:t>
            </a:r>
            <a:r>
              <a:rPr b="1" i="1" lang="en-US" sz="2800" spc="-1" strike="noStrike">
                <a:solidFill>
                  <a:srgbClr val="4490f6"/>
                </a:solidFill>
                <a:latin typeface="Arial"/>
              </a:rPr>
              <a:t>y</a:t>
            </a:r>
            <a:r>
              <a:rPr b="1" i="1" lang="ro-RO" sz="2800" spc="-1" strike="noStrike">
                <a:solidFill>
                  <a:srgbClr val="4490f6"/>
                </a:solidFill>
                <a:latin typeface="Arial"/>
              </a:rPr>
              <a:t>s be in the same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modelul învățării la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714840" y="2786040"/>
            <a:ext cx="5214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experiențială (Kolb 1984: experiență concretă, observare reflexivă, conceptualizarea abstractă, experimentare activ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prin comunicare și prin observarea alt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Învățare reflexiv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   </a:t>
            </a:r>
            <a:r>
              <a:rPr b="0" lang="ro-RO" sz="2000" spc="-1" strike="noStrike">
                <a:solidFill>
                  <a:srgbClr val="0849a0"/>
                </a:solidFill>
                <a:latin typeface="Calibri"/>
              </a:rPr>
              <a:t>Ciclul dezvoltării unei competențe (Pacearcă 2013: explorare, analiză, sinteză, reinvest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are este specificul evaluării la ora de Consiliere și dezvoltare personal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57680" y="2786040"/>
            <a:ext cx="607212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Promovarea unei culturi a evaluării achizițiilor elevului și nu a evaluării elevulu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Sultana, 201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reflecția și auto(evaluarea), evaluare între egal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interviuri, proiecte sau sarcini specif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demonstrație multimed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jurnale refle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- simulări, demonstrarea practică a competenței, produse ale activităț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monitorizarea planului individual de dezvol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849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  <a:ea typeface="Arial"/>
              </a:rPr>
              <a:t>portofoliul de învățare (proces și produs) include elemente semnificative din activitatea elevului, care reflectă nivelul atins în formarea şi dezvoltarea competenţelor cheie, oferind o imagine comprehensivă asupra progresului elev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22860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Resurse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lasa a V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0040" y="3141720"/>
            <a:ext cx="73580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314316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3714840" y="2786040"/>
            <a:ext cx="48578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Sarcini de învăț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Reflecție, (auto)evalu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tinuare, aprofundare (acas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849a0"/>
                </a:solidFill>
                <a:latin typeface="Calibri"/>
              </a:rPr>
              <a:t>Conexiuni interdisciplin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663560"/>
            <a:ext cx="863604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Conclu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26920" y="2428920"/>
            <a:ext cx="77058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  <a:ea typeface="宋体"/>
              </a:rPr>
              <a:t>Programa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școlară Consiliere şi dezvoltare person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la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Un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gram coerent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consiliere şi dezvoltare personală derulat pe 4 a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Rol de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evenţie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, lucrul cu clasa de elevi, implică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toţ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elevii de gimnazi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ea ca şi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continuum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(lifelong guidan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tribuţie la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Profilul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 de form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“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Sp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u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” pentru discu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  <a:ea typeface="宋体"/>
              </a:rPr>
              <a:t>ie, reflec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ţie, analiză, planificare, empowerment, growth mind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  <a:ea typeface="宋体"/>
              </a:rPr>
              <a:t>Consilierul şcolar - </a:t>
            </a:r>
            <a:r>
              <a:rPr b="1" lang="ro-RO" sz="1600" spc="-1" strike="noStrike" u="sng">
                <a:solidFill>
                  <a:srgbClr val="0849a0"/>
                </a:solidFill>
                <a:uFillTx/>
                <a:latin typeface="Arial"/>
                <a:ea typeface="宋体"/>
              </a:rPr>
              <a:t>sprijin, coordonare pentru profesorii diriginţ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849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Consilierea și orientarea în învățământul gimnazial, 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în contextul reformei curricu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1773360"/>
            <a:ext cx="485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My daily routi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49a0"/>
                </a:solidFill>
                <a:latin typeface="Arial"/>
              </a:rPr>
              <a:t>get up, be amazing, go back to b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49a0"/>
                </a:solidFill>
                <a:latin typeface="Arial"/>
              </a:rPr>
              <a:t>V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ă mulţumesc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Speranţa 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nstitutul de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tiin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e ale Educa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c</a:t>
            </a:r>
            <a:r>
              <a:rPr b="0" lang="en-US" sz="20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_speranta@ise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1" descr="Dare"/>
          <p:cNvPicPr/>
          <p:nvPr/>
        </p:nvPicPr>
        <p:blipFill>
          <a:blip r:embed="rId3"/>
          <a:stretch/>
        </p:blipFill>
        <p:spPr>
          <a:xfrm>
            <a:off x="4929120" y="1413000"/>
            <a:ext cx="4214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663200"/>
            <a:ext cx="827892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L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egea Educa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ției Național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1/2011 –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curriculumul naţional este centrat pe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formarea şi dezvoltarea/diversificarea </a:t>
            </a:r>
            <a:r>
              <a:rPr b="1" lang="vi-VN" sz="1600" spc="-1" strike="noStrike">
                <a:solidFill>
                  <a:srgbClr val="0849a0"/>
                </a:solidFill>
                <a:latin typeface="Arial"/>
              </a:rPr>
              <a:t>competenţelor</a:t>
            </a:r>
            <a:r>
              <a:rPr b="0" lang="vi-VN" sz="1600" spc="-1" strike="noStrike">
                <a:solidFill>
                  <a:srgbClr val="0849a0"/>
                </a:solidFill>
                <a:latin typeface="Arial"/>
              </a:rPr>
              <a:t> cheie care conturează profilul de formare al elev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Clasa pregătitoare la ciclul primar, învățământ obligatoriu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– începând cu anul școlar 2012/2013. Anul școlar 2017/2018: generația ajunge în clasa a 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Reforma curriculară în domeniul Consilierii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3 aprobare curriculum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0-2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Dezvoltare personală (OM </a:t>
            </a:r>
            <a:r>
              <a:rPr b="0" lang="en-US" sz="1600" spc="-1" strike="noStrike">
                <a:solidFill>
                  <a:srgbClr val="0849a0"/>
                </a:solidFill>
                <a:latin typeface="Arial"/>
              </a:rPr>
              <a:t>418/19.03.2013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849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2014 aprobare curriculum învățământ profesional de stat cu durata de 3 ani clasele 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IX-XI 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Consiliere și orientare (OM </a:t>
            </a:r>
            <a:r>
              <a:rPr b="0" lang="en-GB" sz="1600" spc="-1" strike="noStrike">
                <a:solidFill>
                  <a:srgbClr val="0849a0"/>
                </a:solidFill>
                <a:latin typeface="Arial"/>
              </a:rPr>
              <a:t>4437/29.08.2014</a:t>
            </a:r>
            <a:r>
              <a:rPr b="0" lang="ro-RO" sz="1600" spc="-1" strike="noStrike">
                <a:solidFill>
                  <a:srgbClr val="0849a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43120" y="5000760"/>
            <a:ext cx="328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71840" y="1642680"/>
            <a:ext cx="6572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fundamentare a noului Plan-cadru pentru gimnaziu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scldr.ro/wp-content/uploads/2016/04/2.-Document_fundamentare_plan-cadru-gimnaziu_ISE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49a0"/>
                </a:solidFill>
                <a:latin typeface="Arial"/>
              </a:rPr>
              <a:t>OM</a:t>
            </a:r>
            <a:r>
              <a:rPr b="1" lang="ro-RO" sz="1800" spc="-1" strike="noStrike">
                <a:solidFill>
                  <a:srgbClr val="0849a0"/>
                </a:solidFill>
                <a:latin typeface="Arial"/>
              </a:rPr>
              <a:t> 3590/ 5 aprilie 2016 – aprobarea Planurilor cadru pentru gimnaz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Planurile cadru pentru învăţământul gimnazial precizează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omeniile 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şi </a:t>
            </a:r>
            <a:r>
              <a:rPr b="0" i="1" lang="en-US" sz="1800" spc="-1" strike="noStrike">
                <a:solidFill>
                  <a:srgbClr val="0849a0"/>
                </a:solidFill>
                <a:latin typeface="Arial"/>
              </a:rPr>
              <a:t>disciplinele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studiate pe parcursul fiecărui an</a:t>
            </a:r>
            <a:r>
              <a:rPr b="0" i="1" lang="ro-RO" sz="1800" spc="-1" strike="noStrike">
                <a:solidFill>
                  <a:srgbClr val="0849a0"/>
                </a:solidFill>
                <a:latin typeface="Arial"/>
              </a:rPr>
              <a:t> şi resursele de timp </a:t>
            </a: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alocate aces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Document de politici educaţionale - Repere pentru proiectarea şi reactualizarea curricumlumului national (ISE 2016) </a:t>
            </a:r>
            <a:r>
              <a:rPr b="0" lang="ro-RO" sz="180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http://www.ise.ro/wp-content/uploads/2015/07/Document-politici-curriculum_draft_mai_201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afele_Anemona"/>
          <p:cNvPicPr/>
          <p:nvPr/>
        </p:nvPicPr>
        <p:blipFill>
          <a:blip r:embed="rId3"/>
          <a:stretch/>
        </p:blipFill>
        <p:spPr>
          <a:xfrm>
            <a:off x="357120" y="1714680"/>
            <a:ext cx="2143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61672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Aria curriculară Consiliere şi ori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Disciplina Consiliere şi dezvoltare pers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                                </a:t>
            </a: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TC                      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-a 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-a 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Clasa a VII</a:t>
            </a: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-a            1                        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49a0"/>
                </a:solidFill>
                <a:latin typeface="Arial"/>
              </a:rPr>
              <a:t>Clasa a VIII-a           1                         0-2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TC=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runchi com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49a0"/>
                </a:solidFill>
                <a:latin typeface="Arial"/>
              </a:rPr>
              <a:t>CDS=Curriculum la deci</a:t>
            </a:r>
            <a:r>
              <a:rPr b="1" lang="ro-RO" sz="1600" spc="-1" strike="noStrike">
                <a:solidFill>
                  <a:srgbClr val="0849a0"/>
                </a:solidFill>
                <a:latin typeface="Arial"/>
              </a:rPr>
              <a:t>zia şcolii (opţ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ebe superb"/>
          <p:cNvPicPr/>
          <p:nvPr/>
        </p:nvPicPr>
        <p:blipFill>
          <a:blip r:embed="rId1"/>
          <a:stretch/>
        </p:blipFill>
        <p:spPr>
          <a:xfrm>
            <a:off x="5867280" y="170028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849a0"/>
                </a:solidFill>
                <a:latin typeface="Arial"/>
              </a:rPr>
              <a:t>Iunie-iulie 2016: constituirea grupului de lucru pentru elaborarea programelor școlare CDP (GLC 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întâlniri la București (august și noiembrie 2016 sprijin Euroguidance Româ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lucru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nsultare publică (decembrie-ianuarie 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integrar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avizare Comisia Naț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trimitere la ordin februarie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Bufnita"/>
          <p:cNvPicPr/>
          <p:nvPr/>
        </p:nvPicPr>
        <p:blipFill>
          <a:blip r:embed="rId1"/>
          <a:stretch/>
        </p:blipFill>
        <p:spPr>
          <a:xfrm>
            <a:off x="6215040" y="1428840"/>
            <a:ext cx="264312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72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rupurilor de lucru (toate disciplinele): </a:t>
            </a:r>
            <a:r>
              <a:rPr b="0" lang="ro-RO" sz="200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s://www.edu.ro/sites/default/files/Lista%20GrupLucruCurriculum%20V-VIII_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mponența GLC 66 precizată și la finalul  programei școlar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MEN : Daniela Călugă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Coordonare științifică ISE: Magdalena Balica, Speranța Țibu, Angela 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2 reprezentanți CND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849a0"/>
                </a:solidFill>
                <a:latin typeface="Arial"/>
              </a:rPr>
              <a:t>15 cadre didactice (AR, B, CT, MH, MM, PH, SV), inclusiv coordonatori CJRAE, consilieri școlari, profesori diriginți de diferit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956720" y="5661000"/>
            <a:ext cx="92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849a0"/>
                </a:solidFill>
                <a:latin typeface="Calibri"/>
                <a:ea typeface="宋体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6429240"/>
            <a:ext cx="54291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849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849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162840" y="1785960"/>
            <a:ext cx="2695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rograma școlară Consilierea și dezvoltare personală gimnaz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1663200"/>
            <a:ext cx="456876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Programa școlară Consiliere şi dezvoltare personal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849a0"/>
                </a:solidFill>
                <a:latin typeface="Arial"/>
                <a:ea typeface="宋体"/>
              </a:rPr>
              <a:t>gimnaz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ghetata"/>
          <p:cNvPicPr/>
          <p:nvPr/>
        </p:nvPicPr>
        <p:blipFill>
          <a:blip r:embed="rId1"/>
          <a:stretch/>
        </p:blipFill>
        <p:spPr>
          <a:xfrm>
            <a:off x="0" y="1557360"/>
            <a:ext cx="3851280" cy="1442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357120" y="3284640"/>
            <a:ext cx="81756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PROVOCĂRI la început de dr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programelor şcolare pornind de l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.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e competențe vom avea în vedere pentru această disciplină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regândirea demersului didactic din perspectiv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achiziţiilor final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le învăţării și a unui model al învățării (Cum învață elevii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luarea în considerare a faptului că elevii din clasele V-VIII se află într-o anumită etapă 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evoluţiei lor cognitive și a dezvoltării socio-emoț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asigurarea unui echilibru între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vechi şi nou (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Cum asigurăm preluarea elementelor de inovație, cum păstrăm ce a fost valoros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competenţelor specif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în corelaţie cu activităţile de învăţare şi conţinuturile învăţăr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849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elaborarea </a:t>
            </a:r>
            <a:r>
              <a:rPr b="1" lang="ro-RO" sz="1400" spc="-1" strike="noStrike">
                <a:solidFill>
                  <a:srgbClr val="0849a0"/>
                </a:solidFill>
                <a:latin typeface="Arial"/>
              </a:rPr>
              <a:t>sugestiilor metodologice </a:t>
            </a:r>
            <a:r>
              <a:rPr b="0" lang="ro-RO" sz="1400" spc="-1" strike="noStrike">
                <a:solidFill>
                  <a:srgbClr val="0849a0"/>
                </a:solidFill>
                <a:latin typeface="Arial"/>
              </a:rPr>
              <a:t>prin reflectarea specificului claselor V-VIII în ceea ce priveşte studierea disciplinei (Ce metode vom avea în vedere? Cum se va realiya evaluarea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Elena</cp:lastModifiedBy>
  <dcterms:modified xsi:type="dcterms:W3CDTF">2017-10-02T12:19:39Z</dcterms:modified>
  <cp:revision>38</cp:revision>
  <dc:subject/>
  <dc:title>PowerPoint Presentation</dc:title>
</cp:coreProperties>
</file>