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928-19F2-45C7-8EEF-2FCEF57E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AF7-9767-4C49-8F2D-834683DD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3FC-C753-4604-81FB-2782E037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77A-867F-4CE2-9D74-6C360AC6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522A-0412-48A4-BB3F-34E363F5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3C95-156F-43DA-91E8-08CF61BE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FA24-A72C-46FB-A3EE-3314BED6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3E30-0734-4C77-B0B7-9D2F4F89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3857-A717-41D9-B9D1-53DCFFCD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267B-4649-4984-B593-3303EB19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4355-F3D1-4E13-98D0-2217B73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624-0E26-48EB-8600-CCB922B4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342C-4DB1-4DD6-8D84-C6670777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60DF-BA9A-40C8-BDC5-6F661E7E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30D4-BE77-45F8-8BA5-94B3FAFE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7F0A-35A0-4D9E-8BD1-E35F0449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4B7F-EC95-49E7-A8A6-B8DD3247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FF2C-EF2F-43E2-8105-C6C91EED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17B2-8ACC-4A2C-B2EF-B6F922A5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2C25-CF8A-4290-9827-38AADBE5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551F-9A0B-4EE1-A1A0-CB632BD2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DA36-9113-4C0F-B5C1-E843FD59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340-CCF6-400C-B073-680C3078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841A-FF66-4CAC-8DDC-ED73DC37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0C12-D882-4DE5-87D0-E6C2E19E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89AB-B40E-445F-898C-47AF897B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F7B4-EB11-4AFD-8E64-B330DD8D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1CD9-3299-42C2-9EAA-11C84100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916E9-E545-4300-987D-5CD6919C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6729C-3446-4083-BF1B-26119756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CACC1-A922-46EF-A3FB-569378A0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FCBA0-3ABA-461A-94D3-8EA35EF1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49E9-6A01-48EC-8421-A572FCC6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557-8B34-4E96-A899-DCC5A9AE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9D25-75D0-48CF-B7FB-CE21C407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E1DB-9121-4FCB-8E3E-0105D81F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9FF47-02C0-4C6A-A383-7ABD75E4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0331D-9573-4762-A9CC-24F8B745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567D3-A8EC-4E31-91A8-D042BE35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0A5AD-A944-4BA9-B353-8E3220B7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634FE-141E-4338-94E6-FC76A93D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96FD-FB59-4921-BD9D-BB2C8AB0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1599-F7B4-4383-8F4C-607C09BE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676A3-E556-4F2D-A84E-DB70B7D5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F01-A450-4C92-8C23-4BDC4470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21947-170E-4877-9DB6-17B8F01A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D0C56-4ABA-41CA-B411-371154AD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4A846-00CE-4584-A428-0AF2F261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AA42A-CA06-4C98-834D-4F2EDB6E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3B09A-2C6C-414D-8D58-5CD410C6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7BAD2-3C5B-43C1-8605-80352DC2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060BA-66AB-4D87-8A17-3E72D637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C0DD7-C908-4071-A95D-14CA1FAA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09094-CDEF-46B9-98ED-C2AB4B89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1F3D2-E719-4B51-BF09-F45C3AED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265-DB0E-4434-B797-8DEE2401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3D8C3-6FEB-416B-AFE1-67948DC8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29B4C-7B0A-4FA1-A31D-24EF3158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0DD5F-AC12-4445-B147-3C679AD7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F1F69-04B4-4132-B316-83F656BB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F9239-1F4B-435C-9B5C-BD7195B5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31416-56D8-4B84-95FF-D215DD08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A0718-D8A8-4B9B-89C7-E6E3478D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61FED-ECE8-4471-BB3F-18A0DDF5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5276F-723C-46DE-B6FD-B1E38CFC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6E983-59C8-4426-A3F3-B616E7B3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E1B-F852-4DAA-A861-736FA052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18F52-553B-4C38-B449-32CDF4EF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E1ADA-DC8B-490B-A77F-AC29C672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FC7D2-BE5D-4B6B-9620-59717B2B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83D46-E32E-4BBD-9FDC-F64F3187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AA5BE-5396-4898-890F-2F0C88F4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2F0B1-4CB7-43C6-990D-4CAEE335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09CF9-E61C-469A-9521-7D76B52E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1810F-66AE-4808-85A0-B1600A6A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761E-8987-4BFB-9F76-6AA8DD0D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7A3C5-3C32-4DE2-8735-59B7DDE8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2EE-F448-4B97-9C75-BCA7663E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8CF0B-C0A5-4195-938C-79310A24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F670C-98FF-43CA-B6E0-311681EC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5C37C-3405-4660-A201-3292BE0A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C2559-E46B-4482-A902-20FB6D39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E81A0-8AFD-4F35-BEB8-B481CE50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1B9EA-F0A9-4B9C-B3E5-E6668030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34DF6-5637-49FC-A9F3-78B6A663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B58F1-2464-4161-83E4-45C734C5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B530A-D469-4022-8362-7510E65C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D3A2E-DD33-44A5-B495-EDF7C668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40F-9D36-41EC-B345-6C843BD4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EFC41-089F-4B17-A14D-C079B85A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25D5A-3FB9-472C-8930-A071D306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0AB44-B061-4522-8C5E-4A830281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B17CF-EA35-4DBB-97FB-DF0AA1DE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88D36-6A08-4B7E-AF5C-9F6D2D12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99464-256F-4F68-A08C-6B11AE06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4921F-7CE5-4ED3-9C2F-E8804BE2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FA677-DD01-431D-90F3-FF2053D9DE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12201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4680" y="4952880"/>
            <a:ext cx="12196800" cy="1911600"/>
            <a:chOff x="-4680" y="4952880"/>
            <a:chExt cx="12196800" cy="1911600"/>
          </a:xfrm>
        </p:grpSpPr>
        <p:sp>
          <p:nvSpPr>
            <p:cNvPr id="49" name="Freeform 16"/>
            <p:cNvSpPr/>
            <p:nvPr/>
          </p:nvSpPr>
          <p:spPr>
            <a:xfrm>
              <a:off x="2255040" y="4952880"/>
              <a:ext cx="9930960" cy="486720"/>
            </a:xfrm>
            <a:custGeom>
              <a:avLst/>
              <a:gdLst>
                <a:gd name="textAreaLeft" fmla="*/ 0 w 9930960"/>
                <a:gd name="textAreaRight" fmla="*/ 9931320 w 9930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54360" y="5236560"/>
              <a:ext cx="12131640" cy="786240"/>
            </a:xfrm>
            <a:custGeom>
              <a:avLst/>
              <a:gdLst>
                <a:gd name="textAreaLeft" fmla="*/ 0 w 12131640"/>
                <a:gd name="textAreaRight" fmla="*/ 12132000 w 1213164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1080" y="4992120"/>
              <a:ext cx="12191040" cy="1872360"/>
              <a:chOff x="1080" y="4992120"/>
              <a:chExt cx="1219104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992120"/>
                <a:ext cx="1219104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84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4680" y="4986000"/>
              <a:ext cx="121968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5F0A1-4920-4E56-858D-4F86772183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4848120" y="300528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4600440" y="3005280"/>
            <a:ext cx="243000" cy="228600"/>
          </a:xfrm>
          <a:custGeom>
            <a:avLst/>
            <a:gdLst>
              <a:gd name="textAreaLeft" fmla="*/ 0 w 243000"/>
              <a:gd name="textAreaRight" fmla="*/ 243360 w 2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59D5F-CF49-47F7-8FA8-FC39264762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39837-3D19-4A81-A15A-D505BBF89C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92779-1CED-4D4F-A5A0-7F375324E9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C58FD-2DF2-4D17-9B24-023956E456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80577-9D86-4FA0-AC2B-C2F0524415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11552400" y="498780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11302920" y="498780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71439-B50C-47AD-A807-6673374830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re 1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8942400" cy="24577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960200" y="3433680"/>
            <a:ext cx="8791560" cy="165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200" spc="-1" strike="noStrike">
                <a:solidFill>
                  <a:srgbClr val="464646"/>
                </a:solidFill>
                <a:latin typeface="Lucida Sans Unicode"/>
              </a:rPr>
              <a:t>STRUCTURA SECȚIUNII</a:t>
            </a:r>
            <a:endParaRPr b="0" lang="en-US" sz="6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200" spc="-1" strike="noStrike">
                <a:solidFill>
                  <a:srgbClr val="464646"/>
                </a:solidFill>
                <a:latin typeface="Lucida Sans Unicode"/>
              </a:rPr>
              <a:t>LIMBA FRANCEZĂ</a:t>
            </a:r>
            <a:endParaRPr b="0" lang="en-US" sz="6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CUPRINDE 16 PAGINI DE ACTIVITĂȚI ORGANIZATE ASTFEL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Test de evaluare inițială – nivel așteptat, A1 – pagina 8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Test de evaluare inițială – analiza și interpretarea rezultatelor obținute de elevi – pagina 8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Unitatea I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Ma famille, mes amis et ... moi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(de la pagina 83 la pagina 89), cuprind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Moi, je suis...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Moi, je suis... (suite)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’adore;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Je vous présente mes am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d. Unitatea a II-a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Ma vie quotidienne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(de la pagina 90 la pagina 96), cuprinde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Une journ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e de ma vie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es trucs pour être en forme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Quelle heure est-il?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Quel temps fait-il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Lucida Sans Unicode"/>
              </a:rPr>
              <a:t>CUPRINDE 16 PAGINI DE ACTIVITĂȚI ORGANIZATE ASTFEL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Unitatea I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Salut, les amis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(de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97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06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), cuprinde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Salut!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Comment tu t’appelles?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Quel âge as-tu?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Les noms des couleurs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5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Dans mon cartable il y 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b.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Unitate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a II-a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oi, à l’école et en famille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(de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07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14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), cuprinde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on emploi du temps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a famille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vous présente ma famille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es cousins en Europe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5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es activités préféré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/>
  <dc:description/>
  <dc:language>en-US</dc:language>
  <cp:lastModifiedBy>Micky</cp:lastModifiedBy>
  <dcterms:modified xsi:type="dcterms:W3CDTF">2017-09-19T11:13:02Z</dcterms:modified>
  <cp:revision>18</cp:revision>
  <dc:subject/>
  <dc:title>Elemente de noutate ale programei școlare pentru disciplina</dc:title>
</cp:coreProperties>
</file>