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5.jpeg" ContentType="image/jpe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2D24-AC82-4EA5-AB43-2DA55A50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052B-4D6D-4243-89CC-1527EED4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40AC-03AB-41E4-968A-5EAF0F4E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B8EF-6A70-4184-AC76-A1BEC597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79A6-D38A-4165-BFAA-703E69E71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C554-CEA0-43CD-968B-DF2AB3F2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180D-7F00-455D-90DF-BD625F90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CD51-EB2A-41DC-8CD0-754E4F62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F9E2-9ED8-496A-91B5-EFAD39E7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4C78-1E73-4344-8CC4-487199C6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5E53-230D-4007-B9E0-501AED3B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1E04-B95B-45B8-924C-8EC3DBA2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C919-09A0-41B4-8294-CC39564E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DD68-EBE7-4AA3-95FB-4E312C5B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D65B-0058-476B-886B-34E71FEB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818C-E2A2-47A2-B52B-ABEF265EC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169A-7B33-493C-9FD7-2AB857B9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2C629-A881-46F2-96CB-8B7082EC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3073C-EAD1-46E6-88FA-E42B8E1B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6831C-6554-46FA-990F-C410D86B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B3404-D311-4187-8810-3DBBA14E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B2602-AC2F-43ED-A6F1-1B0B61E8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88C6-FDB5-485D-B978-B8A63D57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54D22-F348-4BB2-86F8-05195029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2BA48-153D-4119-A74C-CB8DBF4A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1B4D3-2485-4E16-84E3-6F4FD04F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B4A3F-2E38-4E54-8734-EDF6FAD2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8481D-B310-41BB-A9E5-11B9892C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116FA-08FF-41C0-98F2-B96DFC31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38441-D42E-45E2-A5B7-149367F90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4C170-B81D-46BF-A942-B5B81A1C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A8D04-E06D-499D-99DB-FA0ABB5F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CD0AF-A770-4DA0-8879-9916FD8E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AC27-2614-4477-8C3C-682CCA6B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61737-E060-41D1-A939-EA8BAB5B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D43B4-22AB-43AD-AE43-EEB0872E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17F78-3EA3-4F83-80FE-9F2921B4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C6F6A-A5CF-4D20-9E89-3B45E1A6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5BE2C-651B-4474-9C93-ABACB6E0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FD0E2-BABE-465E-B980-F5EA6A72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A4C91-7925-4E68-B52A-F3774B94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0F904-A4E2-41BD-98D9-2263577A1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71903-8183-49FE-84CA-A483DFE2A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A3024-A1B9-4503-80C4-CC5D6042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D782-FA98-4E54-B0DC-90B533B6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16584-CF5D-4C05-A662-D84E5F54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FF065-BF98-4864-B7FC-7420592A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07524-6C0E-411F-B031-25E1957E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0295D-A4A7-44DC-AC85-806AC92E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CA799-B297-42B5-806C-D001E120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190CE-5542-433F-9DD4-575459E2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984E4-7FBD-4AEF-9739-C5294B43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83DE0-0E94-41CC-8FA8-2DB14F7E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C3212-8287-4250-AC42-D3314D3D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546D8-9B62-4709-99D0-53E81951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07B7-77A5-487B-84E7-3F4F18CC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306CD-65C5-41D5-B60C-B24D97C1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32AA7-76A4-4105-A4C4-4951C1A8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7E797-0939-4845-87F4-2A6F1C8E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844EF-8CF7-45D4-B395-E7DA5B5A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FC7DC-6C02-4F33-ACCB-57FEF2F1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395C7-6961-4949-B758-1E7631B2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793F5-E914-4911-8554-514F209C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91077-2624-46AB-AD83-985AAABD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06DB0-8345-4C3B-9C52-CEBB023F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6131A-5A4C-454E-B10E-34F98BF0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2FBF-088D-48A9-B504-175E51E0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1A825-4F1C-4D77-A8E6-A7238B8A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6F653-6B25-4368-865E-F422BACFB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19552-107D-4445-B466-9E36866B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42AB1-1003-4E9F-9C81-569A6502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A7279-8CB4-41FA-8E7B-DBD479CC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163FB-8F70-45F6-9828-99D2EB6A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6B11D-4D95-495D-9A2A-D05AE2F9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D6915-7AED-4C86-8777-31A715F2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9EAA8-4DC9-4ED0-AE83-8F074432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8ED9E-E30F-4803-9418-A86DF50F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019A-6EAC-46CB-BC0A-D2997D19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86158-31AF-486F-A5AF-A9EEDC6B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8C91A-CCDE-4225-BFF8-F033828A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F41AB-8C2D-48F2-9D65-EC6F5507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F0C1A-EDB7-4D60-B597-1C6D8CDB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FA507-D1B2-4EB6-8C05-61D0E48A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9E37D-936F-48AB-A708-6047149D0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1EFE3-FC3B-420B-9EE6-10A0985B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05CAF-57B0-45A7-979B-61756C3C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CA22C-B1E4-4447-9AA7-16A56155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D2471-2740-4BF9-9933-433B8AE7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BB6B-9CF5-4AE8-95EB-C596F73F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C38C5-1483-4F32-8D0C-A3F61055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A9814-0A1C-40AE-B69A-6D268BA0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68336-B734-4D5C-8C7E-3B5498E0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1D480-4396-4CE5-BC1C-BE12C643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CFCBF-A1BF-480C-9CCA-93911C03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31883-5B88-42B8-9F27-D530275A7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80AF2-487A-4800-A96E-78CB5B4A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7844-4158-46F3-BF60-E65399C45486}" type="slidenum"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296F-1503-439B-8D7B-960FBC09AC1E}" type="slidenum">
              <a:rPr b="0" lang="de-A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6974-D418-458F-ABC1-149CAE131061}" type="slidenum"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F0F2-0FE5-47BA-A1D7-6C61AB2319C9}" type="slidenum"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09C6-B186-489C-B54E-8B9DF0141982}" type="slidenum"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9F69-5872-4DFD-BEFA-95B72431168B}" type="slidenum"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2988-80BB-4FF9-BFCD-DE990D19B9FC}" type="slidenum"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60CC-7BE9-45AF-B1F2-18B7FAD333F8}" type="slidenum">
              <a:rPr b="0" lang="de-A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5356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w Cen MT"/>
              </a:rPr>
              <a:t>PENTR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c00000"/>
                </a:solidFill>
                <a:latin typeface="Tw Cen MT"/>
              </a:rPr>
              <a:t>LIMBI MODER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4" descr="Image result for limbi moderne"/>
          <p:cNvPicPr/>
          <p:nvPr/>
        </p:nvPicPr>
        <p:blipFill>
          <a:blip r:embed="rId2"/>
          <a:stretch/>
        </p:blipFill>
        <p:spPr>
          <a:xfrm>
            <a:off x="324000" y="333360"/>
            <a:ext cx="3619440" cy="2381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PRIN FUNCȚIA COMUNICATIV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ORIENTAREA ȘI EVALUAREA REACȚIEI VERBALE/NON-VERB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SELECTAREA FAPTELOR, IDEI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OMBINAREA FAPTELOR, IDEIL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FORMULAREA UNUI RĂSPU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281160" y="274680"/>
            <a:ext cx="8424720" cy="1206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APTAREA STRATEGIEI LA SCOPUL COMUNICĂRI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RELAȚIONAREA COMPETENȚELOR ÎN SCOPUL COMUNICĂRI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ECVAREA SITUAȚIEI DE COMUNICARE ȘI CONTEXTUALIZAREA COMUNICĂRI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REALIZAREA STRATEGIILOR DIDACTICE (PREDARE – EVALUARE) PENTRU OBȚINEREA ACHIZIȚIILOR DE CUNOAȘTERE</a:t>
            </a:r>
            <a:r>
              <a:rPr b="0" lang="ro-RO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RELAȚIONAREA CONȚINUTULUI CU COMPETENȚE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RELAȚIONAREA COMPETENȚELOR CU  FUNCȚIILE COMUNICĂRII ȘI ELEMENTELE DE CONSTRUCȚIE A ACESTO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VIZIBILITATEA PROGRESIEI COMPETENȚEI PRIN VALORIFICAREA CONȚINUTULUI ȘI ADECVAREA ACTIVITĂȚILOR DE PREDARE - ÎNVĂȚARE – EVALUARE</a:t>
            </a:r>
            <a:r>
              <a:rPr b="0" lang="ro-RO" sz="1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VALORIFICAREA ȘI RELAȚIONAREA CUNOȘTINȚELOR ȘI ACHIZIȚIILOR CULTURALE ALE ELEVILOR CU PROCESUL ÎNVĂȚĂRII-EVALUĂR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CTIVITĂȚI DE ÎNVĂȚARE APLICATE, ACTUALIZATE, RACORDATE LA CULTURA ȘI INTERESELE COGNITIVE A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V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LOR, PRIN CARE SE STIMULEAZĂ CREATIVITATEA ȘI EXPRIMAREA OPINIEI PERSON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OFERIREA DE EXEMPLE DE ACTIVITĂȚI DE ÎNVĂȚARE ȘI EVALUARE CENTRATE PE COMPETENȚE MULTI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UTILIZAREA INSTRUMENTELOR DE INFORMARE MODERNE FOLOSITE FRECVENT DE GENERAȚIA ACTUAL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171360" y="268200"/>
            <a:ext cx="852192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900000" y="1447560"/>
            <a:ext cx="77868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ROIECTAREA ACESTORA ASTFEL ÎNCÂT SĂ ABORDEZE NEVOILE DE ÎNVĂȚARE ALE ELEVIL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Ă ÎNCURAJEZE ȘI SĂ MOTIVEZE ELEVII PENTRU A ÎȘI EXERSA COMPETENȚELE ȘI UTILIZA CUNOȘTINȚE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SĂ REFLECTE ACHIZIȚIA ȘI CAPACITATEA ELEVILOR DE A UTILIZA CUNOȘTINȚELE ÎN CONTEXTE N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VALORIFICAREA FEEDBACK-ULUI OFERIT DE ACESTEA ATÂT ASUPRA PERFORMANȚEI DIDACTICE, CÂT ȘI ASUPRA PROGRESULUI ELEVIL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900000" y="1484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ELABORAREA PROGRAMELOR PENTRU LIMBI MODERNE CONFORM </a:t>
            </a: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RECOMANDĂRII PARLAMENTULUI EUROPEAN VIZÂND </a:t>
            </a:r>
            <a:r>
              <a:rPr b="1" i="1" lang="ro-RO" sz="2800" spc="-1" strike="noStrike">
                <a:solidFill>
                  <a:srgbClr val="ff0000"/>
                </a:solidFill>
                <a:latin typeface="Arial"/>
              </a:rPr>
              <a:t>COMPETENŢELE CHEIE DE ÎNVĂȚARE PE TOT PARCURSUL VIEȚII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ȘI </a:t>
            </a: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i="1" lang="ro-RO" sz="2800" spc="-1" strike="noStrike">
                <a:solidFill>
                  <a:srgbClr val="ff0000"/>
                </a:solidFill>
                <a:latin typeface="Arial"/>
              </a:rPr>
              <a:t>CADRULUI EUROPEAN COMUN DE REFERINŢĂ PENTRU LIMBI</a:t>
            </a: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ÎN CEEA CE PRIVEȘTE NIVELURILE LINGVISTICE DE REFERINȚ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182520" y="244440"/>
            <a:ext cx="8802720" cy="1279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ONTRIBUȚIA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PROGRAMELOR PENTRU LIMBI MODERNE LA DEZVOL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REA COMPETENȚELOR CHEIE PRIN RELAȚIONAREA CELOR LINGVISTICE CU CELE SOCIALE, CIVICE, DIGITALE ȘI DE SENSIBILIZARE ȘI EXPRIMARE CULTURAL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1400" indent="-2214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347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APORTUL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 PROGRAMELOR PENTRU LIMBI MODERNE  LA DEZVOLTAREA COMPETENȚELOR CARE SPRIJINĂ INTEGRAREA TINERILOR ÎN EPOCA GLOBALIZĂRII PRIN RACORDAREA LA INSTRUMENTELE DE COMUNICARE TIPICE PENTRU SOCIETATEA CONTEMPORANĂ ȘI FACILITAREA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LIFELONG LEARN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ONTRIBUȚIA PROGRAMELOR PENTRU LIMBI MODERNE LA CREAREA UNUI MEDIU DE ÎNVĂȚARE FACTUAL,  MOTIVANT PENTRU STUDIU ȘI DE CONTEXT SEMNIFICATIV PENTRU TINERII DE A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Arial"/>
              </a:rPr>
              <a:t>FLEXIBILITATE ȘI INOVARE </a:t>
            </a:r>
            <a:r>
              <a:rPr b="0" lang="ro-RO" sz="2700" spc="-1" strike="noStrike">
                <a:solidFill>
                  <a:srgbClr val="000000"/>
                </a:solidFill>
                <a:latin typeface="Arial"/>
              </a:rPr>
              <a:t>– PROGRAMA DE LIMBA MODERNĂ 1/ LIMBA MODERNĂ 2/ LIMBA MODERNĂ 1 – STUDIU INTENSIV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Arial"/>
              </a:rPr>
              <a:t>PROGRAMA PENTRU LIMBA MODERNĂ 1  </a:t>
            </a:r>
            <a:r>
              <a:rPr b="0" lang="ro-RO" sz="2700" spc="-1" strike="noStrike">
                <a:solidFill>
                  <a:srgbClr val="000000"/>
                </a:solidFill>
                <a:latin typeface="Arial"/>
              </a:rPr>
              <a:t>ASIGURĂ PROGRESIA ACCELERATĂ A ACHIZIȚIEI DE COMUNICARE (CONFORM </a:t>
            </a:r>
            <a:r>
              <a:rPr b="0" i="1" lang="ro-RO" sz="2700" spc="-1" strike="noStrike">
                <a:solidFill>
                  <a:srgbClr val="000000"/>
                </a:solidFill>
                <a:latin typeface="Arial"/>
              </a:rPr>
              <a:t>PRECIZĂRILOR </a:t>
            </a:r>
            <a:r>
              <a:rPr b="0" i="1" lang="ro-RO" sz="2700" spc="-1" strike="noStrike">
                <a:solidFill>
                  <a:srgbClr val="ff0000"/>
                </a:solidFill>
                <a:latin typeface="Arial"/>
              </a:rPr>
              <a:t>44961</a:t>
            </a:r>
            <a:r>
              <a:rPr b="0" lang="ro-RO" sz="2700" spc="-1" strike="noStrike">
                <a:solidFill>
                  <a:srgbClr val="ff0000"/>
                </a:solidFill>
                <a:latin typeface="Arial"/>
              </a:rPr>
              <a:t>/25.10.2016</a:t>
            </a:r>
            <a:r>
              <a:rPr b="0" lang="ro-RO" sz="2700" spc="-1" strike="noStrike">
                <a:solidFill>
                  <a:srgbClr val="000000"/>
                </a:solidFill>
                <a:latin typeface="Arial"/>
              </a:rPr>
              <a:t>) DE LA NIVELUL A1 (STRUCTURAT LA FINALUL ÎNVĂȚĂMÂNTULUI PRIMAR) PÂNĂ LA B1 (LA FINALUL GIMNAZIULUI</a:t>
            </a:r>
            <a:r>
              <a:rPr b="0" lang="ro-RO" sz="27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676440" y="255600"/>
            <a:ext cx="800388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826920" y="1557360"/>
            <a:ext cx="8066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TRUCTURAREA PROGRAMELOR PE DEZVOLTAREA ȘI EXERSAREA COMPETENȚE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ORMULAREA COMPETENȚELOR SPECIFICE CONFORM DESCRIPTORILOR AFERENȚI FIECĂRUI NIVEL LINGVISTIC DE REFERINȚĂ ȘI EVIDENȚIEREA PROGRESIEI DE LA UN NIVEL LA ALTUL A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Arial"/>
              </a:rPr>
              <a:t>ABORDAREA INTERDISCIPLINARĂ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Arial"/>
              </a:rPr>
              <a:t>ABORDAREA PROCESULUI PREDĂRII – ÎNVĂȚĂRII ÎNTR-O MANIERĂ INTEGRATĂ: PORNIND DE LA SITUAȚII ȘI CONTEXTE FAPTICE DE ÎNVĂȚARE CARE RELAȚIONEAZĂ COMPETENȚA CU FUNCȚIILE ȘI ELEMENTELE DE CONSTRUCȚIE A COMUNICĂRII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Arial"/>
              </a:rPr>
              <a:t>ASOCIEREA EXPLICITĂ A FUNCȚIILOR COMUNICĂRII CU ELEMENTELE DE CONSTRUCȚIE A ACESTOR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24000" y="1052640"/>
            <a:ext cx="882000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0000"/>
                </a:solidFill>
                <a:latin typeface="Arial"/>
              </a:rPr>
              <a:t>DETERMINAREA UTILIZĂRII METODELOR DE PREDARE- EVALUARE CENTRATE PE GÂNDIREA CRITICĂ,  DISCRIMINATIVĂ, CREATIVĂ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0000"/>
                </a:solidFill>
                <a:latin typeface="Arial"/>
              </a:rPr>
              <a:t>PREPONDERENȚA ÎNVĂȚĂRII DE TIP </a:t>
            </a:r>
            <a:r>
              <a:rPr b="0" i="1" lang="ro-RO" sz="2300" spc="-1" strike="noStrike">
                <a:solidFill>
                  <a:srgbClr val="000000"/>
                </a:solidFill>
                <a:latin typeface="Arial"/>
              </a:rPr>
              <a:t>LEARNING BY DOING</a:t>
            </a:r>
            <a:r>
              <a:rPr b="0" lang="ro-RO" sz="23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i="1" lang="fr-FR" sz="2300" spc="-1" strike="noStrike">
                <a:solidFill>
                  <a:srgbClr val="000000"/>
                </a:solidFill>
                <a:latin typeface="Arial"/>
              </a:rPr>
              <a:t>APPRENTISSAGE </a:t>
            </a:r>
            <a:r>
              <a:rPr b="0" i="1" lang="ro-RO" sz="2300" spc="-1" strike="noStrike">
                <a:solidFill>
                  <a:srgbClr val="000000"/>
                </a:solidFill>
                <a:latin typeface="Arial"/>
              </a:rPr>
              <a:t>EN FAISA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0000"/>
                </a:solidFill>
                <a:latin typeface="Arial"/>
              </a:rPr>
              <a:t>STIMULAREA IMPLICĂRII ELEVILOR ÎN ACTUALIZAREA PERMANENETĂ A CUNOȘTINȚELOR, PRIN VALORIFICAREA LIMBILOR MODERNE CA MODALITATE DE DESCOPERIRE ȘI TRANSMITERE A INFORMAȚIILOR DE ULTIMĂ ORĂ DIN DIVERSE DOMENII ALE VIEȚII SOCIAL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231840" y="231840"/>
            <a:ext cx="8461440" cy="828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7T06:23:42Z</dcterms:created>
  <dc:creator>Cismaru, Mihai</dc:creator>
  <dc:description/>
  <dc:language>en-US</dc:language>
  <cp:lastModifiedBy>Micky</cp:lastModifiedBy>
  <dcterms:modified xsi:type="dcterms:W3CDTF">2017-09-17T19:31:14Z</dcterms:modified>
  <cp:revision>29</cp:revision>
  <dc:subject/>
  <dc:title>NOUL CONCEPT al programelor școlare</dc:title>
</cp:coreProperties>
</file>