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5.xml" ContentType="application/vnd.openxmlformats-officedocument.presentationml.comments+xml"/>
  <Override PartName="/ppt/comments/comment12.xml" ContentType="application/vnd.openxmlformats-officedocument.presentationml.comments+xml"/>
  <Override PartName="/ppt/comments/comment7.xml" ContentType="application/vnd.openxmlformats-officedocument.presentationml.comments+xml"/>
  <Override PartName="/ppt/comments/comment9.xml" ContentType="application/vnd.openxmlformats-officedocument.presentationml.comments+xml"/>
  <Override PartName="/ppt/comments/comment1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odica Cherciu" initials="RC" lastIdx="8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17-08-28T16:02:47.289000000" idx="6">
    <p:pos x="1337" y="2016"/>
    <p:text>trebuie sa gasim un sinonim</p:text>
  </p:cm>
  <p:cm authorId="0" dt="2017-08-28T16:03:07.562000000" idx="7">
    <p:pos x="5410" y="2921"/>
    <p:text>de invatare ale elevului</p:text>
  </p:cm>
</p:cmLst>
</file>

<file path=ppt/comments/comment15.xml><?xml version="1.0" encoding="utf-8"?>
<p:cmLst xmlns:p="http://schemas.openxmlformats.org/presentationml/2006/main">
  <p:cm authorId="0" dt="2017-08-28T16:05:15.098000000" idx="8">
    <p:pos x="1954" y="453"/>
    <p:text>Obiective viitoare</p:text>
  </p:cm>
</p:cmLst>
</file>

<file path=ppt/comments/comment5.xml><?xml version="1.0" encoding="utf-8"?>
<p:cmLst xmlns:p="http://schemas.openxmlformats.org/presentationml/2006/main">
  <p:cm authorId="0" dt="2017-08-28T15:41:34.894000000" idx="1">
    <p:pos x="1831" y="2304"/>
    <p:text>Nu este plan managerial</p:text>
  </p:cm>
</p:cmLst>
</file>

<file path=ppt/comments/comment7.xml><?xml version="1.0" encoding="utf-8"?>
<p:cmLst xmlns:p="http://schemas.openxmlformats.org/presentationml/2006/main">
  <p:cm authorId="0" dt="2017-08-28T15:47:18.040000000" idx="2">
    <p:pos x="1831" y="1461"/>
    <p:text>Planul de activitati, rapoarte</p:text>
  </p:cm>
</p:cmLst>
</file>

<file path=ppt/comments/comment9.xml><?xml version="1.0" encoding="utf-8"?>
<p:cmLst xmlns:p="http://schemas.openxmlformats.org/presentationml/2006/main">
  <p:cm authorId="0" dt="2017-08-28T15:49:04.288000000" idx="3">
    <p:pos x="4567" y="1265"/>
    <p:text>obiectelor de studiu</p:text>
  </p:cm>
  <p:cm authorId="0" dt="2017-08-28T15:49:44.120000000" idx="4">
    <p:pos x="4320" y="3322"/>
    <p:text>nu din scoala</p:text>
  </p:cm>
  <p:cm authorId="0" dt="2017-08-28T15:50:09.982000000" idx="5">
    <p:pos x="2921" y="3734"/>
    <p:text>Este portofoliul profesorului...ca om de rand, nu ca sef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FAD-32AE-43D0-AF9D-F7CE4C4F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7BF-A1D5-46E3-9072-FDB66315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4418D-3E42-4972-AF8F-C50E8BB5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AEE5A-D4EA-4485-B25E-DD47D568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578DD-D2FD-4B69-8EBE-70473E53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513E7-CBE8-4B51-8C86-2D2341F9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6D8A8-D55E-4081-8395-D5C00F0D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AAABD-8D09-4E4C-BF24-F0261141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64BE4-7A5F-49C4-ABD8-14ACA887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39171-7926-4577-A59D-987F2BFE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F36D3-F053-46EB-BEF9-878A1955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24E2D-00F6-4D24-BF74-CB777E76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A87-5F31-4F5F-BAB4-A98685F1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B45FF-089E-4412-A7C6-8EAF84D9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20B92-55FC-442A-A342-E0738DF6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96DAE-A101-437C-BFC3-6A6A3253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8D6A0-F534-4B48-8212-7F70682A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96F5D-E583-4673-90F7-C7E5E171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40261-0D0D-4EC8-8A2E-CFA59D7E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6150E-0E7E-4D25-AC9F-2D37F4C2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8AF34-A203-4B9F-B506-8E36BF7E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1F901-3EF1-4AA8-B702-C7D457B2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A26F6-ADE3-4464-A5E6-DC58717B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961-C020-486A-BED8-D982EF53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4C3C1-E05E-4B27-95BB-CEB34AD5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DC4E7-5463-4164-AEBD-E4069332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47E51-74A7-4F39-B6A9-C2B3E861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C45E4-2689-482E-86D3-FCDA878E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ECD2E-AD53-4B37-AAEB-63E092EB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86EB8-0F2B-4FEB-9648-9B1E2CD7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B6227-D593-433A-A034-677BC587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5AEED-3A19-4AAC-81B4-3D42B406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21A45-FE4B-44AB-B520-4F41D423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DFC7A-1FFD-4B53-874D-4D4FF120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83BE-A715-474E-9426-0AF60C92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7273A-7CB6-4AED-869C-081E5342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DA17E-3824-4937-BE10-F6566BD6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A945A-C480-43E1-98EB-D43287AA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2169-FDD4-455B-B73F-3679F0C0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C2AA-2BAB-4079-BE0C-A7C445B6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01FD-B823-4D56-86CE-94F3502C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4A6A-5740-4D76-BB3D-90D0625E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1120-5EC5-4594-86D8-3C9AEFA6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C4F6-1DDD-49B1-A319-C28E9447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F20-BA30-4D0A-87AA-33985B2C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2D9A-DC22-4BF1-81BB-A3BDAF4F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7CDF-C889-40A0-A6D0-CADA7278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5ADA-4DF2-4D9F-A097-23E04C25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6A26-C063-4F1E-AD51-DD3FB65F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02D9-0E17-4227-9241-D9FEE019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C1F64-E78B-45F5-B5AA-70D5D21A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10D57-74E9-42A0-A0F3-4EAE8CBC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5E874-087F-4088-AE76-EDA1E992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A438D-BA9E-445B-84E6-DED37AEE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71287-9CDD-4AA2-8E45-3305B49E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3CF-E7F5-400B-9E2C-EE02CB8B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DF8AA-3230-4F5D-9C1F-B3C16057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75DEE-17A5-4311-985F-1B58109E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14081-CB9A-44C0-86FF-93A6315B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4DA82-CAEB-4221-BD2E-3568063B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CC063-E0D7-4F21-8913-00F5F702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70BE-BA12-48DB-96B6-8EAA2A20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489FD-09EC-48FA-A2D3-B4077B70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7D98B-F761-4B3E-A102-DEB25AF3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AC134-02A2-447F-8D74-98C88D39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8AB29-08D6-4853-B67A-70B2E69A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DA0-ADEB-4AB3-B15C-C236B905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B8807-1367-4E86-9CC8-D7F3D871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B72B2-2364-4E48-A059-B29B32D6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D8EFC-AD7C-476E-A969-821D7FD5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79E47-E045-4C83-9285-38AE4E0E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0ADE2-0B9F-4159-B0E5-CA797083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5F8F2-3743-4F49-8B3C-958FF9AE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A884C-8068-4DC7-963C-7D47A8B9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D6B60-2FAC-4832-AA7D-C2AA2BE9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12B63-5B6D-4593-92C6-0FBBCD5E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B03BC-D6F2-4291-922C-A9D76633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007-12DC-416E-B9D2-B780C842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4C332-1CCF-4DB8-B064-F23F8569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A5693-7E52-468E-8442-6B6E8F26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28988-3808-48FA-AF81-F66306E5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F1937-927E-4B28-A8CA-2094E9CD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D8E12-D5E6-4686-A54F-C3766957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71861-AA27-4808-9F85-C0F2BFE8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B11F1-93AD-49BC-8EFA-6BCD88B8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339C3-F47C-4AB7-82F6-17D5D9C2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C908F-14CC-4898-A428-59EEB53E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D24EB-EFFD-4CC1-96D8-B747476F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70B-3CFA-4891-B728-4C5C0EC3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BE630-DDD3-4913-A93C-DFBEFFD1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8FF9A-8D00-4F8E-8AA2-580BB594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8F32B-A54D-4793-A7B3-8CF59806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24C89-1BD9-412C-97A6-083B6D69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CFA43-CE5E-4133-816F-B596654F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BD429-AEBA-47FC-9766-0E850ED8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F043E-5E39-439D-A40A-B437E9CC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9933F-45EF-4EE2-9CC7-762DEC21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62A25-57A1-48EC-A1BE-6D55BA8B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3BC0D-E4AB-4BFE-A80E-62B915BC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377-C834-469D-951D-D7F4E0FD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5A855-1FA5-4E6D-9386-EC780FE2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A114B-6984-4D9B-9F6B-CCCC9F87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936D8-B0A8-4511-B170-C2772DEC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2EFEE-8ABE-4E82-9B4D-C9F2C37C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3B6A9-7364-496C-BBE5-4BAAE841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A3592-FCF9-45EC-9A53-C1F62BB5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73B6C-792B-4CCB-BBFE-F55C3F9E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2A4A8-617C-41C1-BA35-DF42A001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F84F0-1B61-489D-B9FC-FAD5CE70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0F3D0-9D6A-4524-A02F-59673060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81C-FA58-4E11-B0A7-F39D67DF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25A5C-6A41-4E8F-A7A2-AC9DE826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513E6-51C7-4E43-BED7-6BE08388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8B203-B7A8-4A3C-BD19-D6887966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CA3EA-7F73-4155-BAD3-B939EAB7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80780-198D-4A24-94FF-B2468B33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B85B4-3C8B-487B-95F1-DB983B1F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221C8-5F72-4A1A-85AF-3F814BFA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156F9-8CD2-46C9-9730-14AD3DA3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455D5-1876-4BD0-94FC-2E6BE2FF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C595F-BD64-4281-930F-0CCE688E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838-511F-416F-9C61-92BD490D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4F0DB-AB46-42AB-95A5-7ADB1E76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B4DB2-58DD-4557-9E8A-ADB82A44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14E79-4ABE-4456-86AC-A0D275E1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AD749-F73C-4A0B-970D-C4183A4F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A3571-5ED1-4EDE-82BE-0AE45E11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D5854-40C3-4B93-B289-DB145040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2D8E7-3795-4EF1-BF90-92A0771F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54F54-1ACD-40EE-AE18-9E9A0353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26B71-3E82-4297-93EA-EFED3B84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6BAF1-E1FC-48C5-B988-15296A78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C247-7A23-4926-9CCD-990265BD5C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D49B-55F8-4D02-96F6-6DEDAAB7B6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5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446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7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449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50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51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2D56-EDBF-4E50-8A21-95C47E908E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0F78-C69B-448E-B69C-A549FAAAC41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8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8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17AE-45B9-48EE-B1C8-3FC5643495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59B8-1CD2-49FA-93AB-B0E121F16D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171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72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173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grpSp>
          <p:nvGrpSpPr>
            <p:cNvPr id="174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75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pic>
          <p:nvPicPr>
            <p:cNvPr id="177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7762-E6FE-401C-AFCC-2EC0822415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2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22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2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22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25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26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21B2-E512-4AD3-8B6B-68BEBB280E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27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27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9CDC-32EA-4C90-8C4F-38D4212F2B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3002-C942-4C93-B434-E7859A2312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5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35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5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36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CD33-3987-4D96-935A-4FD9F02671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682560" y="298440"/>
            <a:ext cx="8242200" cy="382896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600200" y="43430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464646"/>
                </a:solidFill>
                <a:latin typeface="Lucida Sans Unicode"/>
              </a:rPr>
              <a:t>18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ro-RO" sz="2800" spc="-1" strike="noStrike">
                <a:solidFill>
                  <a:srgbClr val="464646"/>
                </a:solidFill>
                <a:latin typeface="Lucida Sans Unicode"/>
              </a:rPr>
              <a:t>SEPTEMBRIE 201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Rectangle 1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B8AE-1418-4A00-BC61-00F03BEDCA6B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  <p:pic>
        <p:nvPicPr>
          <p:cNvPr id="496" name="Picture 4" descr="Image result for langues modernes"/>
          <p:cNvPicPr/>
          <p:nvPr/>
        </p:nvPicPr>
        <p:blipFill>
          <a:blip r:embed="rId2"/>
          <a:stretch/>
        </p:blipFill>
        <p:spPr>
          <a:xfrm>
            <a:off x="2286000" y="0"/>
            <a:ext cx="4495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II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regulamentul, precizările și programele pentru olimpiada națională școlară la disciplina..., subiecte de olimpiadă propuse, lista elevilor selectați pentru olimpiade, rezultatele obținute la diferite competiții/activități specifice discipline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V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 Proiecte personale sau proiecte/programe în care este angajat pentru implementar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V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perfecționa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/formare în domeniul discipline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VI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materiale didactice –produse propri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D933-DC67-450F-A1DA-F861D351688C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PORTOFOLIUL ELEVULUI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E57B-C99D-46F2-BD7C-6DE9E927217E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 Narrow"/>
              </a:rPr>
              <a:t>Portofoliul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prezintă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artea de vizită” a elevului, prin care profesorul poate să-i urmărească progresul – în plan cognitiv, atitudinal şi comportamental – la o anumită disciplină, de-a lungul unui interval mai lung de timp (un semestru sau un an şcolar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un pact între elev şi profesorul care trebuie să-l ajute pe elev să se autoevalueze. Profesorul discută cu elevul despre ce trebuie să ştie şi ce trebuie să facă acesta de-a lungul procesului de învăţare. La începutul demersului educativ se realizează un diagnostic asupra necesităţilor elevului de învăţare pentru a stabili obiectivele şi criteriile de evaluare. Diagnosticul este făcut de profesor şi este discutat cu elevul implicat în evaluar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685440" y="1417320"/>
            <a:ext cx="8001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lista conţinutului acestui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(sumarul, care include titlul fiecărei lucrări/fişe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etc. şi numărul paginii la care se găseşte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argumentaţia care explică ce lucrări sunt incluse în portofoliu, de ce este importantă fiecare şi cum se articulează între ele într-o viziune de ansamblu a elevului/grupului cu privire la subiectul respectiv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lucrările pe care le face elevul individual sau în grup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ezum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eseur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articole, referate, comunicăr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fişe individuale de studiu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proiecte şi experimen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temele zilnic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Rectangle 2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84981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probleme rezolv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apoarte scrise – de realizare a proiectel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teste şi lucrări semestrial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chestionare de atitudin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înregistrări, fotografii care reflectă activitatea desfăşurată de elev individual sau împreună cu colegii să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observaţii pe baza unor ghiduri de observaţi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eflecţiile proprii ale elevului asupra a ceea ce lucrează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autoevaluări scrise de elev sau de membrii grupulu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interviuri de evaluar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alte materiale, hărţi cognitive, contribuţii la activitate care reflectă participarea elevului/ grupului la derularea şi soluţionarea temei d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5335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viitoare obiective pornind de la realizările curente ale elevului/grupului, pe baza intereselor şi a progreselor înregistr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comentarii suplimentare şi evaluări ale profesorului, ale altor grupuri de învăţare şi/sau ale altor părţi interesate, de exemplu părinţi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ezultate ale lucrărilor de evaluare efectuate pentru teme din domeniul profesional sau abilităţi chei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ezultate ale activităţilor de autoevaluare şi dovezi ale discuţiilor care au avut loc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opiniile elevilor privind activităţile desfăşur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planuri de acţiune/ evaluări/ activităţi viitoare planificate şi efectuate de către elev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comentarii ale profesorului privind atitudinea şi rezultatele elevulu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EE86-4495-4629-A92C-66CA06A6AABC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Lucida Sans Unicode"/>
              </a:rPr>
              <a:t>PORTOFOLIUL </a:t>
            </a: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PROFESORULUI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METODIS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Arial Narrow"/>
              </a:rPr>
              <a:t>Decizie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 numire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urriculum Vitae(Europass).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raficul de evidenţă a inspecţiilor efectu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raficul inspecţiilor de specialitate şi tematic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iagnoza procesului de învăţământ de specialitate (in sectorul/zona arondat(ă), la finele fiecărui semestru)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opie a rapoartelor de inspecţi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odele de documente de planificare şi </a:t>
            </a:r>
            <a:r>
              <a:rPr b="0" lang="fr-FR" sz="2400" spc="-1" strike="noStrike">
                <a:solidFill>
                  <a:srgbClr val="ff0000"/>
                </a:solidFill>
                <a:latin typeface="Arial Narrow"/>
              </a:rPr>
              <a:t>proiect</a:t>
            </a:r>
            <a:r>
              <a:rPr b="0" lang="ro-RO" sz="2400" spc="-1" strike="noStrike">
                <a:solidFill>
                  <a:srgbClr val="ff0000"/>
                </a:solidFill>
                <a:latin typeface="Arial Narrow"/>
              </a:rPr>
              <a:t>are</a:t>
            </a:r>
            <a:r>
              <a:rPr b="0" lang="fr-FR" sz="2400" spc="-1" strike="noStrike">
                <a:solidFill>
                  <a:srgbClr val="ff0000"/>
                </a:solidFill>
                <a:latin typeface="Arial Narrow"/>
              </a:rPr>
              <a:t> didactic</a:t>
            </a:r>
            <a:r>
              <a:rPr b="0" lang="ro-RO" sz="2400" spc="-1" strike="noStrike">
                <a:solidFill>
                  <a:srgbClr val="ff0000"/>
                </a:solidFill>
                <a:latin typeface="Arial Narrow"/>
              </a:rPr>
              <a:t>ă</a:t>
            </a:r>
            <a:r>
              <a:rPr b="0" lang="fr-FR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 nivelul învăţământului primar, gimnazial şi liceal, după caz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gi, ordine, note ale M.E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., </a:t>
            </a:r>
            <a:r>
              <a:rPr b="0" lang="ro-RO" sz="2400" spc="-1" strike="noStrike">
                <a:solidFill>
                  <a:srgbClr val="ff0000"/>
                </a:solidFill>
                <a:latin typeface="Arial Narrow"/>
              </a:rPr>
              <a:t>H.G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vind  învăţământul preuniversita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elul formularelor tip folosite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 cadrul inspecţiil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E37C-0196-4502-8946-EEB1551A924F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Lucida Sans Unicode"/>
              </a:rPr>
              <a:t>PORTOFOLIUL </a:t>
            </a: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RESPONSABILULU</a:t>
            </a:r>
            <a:r>
              <a:rPr b="1" lang="ro-RO" sz="4400" spc="-1" strike="noStrike">
                <a:solidFill>
                  <a:srgbClr val="000000"/>
                </a:solidFill>
                <a:latin typeface="Lucida Sans Unicode"/>
              </a:rPr>
              <a:t>I DE CATEDRĂ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de activităţi metodico-ştiinţifice ale catedrei pentru anul școlar  în curs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le şcolare valabile în anul şcolar în curs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le pentru examenele naţionale (bacalaureat) şi concursurile şcolare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ificări le calendaristice ale membrilor catedrei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rile 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dru pentru anul şcolar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spectiv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abel  nominal cu membrii catedrei şi datele lor personale (telefon, adresa de e-mail, şcoala de provenienţă, grad didactic, specialitatea, vechimea în învăţământ etc.)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managerial al catedre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şi tematica activităţilor de catedră.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cesele – verbale ale şedinţelor de catedră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aterialele ştiinţifice şi metodice prezentate în cadrul activităţilor de catedră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olimpiadelor şi concursurilor şcolare la care participă elevii unității de învățămâ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Lucida Sans Unicode"/>
              </a:rPr>
              <a:t>PORTOFOLIUL </a:t>
            </a: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RESPONSABILULUI</a:t>
            </a:r>
            <a:r>
              <a:rPr b="1" lang="ro-RO" sz="4400" spc="-1" strike="noStrike">
                <a:solidFill>
                  <a:srgbClr val="000000"/>
                </a:solidFill>
                <a:latin typeface="Lucida Sans Unicode"/>
              </a:rPr>
              <a:t> DE CERC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split dir="in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şcolilor arondate cercului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nominală a cadrelor didactice din cadrul cercului, cu datele lor personale (şcoala de provenienţă, telefon, adresa de e-mail, specialitatea,  gradul didactic, vechimea în învăţământ, modul de încadrare: suplinitor calificat/necalificat, titular, pensionar, detaşat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managerial al şefului cercului metodic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ematica şedinţelor de cerc, data şi locul de desfăşura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cesele -verbale încheiate la activităţile de cer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aterialele ştiinţifice şi metodice prezentate în cadrul activităţilor de cerc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examenelor naţionale (evaluare – clasa a VI-a, bacalaureat), al olimpiadelor şi al concursurilor şcolare din anul școlar respectiv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PORTOFOLIUL PROFESORULUI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71F6-6D4A-4604-8E5A-122ADA1AF110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I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: structura anului școlar, încadrarea (clase, nr. de ore), orarul, fișa postului, calendarul activităților pe anul în cu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I-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: programele școlare, programele opționalelor în derulare, planificarea anuală și semestrială a materiei pe unități de învățare, proiecte didactice, teste de evaluare inițială, curentă și sumativă-concluzii, modalități alternative de evaluare (proiecte, referate, portofolii întocmite de elevi), fișe de lucru, caietul –catalog, inventarul materialului didactic din școală, fișe cu asistențe la ore pentru profesorii debutanț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Substituent număr diapozitiv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0532-8F5C-48C0-A78D-416D301FC3BC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4:38:28Z</dcterms:created>
  <dc:creator>manu</dc:creator>
  <dc:description/>
  <dc:language>en-US</dc:language>
  <cp:lastModifiedBy>Micky</cp:lastModifiedBy>
  <dcterms:modified xsi:type="dcterms:W3CDTF">2017-09-17T19:56:54Z</dcterms:modified>
  <cp:revision>621</cp:revision>
  <dc:subject/>
  <dc:title>Comisia Nationala de Informatica</dc:title>
</cp:coreProperties>
</file>