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1C4-6318-4D37-BEAB-989F50D4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F05-21EB-4C36-8A81-DABFB7C4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52B-0B1E-4456-90E8-2EBFED96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030-EFA6-4869-B204-563EFA09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9AB2-EB3B-4C70-9219-4D40B865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9C3B-BA0D-4C52-8D2C-95171B62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95C8-DF1A-461A-8F46-F263E378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4133-B332-47DC-A2D3-63F951D8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E675-06C1-4337-AF05-89F7287F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E79C-3CFA-4C2A-ABEB-C35E281D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1744-F67A-4028-8A85-AAAC7D1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E75-803E-47C5-980E-4AF4F0D2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81D0-422F-488E-A239-97E7CFFE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9FAD-460B-4B5F-92BC-E78BD4FC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40AB-318E-432D-B70D-F51A82C3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E687-DE43-44AD-83FB-CAEB9EB5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71E3-CB90-4D13-891E-1CB52A05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FC2A-F472-44B1-8AAE-87BD3A3F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AA07D-7236-46AA-B411-399DCD5F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A5FD-5685-4D71-888B-D623F9B1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940E-A95C-4D68-9904-0D389465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0849D-F0F8-438A-9A04-386E4A44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B31-FB0B-474D-8D8D-09E0C751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17C5-2288-42E6-A457-78960E5A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FE22-4491-4484-AD5E-EEA99451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0458-FD19-4DBE-9CFA-20BF8D04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760BB-4BA7-4D61-B5C9-A258D9DC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D6343-29B2-4800-8708-9E11F679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B822-BB3B-45FF-91AE-19AE2105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5C53A-B529-4D50-B8AF-827032E4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9E8-829C-43E3-A229-860CD4A1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CA5-169B-4DCF-948E-95B98E83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A96-FFE0-4767-994D-C2C1EC57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5CE-C226-4C2E-ABDB-F273A364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9E29-911B-4A7B-9822-0DD750BF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5BC-0796-431A-AF30-232BFC31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11357280" y="0"/>
              <a:ext cx="68220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912DF-8A0C-4269-856E-DFB001810F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10" descr=""/>
          <p:cNvPicPr/>
          <p:nvPr/>
        </p:nvPicPr>
        <p:blipFill>
          <a:blip r:embed="rId4"/>
          <a:stretch/>
        </p:blipFill>
        <p:spPr>
          <a:xfrm>
            <a:off x="-6480" y="-6480"/>
            <a:ext cx="2311560" cy="6870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077240" y="54097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875960" y="5409720"/>
            <a:ext cx="512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896040" y="540972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3EE51-DE99-427B-A154-F7A5838943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11357280" y="0"/>
              <a:ext cx="68220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47"/>
          <p:cNvSpPr/>
          <p:nvPr/>
        </p:nvSpPr>
        <p:spPr>
          <a:xfrm>
            <a:off x="903240" y="7318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10537920" y="27655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EA0BC-EE68-4C99-A35F-20427C21FB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60200" y="669960"/>
            <a:ext cx="8791560" cy="17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ELEMENTE DE NOUTATE 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ALE PROGRAMEI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Ş</a:t>
            </a: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COLARE 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PENTRU DISCIP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960200" y="2808360"/>
            <a:ext cx="879156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LIMBA MODERNĂ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LIMBA MODERNĂ 1 – STUDIU INTENS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LIMBA MODERNĂ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Times New Roman"/>
              </a:rPr>
              <a:t>FRANCEZĂ / SPANIOLĂ / ITALIAN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2) PRECIZAREA NIVELURILOR DIN CECRL LA INTRAREA ELEVILOR ÎN CICLUL DE ÎNVĂȚĂMÂNT GIMNAZIAL, PRECUM ȘI A NIVELURILOR AȘTEPTATE LA FINALUL CICLULUI GIMNAZIAL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1560" y="2451240"/>
          <a:ext cx="9905760" cy="4114800"/>
        </p:xfrm>
        <a:graphic>
          <a:graphicData uri="http://schemas.openxmlformats.org/drawingml/2006/table">
            <a:tbl>
              <a:tblPr/>
              <a:tblGrid>
                <a:gridCol w="3301920"/>
                <a:gridCol w="3301920"/>
                <a:gridCol w="3301920"/>
              </a:tblGrid>
              <a:tr h="12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8720" y="914040"/>
            <a:ext cx="9906120" cy="19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TALIEREA FIEC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MPETEN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GE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L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ÎN COMPETENȚE SPECIFICE, ULTIMA COMPETENȚĂ SPECIFICĂ FIIND DE NATURĂ SOCIO-CULTURAL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1141560" y="3446640"/>
            <a:ext cx="99057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) PREZENTAREA DETALIATĂ A RECOMANDĂRILOR ȘI A SUGESTIILOR METODOLOGICE, PRECUM ȘI A STRATEGIILOR DE PRED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tre 1"/>
          <p:cNvSpPr/>
          <p:nvPr/>
        </p:nvSpPr>
        <p:spPr>
          <a:xfrm>
            <a:off x="1301760" y="428760"/>
            <a:ext cx="99061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EZENTAREA DE EXEMPLE SPECIFICE FIECĂREI LIMBI, PREZENTAREA DE TEME RECOMANDATE CE EVOLUEAZĂ PROGRESIV DE LA O CLASĂ LA AL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1301760" y="209880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EZENTAREA DE TEME DE PROIECT INTRODUSE PROGRESIV DE LA UN NIVEL LA ALT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1239840" y="3801960"/>
            <a:ext cx="103647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ZENTAREA GRAMATICII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UNCȚ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ÎNTR-O DUBLĂ PERSPECTIV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ACEEA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ACTELOR DE VORBIRE / A FUNCȚIILOR LIMB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ACEEA A ELEMENTELOR DE CONSTRUCȚIE A COMUNICĂRII CE CONTRIBUIE LA REALIZAREA DIVERSELOR ACTE DE VORB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tre 1"/>
          <p:cNvSpPr/>
          <p:nvPr/>
        </p:nvSpPr>
        <p:spPr>
          <a:xfrm>
            <a:off x="1100160" y="412920"/>
            <a:ext cx="99061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EZENTAREA DESCRIPTIVĂ, ÎN ANEXĂ, A ELEMENTELOR DE CONSTRUCȚIE A COMUNICĂRII SPECIFICE FIECĂREI CLASE / NI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1168560" y="2286000"/>
            <a:ext cx="99057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NDICAREA RESURSELOR ON LINE UTILE PARCURGERII PROGRAM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itre 1"/>
          <p:cNvSpPr/>
          <p:nvPr/>
        </p:nvSpPr>
        <p:spPr>
          <a:xfrm>
            <a:off x="1130400" y="4043520"/>
            <a:ext cx="987588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10) CORELAREA PROGRAMELOR ȘCOLARE PENTRU LIMBI MODERN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FRANCEZ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SPANIOL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ITALIAN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 CU NIVELURILE DIN CECRL, PRECUM ȘI CU INSTRUMENTELE CONEXE, PRECUM REFERENȚIALUL PENTRU CECRL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LIMBA FRANCEZ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/>
  <dc:description/>
  <dc:language>en-US</dc:language>
  <cp:lastModifiedBy>Micky</cp:lastModifiedBy>
  <dcterms:modified xsi:type="dcterms:W3CDTF">2017-09-17T19:36:40Z</dcterms:modified>
  <cp:revision>18</cp:revision>
  <dc:subject/>
  <dc:title>Elemente de noutate ale programei școlare pentru disciplina</dc:title>
</cp:coreProperties>
</file>