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836-2F31-4B8C-971E-EC9ECFEA8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BD6-9F19-4A88-A3CA-D5E06459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A0B-6E34-44FB-8195-25EE8833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E08-CAE4-45BB-A868-7F0F6086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CD5E-7476-4D4B-9A34-7C526769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BBCE-1FB0-46E1-824D-D2B45102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A2DC-399B-4CF7-9335-76ACA7E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184E-4E70-483D-B0E1-0921D74D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C9C5-87EC-4689-9E48-72A9F9CD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1FE1-CF98-40E9-82F7-7ABEF5EB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8FBE-78B0-489C-BECB-DA4ECD9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5B4-4DD6-4621-98AB-91B7AC80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CAD4-D400-47B3-8D41-A2F82CF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B426-3E21-405F-AF05-7A8AAC2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1380-4DCE-470E-934A-D54674757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CCE7-5FEA-4D95-A82B-42C1E3D4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1FD7-E3B4-4B14-A648-996DEEDD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9398-2750-4A0E-A3D3-EC20815C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B9374-9F74-4B9D-9C35-361FE3C0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F127-BEB8-4D51-981E-B945BAC4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5614-6F15-48A3-85FC-0A9C473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98D4-6918-4988-9B96-1520995E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F7D-2887-4BF4-AE7A-791E88ED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862FC-FABE-4C82-8E19-49B5D407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940D-66F6-4139-9887-67A7A81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05A4-0609-4B04-8D6A-BCD97E2F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EEDF0-97A6-48C2-97A5-9A46D58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4DCF-3DAA-41A5-B8DB-BC39777D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7D8C-8A9E-4B8E-BE68-38056AF8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5762A-C66D-42B0-98AA-BF111E88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2BB4-0115-4BBB-BF44-F830A0F0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CC16-BF07-4BBB-A1FA-E121B199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B7A7D-35F9-40E8-9589-0048408F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E4E-E801-47BA-AC0F-31F04732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5DF1-57DE-4777-9A74-C1EC562C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5D3D2-D635-409D-AB27-7E14A45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9CB9-7EFA-4F26-A070-08884BD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F60E-F713-4660-A4BA-1F27598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E511-FCCF-41D3-B630-AEBF26D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DBF0-A73E-4CE7-86BB-9EE6FB9B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C9CD2-28C6-4A1B-AFA2-DC0F3A3C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B5507-A3DC-4235-82A0-311C893F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98959-946E-4605-8152-1ED32D79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79A89-6679-4312-9284-B9AAFEF2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F68-39F4-489A-8DD3-7570E05D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18C97-EBE3-492D-B559-6EDD1CCD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C345-7624-42F1-B4FA-18377D1E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12599-0D31-4324-B0C8-6EEEFA5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A9F98-7737-45FE-A9AF-BA565A7A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8C665-67AA-4FE1-ACFA-E1EE054C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BD7A-2A58-42B5-B85E-85233D1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38DFE-525B-458B-AD58-5AA71775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87024-0E72-403B-B6DC-E933A86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F918-FB49-485A-8F90-D9CED8E0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D6CA1-E9E9-43F7-B3D1-C58A4AF3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8E1-9269-4F8F-830F-B4B34BE8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FFBA0-6E76-4732-9650-0445590A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6A8DB-A47D-400E-9355-B5DC7AE7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A872-DAEE-4ACA-A86E-C9EC91CC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9D67-87DA-414A-8EC2-FCE08693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4893E-FC36-496E-A361-78732794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6550-CFC3-488A-938E-CB02A47D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A2B3-AEBC-47D5-B617-B059AAFF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88CF-0E91-497B-9557-E70D743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DABA-5B9E-4031-97C0-0D19198D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B2478-5F78-47FE-BB03-CE5C41C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999F-5A28-44D3-8BE2-E174686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AF0A8-28B4-4936-B66D-3567311F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4CAF-411D-46D3-9671-3C27C975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6807-1F28-4B5A-A96C-A1F51850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7818-E89F-4943-8E3A-EE83F63E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FCBDB-1CE7-45DC-8BAE-D4037A3B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33494-DEA0-408F-9A97-9EDE6F98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0214E-47F4-45BE-BF82-387A85CF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600E-FCA4-4CFE-89DF-C027553E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50B3E-EDF4-4F66-8FB2-1936CA4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1E15B-967F-42B0-99D4-45886BE2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373-AB49-4239-B3CB-4DC8C07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5B2B7-A03C-4A3C-84F4-452532B7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3BD0-A223-41AB-9EFA-DC329D3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22DBD-957E-40A7-9D1A-074B4E6F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5E900-3E07-49EE-A07C-E57238193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8D5D-EDD1-4C3B-B458-4BE4C3A1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922C-1BE1-43BB-93A3-2EC3E646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5EBCC-D0B2-4755-9621-B5900353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5BD57-B3B9-47B1-A530-368C81D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4136D-AB83-439E-9104-EDFA74FB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89D51-56C5-48C2-B07A-D0EFE1DF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57A-48E3-4738-B462-BB70BA0C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B74D9-4154-4692-AEB1-B086E34C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213F7-83A9-4ADC-AA97-AAF7E501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22401-80F2-47C4-A39D-E4824E6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FD4C4-3FA0-488A-BA5A-EDF08A8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A7A69-B1CD-4684-9B41-48520F05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5FA9D-726E-469D-8C2F-ABFAB984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3545F-C33C-49E9-9FBD-AB4F206D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354-70BC-4075-B5AF-3A67CD8B5E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B17B-FB97-479B-A8C7-D711F03439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776C-F5E0-4F1C-A2D8-B97154FB70C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B98B-B5A2-4D69-974C-A79BA9B131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970C-B81B-4E24-8E13-29FC9D50944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grpSp>
        <p:nvGrpSpPr>
          <p:cNvPr id="213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1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21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74D6-AB53-4EA1-A648-81966239ED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B97A-F09C-47C8-A373-D1652EF7DC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inspector Şăitan Tra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CB6-79F4-445D-988E-924242C226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Users/GEELOO/AppData/Local/Temp/Temp1_Portofolii.zip/fisa%20postului.doc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600200" y="4343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SLATIN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464"/>
                </a:solidFill>
                <a:latin typeface="Arial"/>
              </a:rPr>
              <a:t>5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-</a:t>
            </a:r>
            <a:r>
              <a:rPr b="1" lang="ro-RO" sz="2800" spc="-1" strike="noStrike">
                <a:solidFill>
                  <a:srgbClr val="696464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1" lang="ro-RO" sz="2800" spc="-1" strike="noStrike">
                <a:solidFill>
                  <a:srgbClr val="696464"/>
                </a:solidFill>
                <a:latin typeface="Perpetua"/>
              </a:rPr>
              <a:t>SEPTEMBRIE 201</a:t>
            </a:r>
            <a:r>
              <a:rPr b="1" lang="en-US" sz="2800" spc="-1" strike="noStrike">
                <a:solidFill>
                  <a:srgbClr val="696464"/>
                </a:solidFill>
                <a:latin typeface="Perpetu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B11E-B537-478C-B60B-FFB442CC7D2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CONSFĂTUIRILE NAŢIONALE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ALE INSPECTORILOR </a:t>
            </a: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 </a:t>
            </a:r>
            <a:r>
              <a:rPr b="0" lang="ro-RO" sz="2800" spc="-1" strike="noStrike">
                <a:solidFill>
                  <a:srgbClr val="f2f2f2"/>
                </a:solidFill>
                <a:latin typeface="Franklin Gothic Book"/>
              </a:rPr>
              <a:t>ȘCOLARI </a:t>
            </a:r>
            <a:br>
              <a:rPr sz="2800"/>
            </a:br>
            <a:r>
              <a:rPr b="0" lang="ro-RO" sz="2800" spc="-1" strike="noStrike">
                <a:solidFill>
                  <a:srgbClr val="f2f2f2"/>
                </a:solidFill>
                <a:latin typeface="Arial"/>
              </a:rPr>
              <a:t>PENTRU</a:t>
            </a:r>
            <a:br>
              <a:rPr sz="2800"/>
            </a:br>
            <a:r>
              <a:rPr b="0" lang="en-US" sz="2800" spc="-1" strike="noStrike">
                <a:solidFill>
                  <a:srgbClr val="f2f2f2"/>
                </a:solidFill>
                <a:latin typeface="Franklin Gothic Book"/>
              </a:rPr>
              <a:t>LIMBI MODERN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ţi metodico-ştiinţifice ale catedrei pentru anul școlar 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şcolare valabile în anul şcolar în curs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le pentru examenele naţionale (bacalaureat) şi concursurile şcolare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ificări le calendaristice ale membrilor catedre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rile -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dru pentru anul şcola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spectiv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abel  nominal cu membrii catedrei şi datele lor personale (telefon, adresa de e-mail, şcoala de provenienţă, grad didactic, specialitatea, vechimea în învăţământ etc.)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managerial al catedre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şi tematica activităţilor de catedră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– verbale ale şedinţelor de catedră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atedră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I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 DE CERC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colilor arondate cerculu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de activități al şefului cercului metodi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atica şedinţelor de cerc, data şi locul de desfăşur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cesele -verbale încheiate la activităţile de cer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aterialele ştiinţifice şi metodice prezentate în cadrul activităţilor de cerc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04B-855E-4DD1-8571-2C1D41B9146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PROFESOR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ubstituent număr diapozitiv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D1B-719B-4B7A-BEFE-8A038947B0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(pentru profesorii debutanți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D6B-E5D1-4B77-A10B-F41CE2BD399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perfecționa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/formare în domeniul discipline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0000"/>
                </a:solidFill>
                <a:uFillTx/>
                <a:latin typeface="Arial Narrow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0B9E-279E-4380-B5CB-B16FAAE7DB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PORTOFOLIUL ELEVULUI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696464"/>
                </a:solidFill>
                <a:uFillTx/>
                <a:latin typeface="Franklin Gothic Book"/>
              </a:rPr>
              <a:t>PORTOFOLIUL ELEVULUI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prezintă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„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“acord”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de învăţare ale elevului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696464"/>
                </a:solidFill>
                <a:latin typeface="Arial Narrow"/>
              </a:rPr>
              <a:t>Portofoliul cuprinde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1523520"/>
            <a:ext cx="8001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onţinutului acestu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sumarul, care include titlul fiecărei lucrări/fiş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tc. şi numărul paginii la care se găseş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ucrările pe care le face elevul individual sau în grup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ezum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seu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ticole, referate, comunicăr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e individuale de studiu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iecte şi experimen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temele ziln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robleme rezolv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apoarte scrise – de realizare a proiectel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teste şi lucrări semestrial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hestionare de atitudin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servaţii pe baza unor ghiduri de observa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flecţiile proprii ale elevului asupra a ceea ce lucrează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utoevaluări scrise de elev sau de membrii grupulu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interviuri de evaluar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664-CAD1-4823-B5B5-8FEF435D30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erpetua"/>
              </a:rPr>
              <a:t>PORTOFOLIUL INSPECTORULUI </a:t>
            </a: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ȘCOLAR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PENTRU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Perpetua"/>
              </a:rPr>
              <a:t>LIMBI MODERNE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5FF9-7B64-4BCF-BD6F-8AD79995C1C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biective viitoar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opiniile elevilor privind activităţile desfăşurat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9FCB-7B58-4584-8CB2-B459075EB9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SUCCES TUTURO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ÎN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ANUL ȘCOL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 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7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-201</a:t>
            </a:r>
            <a:r>
              <a:rPr b="1" lang="en-US" sz="2800" spc="-1" strike="noStrike">
                <a:solidFill>
                  <a:srgbClr val="cc9900"/>
                </a:solidFill>
                <a:latin typeface="Georgia"/>
              </a:rPr>
              <a:t>8</a:t>
            </a:r>
            <a:r>
              <a:rPr b="1" lang="ro-RO" sz="2800" spc="-1" strike="noStrike">
                <a:solidFill>
                  <a:srgbClr val="cc9900"/>
                </a:solidFill>
                <a:latin typeface="Georgia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tructura portofoliului/mapei inspectorului școlar pentru limbi moderne -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normativ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 manageriale, baze date, documen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specifice disciplinei: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38D8-6D98-44B1-8F7B-E326C0525E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Fişa postului operaţionalizată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 Narrow"/>
                <a:hlinkClick r:id="rId1"/>
              </a:rPr>
              <a:t>fisa postului.doc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urriculum Vitae Europas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iagnoza disciplinei……; Starea disciplinei……, în anul şcolar…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noza, realizată de Consiliul Consultativ al profesorilor de limbi modern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rograme manageriale anuale şi semestrial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lanul anual şi semestrial al inspecţiei şcolare, corelat cu Graficul unic de inspecţie şcolară al Inspectoratului Şcolar Județean..../al Municipiului București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Rapoarte periodic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lunare, semestriale, anuale (Fişa săptămânală/lunară de raportare a inspectorului şcolar de limbi modern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ubstituent număr diapozitiv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E47-D57E-4216-86E5-F07F4EF0517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siliul Consultativ al profesorilor de limbi moderne (componenţa şi atribuții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profesorilor metodişti şi a sarcinilor delegate (criterii de selecţie, vechime în învăţământ, gradul didactic, competenţă profesională dobândită prin studii şi activitatea didactică; CV-urile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Evidenţa distribuţiei şi a realizării de căt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i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a activităţii de  inspecţie şcolar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fesorilor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metodişti (conţinut şi fişa de evaluare a acestora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şefilor de catedră /comisie metodică/persoană de contact la specialitatea…..în unităţile de învăţământ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tribuţiile cadrului didactic - şef de catedră /comisie metodică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ocumentele de proiectare, organizare şi desfăşurare a activităţii catedrelor/comisiilor metod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Portofoliul profesorului de (specialitatea)…..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F52-AF9C-4533-86DF-FC34E779225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cadrelor didactice - formatori naţionali şi locali; evaluatori DEL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DE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SD, ÖSD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Lista responsabililor cercurilor pedagogice; evidenţa problemelor ridicate la activităţile cercurilor pedagog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alendarul activităţilor metodice, ştiinţifice şi de formare continuă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(axat pe obiective specifice, corect elaborate)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ontribuţii personale şi de grup în cercetarea ameliorativă a problemelor specialităţi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mplicarea în acţiuni metodice şi de perfecţionare organizate cu cadrele didactice în colaborare cu diferite instituţii 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Instrumente, indicatori, criterii utilizate şi acţiuni specifice desfăşur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8C87-31D6-4E8E-9DD9-747F8D68989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533520"/>
            <a:ext cx="81532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aluări realizate în vederea acordării gradaţiei de merit, a participării la concursuri şi alte acţiuni similare/cursuri de formare în didactica disciplinei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Modalități de monitoritorizare și acordare consultanță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Rezultate deosebite ale cadrelor didactice şi ale elevilor în procesul de învăţare şi la concursurile şcolare; acţiuni de recompensare, ameliorare şi reglar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cursurilor opţionale şi avizarea lor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Evidenţa manualelor şcolare existente în catalog la disciplina...... 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Lista membrilor ARPF/ale altor asociaţii profesional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Fişa anuală de evaluare a inspectorului şcolar pentru limbi moderne;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 Narrow"/>
              </a:rPr>
              <a:t>Calendarul examenelor naționale și al activităţilor organizate cu ocazia Zilei Europene a Limbilor (26 septembrie) şi a Francofoniei (20 martie)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PROFESORULUI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METODIS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08F4-50DE-43BC-9690-7A0905AD20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cizi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 numir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/ Delegaț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urriculum Vitae(Europass).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de evidenţă a inspecţiilor efectuat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raficul inspecţiilor de specialitate şi tematic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iagnoza procesului de învăţământ de specialitate (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 sectorul/zona arondat(ă), la finele fiecărui semestru);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opie a rapoartelor de inspecţie;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Modele de documente de planificare şi proiect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a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idactic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ă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la nivelul învăţământului primar, gimnazial şi liceal, după caz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gi, ordine,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H.G-uri,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note ale M.E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.,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uvernului  privind  învăţământul preuniversita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elul formularelor tip folosite 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 cadrul inspecţiil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PORTOFOLIUL </a:t>
            </a:r>
            <a:r>
              <a:rPr b="1" lang="en-US" sz="4400" spc="-1" strike="noStrike">
                <a:solidFill>
                  <a:srgbClr val="000000"/>
                </a:solidFill>
                <a:latin typeface="Perpetua"/>
              </a:rPr>
              <a:t>RESPONSABILULU</a:t>
            </a:r>
            <a:r>
              <a:rPr b="1" lang="ro-RO" sz="4400" spc="-1" strike="noStrike">
                <a:solidFill>
                  <a:srgbClr val="000000"/>
                </a:solidFill>
                <a:latin typeface="Perpetua"/>
              </a:rPr>
              <a:t>I DE CATEDRĂ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Luminita Stoian</cp:lastModifiedBy>
  <dcterms:modified xsi:type="dcterms:W3CDTF">2017-09-04T04:48:49Z</dcterms:modified>
  <cp:revision>618</cp:revision>
  <dc:subject/>
  <dc:title>Comisia Nationala de Informatica</dc:title>
</cp:coreProperties>
</file>