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75C-44E5-4A52-AE06-B1B64603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01F-030B-4288-99F6-649D8D2D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3CF-410D-4AE2-B614-E64D3E7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45E-4CD0-49C7-898B-9613327E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0999-2718-4431-A50A-A5D0AF89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E26C-000D-489E-8EBC-8C850B8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D1EB-6651-435C-AB87-A71579FD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58FA-708F-41F5-8EA5-ACC327AF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2E07-18FA-4FC1-8613-6500A2F1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AE2-AC12-4361-AFC5-3E79004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C933-44C4-4E08-8F72-08F8FDE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699-2F5E-416A-9C31-9AC17F5F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5941-614A-4B03-8838-075F975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FCE1-B7C7-4D34-BD76-ED508585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30E6-B62D-4137-B417-E0986800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DF0E-4F9A-41DD-B106-6E339D62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C1B6-AD81-493B-8E9B-61EA7BCA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837E-4048-4D69-A674-67B1B47C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63CD-6B1F-4561-8BB5-58A6AC0A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F83F7-BE5C-4CD9-BAB4-A953EA3B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39E8-8992-4762-B990-303AC488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FCE0-803A-4841-A426-D3D10F3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202-9A46-48C4-A5B9-E6EC7207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7A32-71B0-4A12-AE27-4C7C4521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D760-7709-427A-8767-DDBB9B2A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0B38B-0091-44F4-A4C5-C64A8D2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0AFC-46A5-47B7-B409-C133E7D7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AAEE5-79D2-4B88-AC09-1DEEC11C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8EAF-856B-43CC-B497-54FB19D5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E71F-9A68-4F7E-A3F9-D179DAAB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07908-3887-45DD-A227-B53624EF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CE4D7-D49B-428F-8B04-39210F7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C4791-71C8-46FB-968C-0490807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7E2-D0A7-4187-822C-8456093E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8B5A-9F4F-4085-B4E8-A007615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FECE6-FDD9-446E-9E26-69403F2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4ED1-2D9A-4065-980C-52074872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5A84-1491-4713-97A6-549ED4A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6363-E302-43CB-8EEA-D8FE865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3469-83D9-4DD6-B8BF-85D3CF2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4735-56C5-4496-812B-C9A9399C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D5F83-4043-485C-88E2-46D780C3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8CBC-E27D-4CE2-B563-7F76DA43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C8C-7712-4760-BB00-8F9D0FF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180-CF86-4454-839B-EDE56D62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7A11-91E3-45F0-8EA2-82A2384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BB2-0854-4CA9-AED1-D19CC18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6EE-85C0-418F-9959-EFCB815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D442-E90F-4EBB-BB7B-1113C28799DB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B017-2B84-4FD0-A88B-DE8FC8B19316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8950-4A8F-484C-A68D-4C868CE55605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AA2-3B62-4C5A-8EDB-CD8D78A93FA0}" type="slidenum">
              <a:rPr b="0" lang="en-U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/articles/16313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650880"/>
            <a:ext cx="7239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CONSFĂTUIRILE NAŢIONALE </a:t>
            </a:r>
            <a:br>
              <a:rPr sz="1800"/>
            </a:b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ALE INSPECTORILOR 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Ș</a:t>
            </a:r>
            <a:r>
              <a:rPr b="1" lang="en-US" sz="1800" spc="-1" strike="noStrike">
                <a:solidFill>
                  <a:srgbClr val="f2f2f2"/>
                </a:solidFill>
                <a:latin typeface="Trebuchet MS"/>
              </a:rPr>
              <a:t>COLARI </a:t>
            </a:r>
            <a:r>
              <a:rPr b="1" lang="ro-RO" sz="1800" spc="-1" strike="noStrike">
                <a:solidFill>
                  <a:srgbClr val="f2f2f2"/>
                </a:solidFill>
                <a:latin typeface="Trebuchet MS"/>
              </a:rPr>
              <a:t> PENTRU</a:t>
            </a: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2824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  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Diagnoza procesului educaţional din anul școlar 2016-2017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404040"/>
                </a:solidFill>
                <a:latin typeface="Tahoma"/>
              </a:rPr>
              <a:t>●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Regulamentul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vi-VN" sz="2000" spc="-1" strike="noStrike">
                <a:solidFill>
                  <a:srgbClr val="404040"/>
                </a:solidFill>
                <a:latin typeface="Arial"/>
              </a:rPr>
              <a:t>de inspecție a unităților de învățământ preuniversitar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(</a:t>
            </a:r>
            <a:r>
              <a:rPr b="1" lang="pt-BR" sz="2000" spc="-1" strike="noStrike">
                <a:solidFill>
                  <a:srgbClr val="404040"/>
                </a:solidFill>
                <a:latin typeface="Trebuchet MS"/>
              </a:rPr>
              <a:t>O MECTS nr. 5547/6 octombrie 2011)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se poate accesa la adresa: </a:t>
            </a:r>
            <a:r>
              <a:rPr b="0" lang="ro-RO" sz="2000" spc="-1" strike="noStrike" u="sng">
                <a:solidFill>
                  <a:srgbClr val="3fcde7"/>
                </a:solidFill>
                <a:uFillTx/>
                <a:latin typeface="Trebuchet MS"/>
                <a:hlinkClick r:id="rId1"/>
              </a:rPr>
              <a:t>http://www.edu.ro/index.php/articles/163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404040"/>
                </a:solidFill>
                <a:latin typeface="Trebuchet MS"/>
              </a:rPr>
              <a:t>3</a:t>
            </a: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 tipuri fundamentale de inspecție a unităților de învățământ preuniversitar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școlară generală a unităților de învățământ preuniversitar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tematic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Trebuchet MS"/>
              </a:rPr>
              <a:t>inspecția de specialitat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609480" y="3808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CONSF</a:t>
            </a:r>
            <a:r>
              <a:rPr b="1" lang="ro-RO" sz="2000" spc="-1" strike="noStrike">
                <a:solidFill>
                  <a:srgbClr val="3399ff"/>
                </a:solidFill>
                <a:latin typeface="Arial"/>
              </a:rPr>
              <a:t>ĂTUIRILE ANUALE ALE INSPECTORILOR ȘCOLARI  PENTRU LIMBI MOD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295280" y="152388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2f2f2"/>
                </a:solidFill>
                <a:latin typeface="Arial"/>
              </a:rPr>
              <a:t>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5-8</a:t>
            </a:r>
            <a:r>
              <a:rPr b="1" lang="en-US" sz="18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EPTEMBRIE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               </a:t>
            </a:r>
            <a:r>
              <a:rPr b="1" lang="ro-RO" sz="1800" spc="-1" strike="noStrike">
                <a:solidFill>
                  <a:srgbClr val="3399ff"/>
                </a:solidFill>
                <a:latin typeface="Trebuchet MS"/>
              </a:rPr>
              <a:t>Sla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d) consilierea cadrului didactic inspectat în legătură cu proiectarea și utilizarea unor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e) evaluarea capacității cadrului didactic inspectat de a integra Tehnologia informației și comunicațiilor </a:t>
            </a:r>
            <a:r>
              <a:rPr b="0" i="1" lang="vi-VN" sz="2000" spc="-1" strike="noStrike">
                <a:solidFill>
                  <a:srgbClr val="404040"/>
                </a:solidFill>
                <a:latin typeface="Arial"/>
              </a:rPr>
              <a:t>(TIC) și lecțiile din cadrul Platformei de eLearning(AEL)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f) consilierea cadrului didactic inspectat în legătură cu integrar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TIC și a lecțiilor AEL în activitatea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g) evaluarea competențelor cadrului didactic inspectat de autiliza metodel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h) consilierea cadrului didactic inspectat în legătură cu utilizarea unor metode de învățare diferențiat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i) evaluarea capacității cadrului didactic inspectat de a integra elementele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78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j) consilierea cadrului didactic inspectat în legătură cu integrarea elementelor de evaluare în cadrul activităților de predare-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k) consilierea cadrelor didactice în vederea diversificării ofertei curriculare de cursuri opțional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) consilierea cadrelor didactice în legătură cu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23880"/>
            <a:ext cx="7315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) relația profesor—elev și aplicarea sistematică a strategiilor didactice centrate p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b) utilizarea achizițiilor anterioare de învățare ale elev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c) concordanța dintre strategiile didactice utilizate și caracteristicile grupurilor de elev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) individualizarea sarcinilor și a situațiilor de învățare în funcți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nevoile identifica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) caracterul interdisciplinar și transdisciplinar — legături cu al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scipline de studiu, în cadrul aceleeași arii, și legături cu discip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       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rii curriculare diferit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34824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5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5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500"/>
            </a:br>
            <a:br>
              <a:rPr sz="2500"/>
            </a:br>
            <a:r>
              <a:rPr b="1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160" y="18288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f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Arial"/>
                <a:ea typeface="Arial"/>
              </a:rPr>
              <a:t>)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odul de selecție și utilizare a auxiliarelor curriculare în funcție 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specificul unității de învățământ preuniversitar și de achiziții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nterioare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învățare ale educabililo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g) dezvoltarea capacității elevilor de a învăța din experiență și di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ractică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h) modul de răspuns al cadrului didactic la cererile elevilor sau al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părinților privind acordarea de sprijin individual în 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i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includerea, dacă este cazul, în cadrul activităților de predare-învăța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evaluare a elementelor specifice ale minorităților etnice, religioase sa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de altă natură existente în instituția de educați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j) utilizarea formelor de evaluare formativă și sumativă a rezultate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ări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ţi</a:t>
            </a:r>
            <a:r>
              <a:rPr b="1" lang="en-US" sz="2800" spc="-1" strike="noStrike">
                <a:solidFill>
                  <a:srgbClr val="5fcbef"/>
                </a:solidFill>
                <a:latin typeface="Trebuchet MS"/>
              </a:rPr>
              <a:t>a general</a:t>
            </a:r>
            <a:r>
              <a:rPr b="1" lang="ro-RO" sz="2800" spc="-1" strike="noStrike">
                <a:solidFill>
                  <a:srgbClr val="5fcbef"/>
                </a:solidFill>
                <a:latin typeface="Trebuchet MS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240" y="1295280"/>
            <a:ext cx="79246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spectele urmărite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k) respectarea recomandărilor de igienă școlară privind echilibrul dintr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activitatea școlară a elevului și celelalte tipuri de activități specific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vârstei (inclusiv în privința temelor pentru acasă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l) respectarea drepturilor și îndatoririlor cadrelor didactice și ale elevil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 cadrul proceselor de predare-învățare-evalu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m) utilizarea autoevaluării și interevaluării elevilor în activitățile 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vățare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n</a:t>
            </a: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) prezentarea produselor activității elevilor în sălile de clasă/grupă și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încelelalte spații ale unității de învățământ preuniversita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800" spc="-1" strike="noStrike">
                <a:solidFill>
                  <a:srgbClr val="404040"/>
                </a:solidFill>
                <a:latin typeface="Arial"/>
                <a:ea typeface="Arial"/>
              </a:rPr>
              <a:t>o) caracterul obiectiv al evaluării formative și sumati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reg</a:t>
            </a:r>
            <a:r>
              <a:rPr b="0" lang="ro-RO" sz="3600" spc="-1" strike="noStrike">
                <a:solidFill>
                  <a:srgbClr val="000000"/>
                </a:solidFill>
                <a:latin typeface="Trebuchet MS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tirea cadrelor didactic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Direc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ţ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ii principale de preg</a:t>
            </a:r>
            <a:r>
              <a:rPr b="1" lang="ro-RO" sz="2200" spc="-1" strike="noStrike">
                <a:solidFill>
                  <a:srgbClr val="ff0066"/>
                </a:solidFill>
                <a:latin typeface="Trebuchet MS"/>
              </a:rPr>
              <a:t>ă</a:t>
            </a:r>
            <a:r>
              <a:rPr b="1" lang="en-US" sz="2200" spc="-1" strike="noStrike">
                <a:solidFill>
                  <a:srgbClr val="ff0066"/>
                </a:solidFill>
                <a:latin typeface="Trebuchet MS"/>
              </a:rPr>
              <a:t>ti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unoaşterea documentelor şcolare reglatoare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(Planurile –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dru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şi programele şcolare în vigoare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Pregătirea de specialitate şi metodic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manualelor şcolare, a ghidurilor metodologice  şi a ghidurilor de evaluare pentru disciplina Limba modernă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Formarea cadrelor didactice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 în vederea abordării interdisciplinare a lecţiilor de limbă modern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Dotarea</a:t>
            </a:r>
            <a:r>
              <a:rPr b="1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cabinetelor de limbi moder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● </a:t>
            </a:r>
            <a:r>
              <a:rPr b="1" lang="ro-RO" sz="2200" spc="-1" strike="noStrike">
                <a:solidFill>
                  <a:srgbClr val="404040"/>
                </a:solidFill>
                <a:latin typeface="Arial"/>
                <a:ea typeface="Arial"/>
              </a:rPr>
              <a:t>Utilizarea  instrumentelor de evaluare, inclusiv a instrumentelor digitale de evaluar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 rot="20880000">
            <a:off x="755280" y="1412640"/>
            <a:ext cx="752472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SUCCES TUTUROR 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5fcbef"/>
                </a:solidFill>
                <a:latin typeface="Arial Black"/>
              </a:rPr>
              <a:t>ÎN NOUL AN ŞCOLAR !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5fcbe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şcolară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880" y="17524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ahoma"/>
              </a:rPr>
              <a:t>-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reprezintă un ansamblu de acţiuni  care urmăresc îndrumarea, controlul şi evaluarea activităţii desfăşurate de cadrele didactice, colectivele de catedră / comisiile metodice, conducerile unităţilor de învăţământ, inspectorii şcolari, inspectorii şcolari de specialitate, inspectori şcolari generali adjuncţi şi inspectorii şcolari generali, în cadrul procesului de învăţământ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asigură o evaluare externă de proces a calităţii şi a nivelului atingerii standardelor educaţ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se desfăşoară prin acţiuni specifice proiectate şi realizate la nivelul unităţii de învăţământ, al inspectoratului şcolar şi al Ministerului Educaţiei Naționale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just">
              <a:lnSpc>
                <a:spcPct val="100000"/>
              </a:lnSpc>
              <a:spcBef>
                <a:spcPts val="1250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- este organizată de căt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a) Ministerul Educaţiei Național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b) Inspectoratele şcolare județene/ al municipiului București</a:t>
            </a:r>
            <a:r>
              <a:rPr b="0" lang="en-US" sz="2000" spc="-1" strike="noStrike">
                <a:solidFill>
                  <a:srgbClr val="404040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40404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98400" indent="-26856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FUNCŢIILE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 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</a:t>
            </a:r>
            <a:r>
              <a:rPr b="1" lang="ro-RO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iagnoză, prognoză şi prospecţie a sistemului de învăţământ pe o perioadă determinată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planificare şi organizare a sistem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orientare şi îndrumare metodologică a procesului de învăţământ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monitorizare a eliminării disfuncţiilor constatate prin aplicarea planului de măsur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1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de reglare/autoreglare a sistemului şi/sau a procesului de învăţământ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SCOPU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L 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NSPEC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Ţ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IEI </a:t>
            </a: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Ş</a:t>
            </a:r>
            <a:r>
              <a:rPr b="0" lang="en-US" sz="2500" spc="-1" strike="noStrike">
                <a:solidFill>
                  <a:srgbClr val="5fcbef"/>
                </a:solidFill>
                <a:latin typeface="Trebuchet MS"/>
              </a:rPr>
              <a:t>COLARE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unităţilor şcolare şi a personalului didactic în creşterea calităţii procesului educativ prin consiliere şi revizuire continuă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404040"/>
                </a:solidFill>
                <a:latin typeface="Trebuchet MS"/>
              </a:rPr>
              <a:t>sprijinirea evaluării calităţii ofertei educaţionale şi a nivelului de performanţă atins de elevi, la nivel naţional, regional, judeţean şi local, prin furnizarea către cei în drept a rapoartelor de inspecţi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2500" spc="-1" strike="noStrike">
                <a:solidFill>
                  <a:srgbClr val="5fcbef"/>
                </a:solidFill>
                <a:latin typeface="Trebuchet MS"/>
              </a:rPr>
              <a:t>Principiile inspecţiei şcolare sunt: </a:t>
            </a:r>
            <a:br>
              <a:rPr sz="32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alităţii ofertei educaţion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galităţii şanselor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meliorării şi dezvolt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autoevaluări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feed-back-ului constructiv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competenţei şi profesionalismului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miterii judecăţilor de valoar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examinării multicriteriale;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1900" spc="-1" strike="noStrike">
                <a:solidFill>
                  <a:srgbClr val="404040"/>
                </a:solidFill>
                <a:latin typeface="Trebuchet MS"/>
              </a:rPr>
              <a:t>Principiul transparenţei.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53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2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2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În evaluarea şi consilierea cadrelor didactice în cadrul inspecţiei de specialitate se va urmări cu precădere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unoaşterea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în care demersul didactic este conceput din perspectiva atingerii competenţelor specifice incluse în  cadrul programei şcol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Asocierea în cadrul planificării şi proiectării didactice a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nţinuturilor în funcţie de competenţele specific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Utilizarea unor strategii didactice bazate pe metode moderne şi alternarea formelor de activitat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Integrarea  elementelor de evaluare  în cadrul strategiilor didactice prin  utilizarea unor forme şi metode diversificate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 evaluare inițială, evaluare formativă, evaluare sumativ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metode tradiţionale şi metode alternative şi</a:t>
            </a:r>
            <a:r>
              <a:rPr b="1" lang="en-US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complementare, inclusiv evaluarea digitală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Inspecţia de</a:t>
            </a: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ro-RO" sz="3600" spc="-1" strike="noStrike">
                <a:solidFill>
                  <a:srgbClr val="5fcbef"/>
                </a:solidFill>
                <a:latin typeface="Trebuchet MS"/>
              </a:rPr>
              <a:t>specialitate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480" y="2160360"/>
            <a:ext cx="6934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Gradul de adecvare al strategiei didactice la particularităţile claselor de elevi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Realizarea unor conexiuni inter şi trans-disciplinar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● </a:t>
            </a:r>
            <a:r>
              <a:rPr b="1" lang="ro-RO" sz="2000" spc="-1" strike="noStrike">
                <a:solidFill>
                  <a:srgbClr val="404040"/>
                </a:solidFill>
                <a:latin typeface="Trebuchet MS"/>
              </a:rPr>
              <a:t>Evaluarea activităţii didactice din perspectiva eficienţei învăţări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5fcbef"/>
                </a:solidFill>
                <a:latin typeface="Trebuchet MS"/>
                <a:ea typeface="Tahoma"/>
              </a:rPr>
              <a:t>Inspecția de specialitate</a:t>
            </a: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 tipuri majore de activități</a:t>
            </a:r>
            <a:r>
              <a:rPr b="0" i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Activități de asistență la lecție/lecții, analiză, autoevaluare, evaluare și consilier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Trebuchet MS"/>
                <a:ea typeface="Tahoma"/>
              </a:rPr>
              <a:t>2. Analiza documentelor și a activităților catedrei și consilierea membrilor catedrei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5fcbef"/>
                </a:solidFill>
                <a:latin typeface="Trebuchet MS"/>
              </a:rPr>
              <a:t>Inspecția de specialitate. Scop, obiective, etape 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Scop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îl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constitui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e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 evaluarea și/sau monitorizarea activității didactice, în mod fundamental a activității de proiectare, predare-învățare-evaluare, prin raportare la sistemul de competențe al profesiei didactice, consilierea cadrelor didactice în legătură cu activitatea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lor profesională și posibilitățile de dezvoltare profesională și evoluție în carier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Principalele obiective urmărite în cadrul inspecției de specialitate </a:t>
            </a:r>
            <a:r>
              <a:rPr b="0" lang="ro-RO" sz="2000" spc="-1" strike="noStrike">
                <a:solidFill>
                  <a:srgbClr val="404040"/>
                </a:solidFill>
                <a:latin typeface="Trebuchet MS"/>
              </a:rPr>
              <a:t> sunt</a:t>
            </a: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a) evaluarea competențelor cadrului didactic inspectat de a elabora, pe baza unei lecturi personalizate a programei școlare, planificările calendaristice și proiectele unităților de învățar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b) consilierea cadrului didactic inspectat în legătură cu realizarea activităților de planificare și proiectare didactică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vi-VN" sz="2000" spc="-1" strike="noStrike">
                <a:solidFill>
                  <a:srgbClr val="404040"/>
                </a:solidFill>
                <a:latin typeface="Arial"/>
              </a:rPr>
              <a:t>c) evaluarea capacității cadrului didactic inspectat de a proiecta și utiliza strategii didactice corespunzătoare învățământului modern bazat pe competențe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9:04:12Z</dcterms:created>
  <dc:creator>Manuela-Delia Anghel</dc:creator>
  <dc:description/>
  <dc:language>en-US</dc:language>
  <cp:lastModifiedBy>Luminita Stoian</cp:lastModifiedBy>
  <dcterms:modified xsi:type="dcterms:W3CDTF">2017-09-04T04:47:38Z</dcterms:modified>
  <cp:revision>139</cp:revision>
  <dc:subject/>
  <dc:title>CURRICULUM ŞI INSPECŢIE ŞCOLARĂ</dc:title>
</cp:coreProperties>
</file>