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F3F-3E74-4035-8B09-C63D981F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4BE-DC78-4233-99D4-FC362BBF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ABA-D1FC-4062-A9E1-B9C5FE24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9E1-6B4F-4A87-9516-F90D6CAA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E01C-C2FE-4C32-92A3-660FCAD1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C357-E93D-42C9-8156-B64A716F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81C9-CBDC-4828-9522-6B66CCBB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3853-CECB-4E34-927C-35880DAA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BA4D-6D76-4B5C-A2CB-612B1C18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BC9B-8820-4C1C-9536-E7D1CF28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26CA-3A94-401F-9CFE-C345A3CC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03F-E6A4-4759-ABEA-15487E9B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77D1-2B9C-455A-B3FA-0FC9E395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FD61-7CE4-48F4-B3A8-2B54F2F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493A-05AE-4AF8-9833-933CBED7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C334-9D80-4DB9-91AD-9625D9B3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DE2-1603-448D-B158-BED5F516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0DCFD-0B2E-4D1F-8933-16517247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B1D4A-7E9A-424D-99DE-6580DEF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8195B-21D1-461D-A9F7-FA94A56E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4D5F6-F157-45EC-A523-729552B6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2E19D-7624-45F9-B280-4B5D401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E29-0A44-4643-BA6D-1BE7612F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15482-6067-4193-8F42-BC5BA004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7D9E1-C792-46A8-B467-38F20E6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63AD9-D5D5-47D2-B0B3-0ACB2EE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44A49-08B2-4367-81E2-8CDDD89C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08A4E-7D52-4626-A34C-471D4BB2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A7B10-3689-4599-947B-6D6CD9E2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32620-89BD-4AFC-83FB-2722FCE5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0798-9508-4A45-8AD8-9467AD38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3A32-421D-4F03-90C4-AA845324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71E6-E7A4-42FB-B6CE-2A9C270A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365-A379-4867-BDE6-346C2104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86877-1B89-4F22-A7FC-577CFD9D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B09F-AA40-4EA6-9345-EA46F2A0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72E0-CF9F-4B6A-96D6-C7852BB2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6D230-F46D-46DF-BA31-4705D881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F0E9-6378-4109-BC36-9985BE6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07C5-531D-4029-9215-039D63F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FA0AB-7792-417C-88C7-21222E22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7842-8DD3-492C-BFC1-0298FCEF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777E-5396-4D5C-9B56-00C9B36F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20615-0CAD-48BC-AF61-25B1D792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F10-B03B-44AB-8931-EB52011F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21EB9-542D-480F-9A9C-C403D6D9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CD911-B273-4F36-8DAF-31E20DCD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D4916-BCB8-4CBC-AFE4-0252E0C5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28DC7-0DFA-4E32-99B3-85E23416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6BE5D-305F-46F7-A8A1-8D1870C8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62B4C-F2EB-4ED5-A9F7-EC7A3504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5845B-64FC-4E2A-83EB-FE6962C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3CF87-1D6A-407A-B6C4-B089DD59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EA842-6BCB-4F87-94BA-D224A150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96257-BA9D-4916-A173-C9210329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920-2241-49F7-8B96-05D34F6C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DF8DC-ADB3-44CF-B50E-2729D7E8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BACF2-0F57-453C-BB97-E62E204B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F0D43-25F6-4528-9671-A880D15E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67246-3F86-4634-A7B9-1039F4A7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75F1B7-4333-4AA2-A38E-4D28D25F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31D85-9D73-42F6-9BC7-A8415404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5F637-4AB3-4F92-83C0-6A3CA0B9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F2DDB-3A6A-4B0F-9873-D9F1143D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3DF86-FCDF-47A9-A55C-4027D47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ADB82-D4F8-41C6-A4A4-EC0CD7C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D0F-AE59-4979-9661-D891B947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89FAE-C867-47F5-B9A1-8977FAAA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10AD7-D74A-4A1D-ABDC-B8D9238A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52F49-B4E7-4DFC-980C-66C77146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092AE-D63E-43C9-9AE4-3BE20141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727BF-506B-4830-9313-BCDF951F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D07AD-9082-4DFC-9A4B-8BE45A40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EBED8-E28E-4A74-ADA5-512FA0F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28FE9-BB20-41D0-A791-78CE7867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CF5F2-03E2-4325-8D1E-6F8578B4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FC4A2-4732-4938-8B3C-2AF314C5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206-7AAA-4BD3-9468-2839338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C5502-6A22-4B39-853D-56E968B3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9FDBB-BF60-425B-B7C2-9F1B4949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052CE-C7A1-402D-B312-45DDFEF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80477-0AAE-4254-ABAD-8466B65A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3ABE5-63A6-444F-9647-E3598752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E5B-C0CA-4DB7-A061-5BC84E31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C4EC-5BEE-4DDA-8D78-2E08C7C5CF23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9A62-9E39-4C29-8577-9647948B9473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0CF1-2B8A-4AAD-8BAF-B934BA35EA92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1BDD-7D41-47B5-936B-7A44D38199F9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FA2-00AC-4FE8-AE3A-25FF23A05318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1233-EEBC-46E7-8E13-88774AF62286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6AA5-32EC-4CC4-9A1E-100ABECE43E6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ls. a X-a 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Prof. Radu Florent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ITEMUL PEDAGOGI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după gradul de obiectivitate, identificăm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Title 1"/>
          <p:cNvSpPr/>
          <p:nvPr/>
        </p:nvSpPr>
        <p:spPr>
          <a:xfrm>
            <a:off x="46836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26920" y="2276640"/>
          <a:ext cx="7108920" cy="44146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790640"/>
                <a:gridCol w="1717560"/>
              </a:tblGrid>
              <a:tr h="157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tegor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temi obiecti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temi semiobieti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temi subiecti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(cu răspuns deschi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4644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ipur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cu alegere dual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cu răspuns scu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zolvare de proble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cu alegere multipl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de complet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eu structur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4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de tip perec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Întrebări structu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eu liber, nestructur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467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OBIECTIVI</a:t>
            </a:r>
            <a:br>
              <a:rPr sz="2800"/>
            </a:br>
            <a:r>
              <a:rPr b="1" i="1" lang="vi-VN" sz="2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TEORIA ŞI PRACTICA INSTRUIRII ŞI EVALUĂ</a:t>
            </a:r>
            <a:r>
              <a:rPr b="1" i="1" lang="vi-VN" sz="29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RII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cu alegere duală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electarea răspunsului corect din două răspunsuri posibile oferit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r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le practice constituie o metod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valuare alternativ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*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cu alegere multipl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ea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i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ur răspuns corect sau cea mai bună alternativ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ectul didactic se întocmeste pentru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 zi de lucr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 lecţie*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 unitate de înv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EXEMPLE ITEMI O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50920" y="1600200"/>
            <a:ext cx="8353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de tip pereche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rea unor corespondenţe/ asociaţii între cuvinte, propoziţii, fraze, litere sau alte categorii de simboluri dispuse pe două coloa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403280" y="3716280"/>
          <a:ext cx="6624720" cy="1800360"/>
        </p:xfrm>
        <a:graphic>
          <a:graphicData uri="http://schemas.openxmlformats.org/drawingml/2006/table">
            <a:tbl>
              <a:tblPr/>
              <a:tblGrid>
                <a:gridCol w="2773440"/>
                <a:gridCol w="3851280"/>
              </a:tblGrid>
              <a:tr h="41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bservarea sistematic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odă alternativă de eval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1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ba scris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1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toevalua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odă tradiţională  de eval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6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versaţ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3640" y="16002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olicită elevului să construiască total sau parţial răspunsul la sarcina definită în itemi. Sunt, de regulă, itemi de completare (gen propoziţie lacunară) sau itemi de ordonare. Sunt o combinaţie între itemii obiectivi şi cei cu răspuns deschis (construit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Itemi cu răspuns scu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zaţi care sunt care sunt categoriile şi subcategoriile de item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de complet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le alternative de evaluare sunt: ..................., ................., ........................., ......................., ..............................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</a:t>
            </a:r>
            <a:r>
              <a:rPr b="1" lang="en-US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SEMI</a:t>
            </a: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O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50560" y="1600200"/>
            <a:ext cx="8281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Itemi cu răspuns structura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întrebare structurată este formată din mai multe subîntrebări de tip obiectiv, semiobiectiv sau minieseu, legate între ele printr-un element comu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rea- parte integrant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rocesului instructiv- educativ. Reper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Definirea procesului în raport cu predarea- înv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Funcţi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Operaţi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</a:t>
            </a:r>
            <a:r>
              <a:rPr b="1" lang="en-US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SEMI</a:t>
            </a: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O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4000" y="1628640"/>
            <a:ext cx="849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cită un răspuns deschis. Sunt destinaţi activării creativităţii, originalităţii şi posibilităţilor elevului de a transfera cunoştinţ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i tip “rezolvare de probleme”,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determină confruntarea elevului cu o situaţie nouă, inedită, pentru care el trebuie să găsească soluţia, să aleagă strategia de lucru şi să le rezolve singur, pe baza achiziţiilor anterioare şi a experienţei sa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i tip „eseu liber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pune elevul în situaţia de a construi un răspuns liber în conformitate cu un set dat de cerinţ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tip „eseu structurat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</a:t>
            </a:r>
            <a:r>
              <a:rPr b="1" lang="en-US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SU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23640" y="16002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tricea de specificaţii reprezintă o punte de legătură între obiective, conţinuturi, şi evalua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tricea de specificaţii constă într-un tabel cu două intrări care serveşte la proiectarea şi organizarea itemilor dintr-un test docimologic în care sunt precizate, pe de o parte, conţinuturile care vor fi vizate şi, pe de altă parte, nivelele taxonomice la care se plasează obiectivele de evalu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Title 1"/>
          <p:cNvSpPr/>
          <p:nvPr/>
        </p:nvSpPr>
        <p:spPr>
          <a:xfrm>
            <a:off x="46836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MATRICEA DE SPECIFICAŢI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2340000" y="44280"/>
            <a:ext cx="4840200" cy="6845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84780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920" y="1600200"/>
            <a:ext cx="8353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unt criterii calitative unitare care vizează o evaluare cât mai obiectivă şi care furnizează elevilor, profesorilor şi părinţilor informaţii relevante despre nivelul performanţelor elevil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e stabilesc de către cadrul didactic pentru fiecare calificativ cu care se operează învăţământul primar românesc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46836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SCRIPTORI DE PERFORMANŢ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143920" cy="3649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SCRIPTORI DE PERFORMANŢ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900000" y="189000"/>
            <a:ext cx="691200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Categorii taxonomice- Blo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C:\Users\Flori\Desktop\Untitled.png"/>
          <p:cNvPicPr/>
          <p:nvPr/>
        </p:nvPicPr>
        <p:blipFill>
          <a:blip r:embed="rId1"/>
          <a:stretch/>
        </p:blipFill>
        <p:spPr>
          <a:xfrm>
            <a:off x="1727280" y="1341360"/>
            <a:ext cx="52578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ACTIVITATE PE GRUP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2349000"/>
            <a:ext cx="3538440" cy="27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Times New Roman"/>
              </a:rPr>
              <a:t>Realizaţi o hartă conceptuală, pornind de la conţinutul ştiinţific prezentat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4211640" y="1841400"/>
            <a:ext cx="43862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3640" y="1600200"/>
            <a:ext cx="292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Times New Roman"/>
              </a:rPr>
              <a:t>Realizaţi un tip de item, la o disciplină la alegere, corelându-l cu o competenţă specifică  învăţământului prima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ACTIVITATE INDIVIDUAL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7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324000" y="189000"/>
            <a:ext cx="820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f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Cerghit, I. T. Radu, E. Popescu, L. Vlăsceanu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actica, man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entru clasa a X-a- şcoli normale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P, Bucureşti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Ionescu, M. Bocoş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t de didactică modern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itura Paralele 45, Piteşti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 M. Gavrilă, M. Nicolae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-u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orilor grafici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PH, Bucureşti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Manolescu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rea şcolară- metode, tehnici, instrumente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itura Meteor Press, Bucureşti, 200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. Radu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rea în procesul didactic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P, Bucureşti, 200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 şcolară pentru Disciplipele Pedagogice şi Psihologice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cureşti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667872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MORIŞCA LUI BLOOM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1986120" y="1123920"/>
            <a:ext cx="51717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79280" y="649440"/>
            <a:ext cx="8496360" cy="612108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58" name="Rectangle 3"/>
          <p:cNvSpPr/>
          <p:nvPr/>
        </p:nvSpPr>
        <p:spPr>
          <a:xfrm>
            <a:off x="539640" y="260280"/>
            <a:ext cx="777744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862110"/>
                </a:solidFill>
                <a:latin typeface="Times New Roman"/>
              </a:rPr>
              <a:t>Taxonomia </a:t>
            </a:r>
            <a:r>
              <a:rPr b="1" lang="en-US" sz="2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r</a:t>
            </a:r>
            <a:r>
              <a:rPr b="1" lang="vi-VN" sz="2000" spc="-1" strike="noStrike">
                <a:solidFill>
                  <a:srgbClr val="862110"/>
                </a:solidFill>
                <a:latin typeface="Times New Roman"/>
              </a:rPr>
              <a:t>evizuită a lui Bloom </a:t>
            </a:r>
            <a:r>
              <a:rPr b="1" lang="en-US" sz="2000" spc="-1" strike="noStrike">
                <a:solidFill>
                  <a:srgbClr val="862110"/>
                </a:solidFill>
                <a:latin typeface="Century Schoolbook"/>
              </a:rPr>
              <a:t>- categorii de ver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TESTUL DOCIMOLOGIC- CARACTERISTICI, ETAPE ÎN ELABORAR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360" y="1773360"/>
            <a:ext cx="820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Cuvinte cheie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test docimologic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item pedagogic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matrice de specificaţii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descriptori de performanţă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0920" y="1600200"/>
            <a:ext cx="8424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imes New Roman"/>
              </a:rPr>
              <a:t>test care îndeplineşte o funcţie docimologică- de examinare şi notar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imes New Roman"/>
              </a:rPr>
              <a:t>este un instrument de verificare cu o structură şi însuşiri specific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imes New Roman"/>
              </a:rPr>
              <a:t>poate fi o probă orală sau practică, dar de cele mai multe ori este o probă scris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itle 1"/>
          <p:cNvSpPr/>
          <p:nvPr/>
        </p:nvSpPr>
        <p:spPr>
          <a:xfrm>
            <a:off x="685800" y="83664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TESTUL DOCIMO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AVANTAJ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4920" y="1052280"/>
            <a:ext cx="814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obiectivitate sporită (datorită corelării intrinseci între obiectivele didactice, conţinuturile învăţării şi itemii testului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rigurozitate în măsurarea achiziţiilor elevului şi în aprecierea modului de rezolvare a itemilor/ probelor conţinute în test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dezvoltă capacitatea de autoevaluare la şcolari, în măsura în care aceştia pot verifica singuri corectitudinea modului de rezolvare a itemilor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oferă, prin rezultatul lor, posibilitatea adoptării de decizii, oportune şi în timp util, destinate ameliorării actului didacti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6840" y="160020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500" spc="-1" strike="noStrike">
                <a:solidFill>
                  <a:srgbClr val="000000"/>
                </a:solidFill>
                <a:latin typeface="Times New Roman"/>
              </a:rPr>
              <a:t>se elaborează greu, efortul pentru realizarea lor fiind relativ mare datorită complexităţii itemilor şi cuantificării diferenţiate a acestora (punctaje maxim şi minim)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500" spc="-1" strike="noStrike">
                <a:solidFill>
                  <a:srgbClr val="000000"/>
                </a:solidFill>
                <a:latin typeface="Times New Roman"/>
              </a:rPr>
              <a:t>consumă timp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500" spc="-1" strike="noStrike">
                <a:solidFill>
                  <a:srgbClr val="000000"/>
                </a:solidFill>
                <a:latin typeface="Times New Roman"/>
              </a:rPr>
              <a:t>inhibă elevii emotivi (sensibili).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itle 1"/>
          <p:cNvSpPr/>
          <p:nvPr/>
        </p:nvSpPr>
        <p:spPr>
          <a:xfrm>
            <a:off x="468360" y="623880"/>
            <a:ext cx="7467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ZAVANT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LABORAREA TESTULUI DOCIMOLOGIC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8920" y="134136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ap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stabilirea obiectivelor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urmărite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stabilirea materiei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(teme, capitole, grup de lecţii etc.) din care se va susţine testarea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elaborarea itemilor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cuantificarea testului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(atribuirea punctajelor: maxim specific şi minim acceptat; echivalarea în note/calificative)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organizarea testului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(înştiinţarea elevilor, prezentarea instrucţiunilor de lucru, precizarea timpului de execuţie, asigurarea condiţiilor de aplicare a testului)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aplicarea testului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notarea rezultatelor obţinute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5:33:13Z</dcterms:created>
  <dc:creator>HSH</dc:creator>
  <dc:description/>
  <dc:language>en-US</dc:language>
  <cp:lastModifiedBy>Flori</cp:lastModifiedBy>
  <dcterms:modified xsi:type="dcterms:W3CDTF">2017-04-02T10:28:46Z</dcterms:modified>
  <cp:revision>109</cp:revision>
  <dc:subject/>
  <dc:title>Slide 1</dc:title>
</cp:coreProperties>
</file>