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579E-89C2-4A0C-A026-BD2BFC47EAC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1221-F927-4EEF-B07B-7E83FEF3504F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F4F7-8D41-4E4C-991D-323D26113C83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9738-C8E2-43BD-8B81-82E3B23AC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EBF7-4257-4B76-8EB4-57ADA969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42EE-E700-4341-B375-EE9EFCEFE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6CEC-7A23-40C5-AC55-FD509AB7A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4232-60DA-45A6-99AE-2F1D8EFA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E470-42DE-4F5F-89D7-E752F9D6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59C7-41BD-4A69-89E9-1E5007DF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4633-108C-4E54-B327-0495230E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8ECA-60E4-400C-98A8-D68944CD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2BA7-0BB2-49A1-B3DB-21F37DD2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6C1E-7E7C-4859-90CF-55FFA0D7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E157-6B5E-47BB-94F4-F8920672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60E2-FC07-452B-853A-047E760C96DF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hteck 1"/>
          <p:cNvSpPr/>
          <p:nvPr/>
        </p:nvSpPr>
        <p:spPr>
          <a:xfrm>
            <a:off x="534960" y="6362640"/>
            <a:ext cx="650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111E-433E-4B8D-AB4E-4634D69ABDC7}" type="slidenum">
              <a:rPr b="0" lang="de-CH" sz="9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Bild 2" descr="Logo_TdH_neutral_RGB_big.gif"/>
          <p:cNvPicPr/>
          <p:nvPr/>
        </p:nvPicPr>
        <p:blipFill>
          <a:blip r:embed="rId2"/>
          <a:stretch/>
        </p:blipFill>
        <p:spPr>
          <a:xfrm>
            <a:off x="6323040" y="6107040"/>
            <a:ext cx="2293920" cy="395280"/>
          </a:xfrm>
          <a:prstGeom prst="rect">
            <a:avLst/>
          </a:prstGeom>
          <a:ln w="0">
            <a:noFill/>
          </a:ln>
        </p:spPr>
      </p:pic>
      <p:pic>
        <p:nvPicPr>
          <p:cNvPr id="43" name="Bild 3" descr=""/>
          <p:cNvPicPr/>
          <p:nvPr/>
        </p:nvPicPr>
        <p:blipFill>
          <a:blip r:embed="rId3"/>
          <a:stretch/>
        </p:blipFill>
        <p:spPr>
          <a:xfrm flipH="1" rot="10800000">
            <a:off x="0" y="-360"/>
            <a:ext cx="9144000" cy="2667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4600" y="646200"/>
            <a:ext cx="806292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c000"/>
                </a:solidFill>
                <a:latin typeface="Comic Sans MS"/>
              </a:rPr>
              <a:t>Ziua Ștafetei – Acum decid eu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000000"/>
                </a:solidFill>
                <a:latin typeface="Comic Sans MS"/>
              </a:rPr>
              <a:t>Ediția 2015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4960" y="5070240"/>
            <a:ext cx="808200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900" spc="-1" strike="noStrike">
                <a:solidFill>
                  <a:srgbClr val="ffc000"/>
                </a:solidFill>
                <a:latin typeface="Comic Sans MS"/>
              </a:rPr>
              <a:t>„</a:t>
            </a:r>
            <a:r>
              <a:rPr b="0" i="1" lang="ro-RO" sz="1900" spc="-1" strike="noStrike">
                <a:solidFill>
                  <a:srgbClr val="ffc000"/>
                </a:solidFill>
                <a:latin typeface="Comic Sans MS"/>
              </a:rPr>
              <a:t>Copiii pot face lucruri mult mai mărețe decât ne-am putea închipui. Tinerii au un uriaș potențial de a schimba lumea într-una mai bună ! ACUM.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D:\ZIUA STAFETEI 2013\logo-uri\Acum decid eu - revised logo .png"/>
          <p:cNvPicPr/>
          <p:nvPr/>
        </p:nvPicPr>
        <p:blipFill>
          <a:blip r:embed="rId1"/>
          <a:stretch/>
        </p:blipFill>
        <p:spPr>
          <a:xfrm>
            <a:off x="3203640" y="1955880"/>
            <a:ext cx="474804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53680" y="620640"/>
            <a:ext cx="806292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"/>
          <p:cNvSpPr/>
          <p:nvPr/>
        </p:nvSpPr>
        <p:spPr>
          <a:xfrm flipH="1">
            <a:off x="227880" y="1647720"/>
            <a:ext cx="852012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c000"/>
                </a:solidFill>
                <a:latin typeface="Comic Sans MS"/>
              </a:rPr>
              <a:t>„</a:t>
            </a:r>
            <a:r>
              <a:rPr b="1" lang="ro-RO" sz="2000" spc="-1" strike="noStrike">
                <a:solidFill>
                  <a:srgbClr val="ffc000"/>
                </a:solidFill>
                <a:latin typeface="Comic Sans MS"/>
              </a:rPr>
              <a:t>Ziua Ștafetei”</a:t>
            </a:r>
            <a:r>
              <a:rPr b="1" lang="ro-RO" sz="16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celebrează dreptul tuturor tineri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de a participa în societate și se desfășoară în fiecare an în luna noiembrie, cu ocazia Zilei Internaționale a semnării Convenției privitoare la Drepturile Copilului, care are loc pe 20 noiembr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Prima ediție a avut loc în 2012, </a:t>
            </a: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fiind inspirată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de modelul de „Takeover Day ” din UK și Scoț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Initiațiva, ajunsă în prezent la cea de-a patra ediție, este implementată de Fundația Terre des hommes în parteneriat cu Ministerul Educației, F.O.N.P.C, Ambasade, Asociații, ONG-uri, instituții de stat și private din toată țara, ce recunosc potențialul deosebit al tinerilo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Comic Sans MS"/>
              </a:rPr>
              <a:t>Viziunea </a:t>
            </a: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acestui proiect este o lume în care tinerii sunt respectați, ascultați și trăiesc în demnitat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411280" y="47628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Pentru ce pledă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D:\ZIUA STAFETEI 2013\logo-uri\Acum decid eu - revised logo .png"/>
          <p:cNvPicPr/>
          <p:nvPr/>
        </p:nvPicPr>
        <p:blipFill>
          <a:blip r:embed="rId1"/>
          <a:stretch/>
        </p:blipFill>
        <p:spPr>
          <a:xfrm>
            <a:off x="6480000" y="458640"/>
            <a:ext cx="26179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855440" y="250920"/>
            <a:ext cx="806292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"/>
          <p:cNvSpPr/>
          <p:nvPr/>
        </p:nvSpPr>
        <p:spPr>
          <a:xfrm>
            <a:off x="395280" y="646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1187280" y="6119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250920" y="627120"/>
            <a:ext cx="8893080" cy="71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Scopul</a:t>
            </a:r>
            <a:r>
              <a:rPr b="0" lang="ro-RO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acestui proiect este </a:t>
            </a: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facilitarea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 participării copiilor și tinerilor la deciziile importante ce le pot influența viața și comunitatea în care trăiesc.</a:t>
            </a:r>
            <a:br>
              <a:rPr sz="1800"/>
            </a:b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Proiectul are în vedere </a:t>
            </a:r>
            <a:br>
              <a:rPr sz="2400"/>
            </a:br>
            <a:br>
              <a:rPr sz="2000"/>
            </a:b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Recunoaștere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dreptului la participare a copiilor în România</a:t>
            </a:r>
            <a:br>
              <a:rPr sz="1800"/>
            </a:b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br>
              <a:rPr sz="1800"/>
            </a:b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Introducerea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unui model educațional modern implementat la nivel național  </a:t>
            </a: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br>
              <a:rPr sz="2000"/>
            </a:b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Crearea unui spațiu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de explorare vocațională și de exprimare personală ce le dezvoltă potențialul 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c000"/>
                </a:solidFill>
                <a:latin typeface="Comic Sans MS"/>
              </a:rPr>
              <a:t>Tinerii care au participat în perioada 2012 – 2014 au apreciat-o ca fiind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„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o experiență de neuitat ! ..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 Pur și simplu, nu ai cum să nu iubești Ziua Ștafete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ffc000"/>
                </a:solidFill>
                <a:latin typeface="Comic Sans MS"/>
              </a:rPr>
              <a:t>Extras din Jurnalul de Bord  al ediției din 2014 </a:t>
            </a:r>
            <a:r>
              <a:rPr b="1" i="1" lang="ro-RO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D:\ZIUA STAFETEI 2013\logo-uri\Acum decid eu - revised logo .png"/>
          <p:cNvPicPr/>
          <p:nvPr/>
        </p:nvPicPr>
        <p:blipFill>
          <a:blip r:embed="rId1"/>
          <a:stretch/>
        </p:blipFill>
        <p:spPr>
          <a:xfrm>
            <a:off x="6427800" y="250920"/>
            <a:ext cx="26179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855440" y="250920"/>
            <a:ext cx="806292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"/>
          <p:cNvSpPr/>
          <p:nvPr/>
        </p:nvSpPr>
        <p:spPr>
          <a:xfrm>
            <a:off x="539640" y="665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1187280" y="6119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182520" y="6746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în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179280" y="1495440"/>
            <a:ext cx="8356680" cy="44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206 </a:t>
            </a: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de tineri din 38 județe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au explorat peste 86 de meserii fiind susținuți în acest demers de 266 de coordonatori, din peste 200 de școli și 1032 de mentori. </a:t>
            </a: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Aceste rezultate au fost obținute grație suportului oferit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Fondation 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’Harcourt</a:t>
            </a: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, d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nist</a:t>
            </a: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erul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ducati</a:t>
            </a: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e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, Ambasad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UK, Franței,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ublic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ii Cehe, Elveției,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r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landei,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l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oniei, Olandei, Delegaț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 Wallonie Bruxelles,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stitut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ul Francez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Double Tree by Hilton,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B Schenker Romtrans,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Aeroportul Otopeni,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AROM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82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 compani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i, din pest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20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de spitale, 14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uctur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i medicale, 18 stați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ublic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sau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rivate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 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adio and TV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unități militare, agenții de presă, structuri județe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D:\ZIUA STAFETEI 2013\logo-uri\Acum decid eu - revised logo .png"/>
          <p:cNvPicPr/>
          <p:nvPr/>
        </p:nvPicPr>
        <p:blipFill>
          <a:blip r:embed="rId1"/>
          <a:stretch/>
        </p:blipFill>
        <p:spPr>
          <a:xfrm>
            <a:off x="6512040" y="279360"/>
            <a:ext cx="261756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06292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395280" y="646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1187280" y="6119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0" y="914400"/>
            <a:ext cx="842328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   </a:t>
            </a: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în 2015  ....</a:t>
            </a:r>
            <a:r>
              <a:rPr b="0" lang="en-US" sz="2400" spc="-1" strike="noStrike">
                <a:solidFill>
                  <a:srgbClr val="ffc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urnalul de bord al activităților din acest an va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desfășurarea regulată a unor </a:t>
            </a: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grupuri consultative de tineri</a:t>
            </a: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implicați în organizarea evenimentului și explorarea opiniilor și deciziilor pe care aceștia le doresc în diferite domenii de interes pentru aceșt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activități de </a:t>
            </a: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advocacy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 ce pledează pentru participarea copilului în Româ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o-RO" sz="1800" spc="-1" strike="noStrike">
                <a:solidFill>
                  <a:srgbClr val="000000"/>
                </a:solidFill>
                <a:latin typeface="Comic Sans MS"/>
              </a:rPr>
              <a:t>și de asemenea, extrem de important 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D:\ZIUA STAFETEI 2013\logo-uri\Acum decid eu - revised logo .png"/>
          <p:cNvPicPr/>
          <p:nvPr/>
        </p:nvPicPr>
        <p:blipFill>
          <a:blip r:embed="rId1"/>
          <a:stretch/>
        </p:blipFill>
        <p:spPr>
          <a:xfrm>
            <a:off x="6524640" y="320760"/>
            <a:ext cx="26179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06292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395280" y="646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187280" y="6119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22200" y="1273320"/>
            <a:ext cx="882180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Comic Sans MS"/>
              </a:rPr>
              <a:t>  </a:t>
            </a: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de către tineri cu vârste cuprinse între 12-18 ani,  într-o manieră pozitivă, prin trei modalitaţi 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simulare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 – un copil sau un grup de copii experimentează atribuţiile unei meserii sau toate meseriile ce funcţionează în cadrul unei instituţ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însoţire a mentorului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– un copil sau un grup de copii observă mentorul desfăşurându-şi activitat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participare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 la soluţionarea unor provocări întâmpinate de o companie – copiii oferă posibile soluţii la problemele întâmpin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Comic Sans MS"/>
              </a:rPr>
              <a:t>  </a:t>
            </a: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Conceptul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este următorul : pentru o zi, tinerii </a:t>
            </a: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„preiau”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meseria visată, pe care au decis singuri că vor s-o experimenteze. Această zi specială este apoi pregătită și organizată atent în compania respectivă, astfel încât aceștia să o poată trăi la intensitatea maximă, să fie consultați în domeniul respectiv, să-și exprime propria lor viziune și să experimenteze cu adevărat acea meser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Profesionistul care predă ștafeta va deveni mentorul tânărului, având rolul de a ghida și facilita reușita întregii experienț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374040" y="654120"/>
            <a:ext cx="57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Preluarea „ ștafetei„ meseriei vis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D:\ZIUA STAFETEI 2013\logo-uri\Acum decid eu - revised logo .png"/>
          <p:cNvPicPr/>
          <p:nvPr/>
        </p:nvPicPr>
        <p:blipFill>
          <a:blip r:embed="rId1"/>
          <a:stretch/>
        </p:blipFill>
        <p:spPr>
          <a:xfrm>
            <a:off x="6526080" y="289080"/>
            <a:ext cx="26179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646200"/>
            <a:ext cx="806292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5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ee7f00"/>
                </a:solidFill>
                <a:latin typeface="Comic Sans MS"/>
              </a:rPr>
              <a:t>Pentru mai multe informații, vă stăm cu mare drag la dispoziți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Fundația Terre des hommes Elveț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București, Strada Franzelarilor,Nr.6,Sec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www.tdh.ch / www.tdh.r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Cristina Vladesc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0728062960 / cristina.vladescu@tdh.r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Tiberiu N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0731327376 / tiberiu.nica@tdh.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Platforma online a proiectului</a:t>
            </a:r>
            <a:r>
              <a:rPr b="1" lang="ro-RO" sz="2000" spc="-1" strike="noStrike">
                <a:solidFill>
                  <a:srgbClr val="ffc000"/>
                </a:solidFill>
                <a:latin typeface="Comic Sans MS"/>
              </a:rPr>
              <a:t>: www.acumdecid.eu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395280" y="646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1187280" y="6119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Mulțumim pentru atenție </a:t>
            </a: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D:\ZIUA STAFETEI 2013\logo-uri\Acum decid eu - revised logo .png"/>
          <p:cNvPicPr/>
          <p:nvPr/>
        </p:nvPicPr>
        <p:blipFill>
          <a:blip r:embed="rId1"/>
          <a:stretch/>
        </p:blipFill>
        <p:spPr>
          <a:xfrm>
            <a:off x="6502320" y="301680"/>
            <a:ext cx="26179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8:57:31Z</dcterms:created>
  <dc:creator>Plain User</dc:creator>
  <dc:description/>
  <dc:language>en-US</dc:language>
  <cp:lastModifiedBy>Elena</cp:lastModifiedBy>
  <cp:lastPrinted>2015-07-13T11:51:14Z</cp:lastPrinted>
  <dcterms:modified xsi:type="dcterms:W3CDTF">2015-09-14T09:57:20Z</dcterms:modified>
  <cp:revision>254</cp:revision>
  <dc:subject/>
  <dc:title>Prezentáció címe</dc:title>
</cp:coreProperties>
</file>