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1A8F-2677-4980-B2D3-1238B043F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2C02-6C8D-48EF-90CB-DC80315B4B65}" type="slidenum">
              <a:rPr b="0" lang="en-US" sz="1200" spc="-1" strike="noStrike">
                <a:solidFill>
                  <a:srgbClr val="000000"/>
                </a:solidFill>
                <a:latin typeface="Titillium We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5E6-55C8-47AD-A186-76474BA3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937-8F9F-457B-88A6-F7F02CC8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9F8-CA35-4F1A-A9D2-2DF206D2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F24-B8E9-483D-AADF-5FD502F6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359-51E7-4C17-A834-1F743CA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E07-233F-4D23-9D27-3C68062A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387-6355-43BD-8F80-5AE17F88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257-A1C3-44CB-80A9-719AE8E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32D-DE09-465E-AEC5-18A3AAF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9B8-B3A5-4B35-8F42-66668BAF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E4B-F214-4082-AE70-9D9B13A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F49-3262-41B7-9672-DDFFB2A8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DFA7-6D38-4B3D-8325-37AD324C353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de sortat dupa laptopul vechi\15.05.2013\0.1.data\work\0.2. scoala de valori\0.4. Communication\rebranding 2013\Pt prezentari\template-ppts-03.jpg"/>
          <p:cNvPicPr/>
          <p:nvPr/>
        </p:nvPicPr>
        <p:blipFill>
          <a:blip r:embed="rId2"/>
          <a:stretch/>
        </p:blipFill>
        <p:spPr>
          <a:xfrm>
            <a:off x="0" y="1285920"/>
            <a:ext cx="990612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de sortat dupa laptopul vechi\15.05.2013\0.1.data\work\0.2. scoala de valori\0.4. Communication\rebranding 2013\Pt prezentari\template-ppts-04.jpg"/>
          <p:cNvPicPr/>
          <p:nvPr/>
        </p:nvPicPr>
        <p:blipFill>
          <a:blip r:embed="rId2"/>
          <a:stretch/>
        </p:blipFill>
        <p:spPr>
          <a:xfrm>
            <a:off x="-4680" y="1247760"/>
            <a:ext cx="9974160" cy="5610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de sortat dupa laptopul vechi\15.05.2013\0.1.data\work\0.2. scoala de valori\0.4. Communication\rebranding 2013\Pt prezentari\template-ppts-01.jpg"/>
          <p:cNvPicPr/>
          <p:nvPr/>
        </p:nvPicPr>
        <p:blipFill>
          <a:blip r:embed="rId2"/>
          <a:stretch/>
        </p:blipFill>
        <p:spPr>
          <a:xfrm>
            <a:off x="-7920" y="1281240"/>
            <a:ext cx="9914040" cy="5576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tilium"/>
              </a:rPr>
              <a:t>OLIMPIADELE KAUFLAND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Content Placeholder 4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5905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609480" y="1895400"/>
            <a:ext cx="4162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1623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" descr=""/>
          <p:cNvPicPr/>
          <p:nvPr/>
        </p:nvPicPr>
        <p:blipFill>
          <a:blip r:embed="rId2"/>
          <a:stretch/>
        </p:blipFill>
        <p:spPr>
          <a:xfrm>
            <a:off x="762120" y="2379600"/>
            <a:ext cx="4162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4876920" y="1495440"/>
            <a:ext cx="4162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CUM POT 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Ș</a:t>
            </a: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COLILE S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 SE BUCURE DE PREMII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9037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ahoma"/>
              </a:rPr>
              <a:t>CALENDARUL COMPETIȚIEI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o-RO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Content Placeholder 3" descr=""/>
          <p:cNvPicPr/>
          <p:nvPr/>
        </p:nvPicPr>
        <p:blipFill>
          <a:blip r:embed="rId1"/>
          <a:stretch/>
        </p:blipFill>
        <p:spPr>
          <a:xfrm>
            <a:off x="480960" y="1596960"/>
            <a:ext cx="8944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tilium"/>
              </a:rPr>
              <a:t>COSTURI ELIGIBILE PENTRU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tilium"/>
              </a:rPr>
              <a:t>PROIECTUL ȘCOLI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iecte de investiție – renovări, amenajări, etc..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Achiziții de bunuri și servicii necesare bunei desfășurări a activității școla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grame destinate elevilor (fonduri de premiere, alte activități extracuriculare, etc...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grame destinate profesorilor (fonduri de premiere, programe de pregatire, etc...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arian.knup@scoaladevalori.ro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0743618859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ww.olimpiadelek.ro – din 15 septembri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tilium"/>
              </a:rPr>
              <a:t>STRUCTURA PREZENT</a:t>
            </a:r>
            <a:r>
              <a:rPr b="1" lang="ro-RO" sz="36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1" lang="en-US" sz="3600" spc="-1" strike="noStrike">
                <a:solidFill>
                  <a:srgbClr val="000000"/>
                </a:solidFill>
                <a:latin typeface="Titilium"/>
              </a:rPr>
              <a:t>RI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5000" y="1600200"/>
            <a:ext cx="933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e este programul : </a:t>
            </a:r>
            <a:r>
              <a:rPr b="1" lang="en-US" sz="2800" spc="-1" strike="noStrike">
                <a:solidFill>
                  <a:srgbClr val="000000"/>
                </a:solidFill>
                <a:latin typeface="Titilium"/>
              </a:rPr>
              <a:t>“OLIMPIADELE KAUFLAND”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Mecanismul compet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ț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i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um pot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ș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olile s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 se bucur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de premi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2" descr="https://encrypted-tbn0.gstatic.com/images?q=tbn:ANd9GcQAotxXLcjQMkIAiYsewYD6xpuHHtZQWIv9TnZFQ4XIVTzdiimS8A"/>
          <p:cNvPicPr/>
          <p:nvPr/>
        </p:nvPicPr>
        <p:blipFill>
          <a:blip r:embed="rId1"/>
          <a:stretch/>
        </p:blipFill>
        <p:spPr>
          <a:xfrm>
            <a:off x="6465960" y="2514600"/>
            <a:ext cx="2809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-152280" y="77760"/>
            <a:ext cx="102106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DESPRE PROGRA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OlimpiadeleK este un program de </a:t>
            </a:r>
            <a:r>
              <a:rPr b="1" lang="vi-VN" sz="2800" spc="-1" strike="noStrike">
                <a:solidFill>
                  <a:srgbClr val="000000"/>
                </a:solidFill>
                <a:latin typeface="Titilium"/>
              </a:rPr>
              <a:t>responsabilitate socială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sponsorizat de către Kaufland România și implementat în parteneriat cu Școala de Valori și Ministerul Educației și Cercetării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OlimpiadeleK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are forma unei 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ompet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ții la nivel național la care pot participa toate instituțiile de învățământ public din România -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grădinițe, școli primare și gimnaziale, licee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DESPRE P</a:t>
            </a:r>
            <a:r>
              <a:rPr b="1" lang="ro-RO" sz="3600" spc="-1" strike="noStrike">
                <a:solidFill>
                  <a:srgbClr val="000000"/>
                </a:solidFill>
                <a:latin typeface="Titilium"/>
              </a:rPr>
              <a:t>R</a:t>
            </a: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OGRA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Câștigătoare vor fi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unitățile de învățământ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ai căror dascăli și elevi formează adevărate echipe și desfășoară împreună cât mai multe activităț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 educaționale extracuriculare înscrise pe platforma competiți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tilium"/>
              </a:rPr>
              <a:t>www.olimpiadelek.r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-38160" y="609480"/>
            <a:ext cx="10069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9820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tilium"/>
              </a:rPr>
              <a:t>MECANISMUL COMPETI</a:t>
            </a:r>
            <a:r>
              <a:rPr b="0" lang="ro-RO" sz="3600" spc="-1" strike="noStrike">
                <a:solidFill>
                  <a:srgbClr val="000000"/>
                </a:solidFill>
                <a:latin typeface="Titilium"/>
              </a:rPr>
              <a:t>Ț</a:t>
            </a:r>
            <a:r>
              <a:rPr b="0" lang="en-US" sz="3600" spc="-1" strike="noStrike">
                <a:solidFill>
                  <a:srgbClr val="000000"/>
                </a:solidFill>
                <a:latin typeface="Titilium"/>
              </a:rPr>
              <a:t>IE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2" descr="http://sunshineconsultingltd.com/wp-content/uploads/2011/06/our_business_system_integration.jpg"/>
          <p:cNvPicPr/>
          <p:nvPr/>
        </p:nvPicPr>
        <p:blipFill>
          <a:blip r:embed="rId1"/>
          <a:stretch/>
        </p:blipFill>
        <p:spPr>
          <a:xfrm>
            <a:off x="2525760" y="2133720"/>
            <a:ext cx="4619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9256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us</dc:creator>
  <dc:description/>
  <dc:language>en-US</dc:language>
  <cp:lastModifiedBy>Elena</cp:lastModifiedBy>
  <dcterms:modified xsi:type="dcterms:W3CDTF">2015-09-14T09:46:18Z</dcterms:modified>
  <cp:revision>45</cp:revision>
  <dc:subject/>
  <dc:title>PowerPoint Presentation</dc:title>
</cp:coreProperties>
</file>