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9D2-2629-4F55-BE6D-CD40D9DF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725C-379F-4AC6-A042-79584108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1A2-0551-4A88-9ED5-10D3EF10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788B-C20C-4071-80D4-F082F698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446F-9BFD-4609-8BBD-BAC36C04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BDA-5116-417C-B46A-359F5278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6266-E68A-4771-B386-8BB93078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A53-5003-46AA-83ED-ACF563EF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A475-5AC9-4328-BDF0-B4753EE2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A1A0-4EAA-4280-BDCF-2AB3C532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667A-66F9-4C1E-960D-0693B251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579E-0F3F-4170-AC77-22D7DB14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A6F65-826C-496B-B016-31D5623ACF8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60560" y="353880"/>
            <a:ext cx="874080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70c0"/>
                </a:solidFill>
                <a:latin typeface="Arial Black"/>
              </a:rPr>
              <a:t>Elemente de noutate ale programei școlare pentru discip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17520" y="2290320"/>
            <a:ext cx="96217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 – STUDIU INTENS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CHINEZĂ/ ENGLEZĂ/ FRANCEZĂ / SPANIOLĂ / ITALIANĂ/ TURC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/ LIMBA MODERNĂ 2/ LIMBA MODERNĂ 1 – STUDIU INTENS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Black"/>
              </a:rPr>
              <a:t>GERMANĂ/ RUSĂ/ JAPONEZ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9400" y="619200"/>
            <a:ext cx="9905760" cy="47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1) CENTRAREA PE COMPETENȚE DE COMUNICARE ȘI NU PE CONȚINUTURI LINGVISTICE SPECIF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4840" y="263160"/>
            <a:ext cx="95850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PRECIZAREA NIVELURILOR DIN CECRL LA INTRAREA ELEVILOR ÎN CICLUL DE ÎNVĂȚĂMÂNT GIMNAZIAL, PRECUM ȘI A NIVELURILOR AȘTEPTATE </a:t>
            </a: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LA FINALUL CICLULUI GIMNAZIAL (a)</a:t>
            </a:r>
            <a:br>
              <a:rPr sz="2600"/>
            </a:b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- limbile engleză, franceză, spaniolă, italiană -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03400" y="3105000"/>
          <a:ext cx="9943920" cy="2926080"/>
        </p:xfrm>
        <a:graphic>
          <a:graphicData uri="http://schemas.openxmlformats.org/drawingml/2006/table">
            <a:tbl>
              <a:tblPr/>
              <a:tblGrid>
                <a:gridCol w="3314520"/>
                <a:gridCol w="3314880"/>
                <a:gridCol w="3314520"/>
              </a:tblGrid>
              <a:tr h="96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NIVELUL DE COMPETENȚĂ LINGVISTICĂ AL ELEVILOR LA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ÎNCEPUTUL CLASEI A V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INALUL CLASEI A VIII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 INTENS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3000" y="534960"/>
            <a:ext cx="93758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2) PRECIZAREA NIVELURILOR DIN CECRL LA INTRAREA ELEVILOR ÎN CICLUL DE ÎNVĂȚĂMÂNT GIMNAZIAL, PRECUM ȘI A NIVELURILOR AȘTEPTATE LA FINALUL CICLULUI GIMNAZIAL (b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58800" y="1944360"/>
            <a:ext cx="939168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- limbile germană, rusă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27200" y="3094200"/>
          <a:ext cx="7709040" cy="2031840"/>
        </p:xfrm>
        <a:graphic>
          <a:graphicData uri="http://schemas.openxmlformats.org/drawingml/2006/table">
            <a:tbl>
              <a:tblPr/>
              <a:tblGrid>
                <a:gridCol w="1882800"/>
                <a:gridCol w="5826240"/>
              </a:tblGrid>
              <a:tr h="77148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vel CEC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ăr de ore necesar pentru atingerea nivelului în gimnaziu GE/ 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1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B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6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6320" y="1787400"/>
            <a:ext cx="102427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ETALIEREA FIEC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I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OMPETENȚ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GEN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ALE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ÎN COMPETENȚE SPECIFICE, ULTIMA COMPETENȚĂ SPECIFICĂ FIIND DE NATURĂ SOCIO-CULTURAL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re 1"/>
          <p:cNvSpPr/>
          <p:nvPr/>
        </p:nvSpPr>
        <p:spPr>
          <a:xfrm>
            <a:off x="976320" y="361944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Gothic"/>
              </a:rPr>
              <a:t>4) PREZENTAREA DETALIATĂ A RECOMANDĂRILOR ȘI A SUGESTIILOR METODOLOGICE, PRECUM ȘI A STRATEGIILOR DE PRED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808200" y="1639800"/>
            <a:ext cx="10399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5) PREZENTAREA DE EXEMPLE SPECIFICE FIECĂREI LIMBI, PREZENTAREA DE TEME RECOMANDATE CE EVOLUEAZĂ PROGRESIV DE LA O CLASĂ L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741240" y="2603520"/>
            <a:ext cx="104666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6) PREZENTAREA DE TEME DE PROIECT INTRODUSE PROGRESIV DE LA UN NIVEL LA ALT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741240" y="3830760"/>
            <a:ext cx="1085544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7)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EZENTAREA GRAMATICII 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FUNCȚIONAL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 ÎNTR-O DUBLĂ PERSPECTIV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EEA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TELOR DE VORBIRE / A FUNCȚIILOR LIMB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EEA A ELEMENTELOR DE CONSTRUCȚIE A COMUNICĂRII CE CONTRIBUIE LA REALIZAREA DIVERSELOR ACTE DE VORB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re 1"/>
          <p:cNvSpPr/>
          <p:nvPr/>
        </p:nvSpPr>
        <p:spPr>
          <a:xfrm>
            <a:off x="988920" y="108252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8) PREZENTAREA DESCRIPTIVĂ, ÎN ANEXĂ, A ELEMENTELOR DE CONSTRUCȚIE A COMUNICĂRII SPECIFICE  FIECĂREI CLASE /FIECĂRUI 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1139760" y="2738520"/>
            <a:ext cx="100044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Calibri"/>
              </a:rPr>
              <a:t>9) INDICAREA RESURSELOR ON LINE UTILE PARCURGERII PROGRAME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1055520" y="3879720"/>
            <a:ext cx="9875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10) CORELAREA PROGRAMELOR ȘCOLARE PENTRU LIMBI MODERNE CU NIVELURILE DIN CECRL, PRECUM ȘI CU INSTRUMENTELE CONEXE - REFERENȚIALUL PENTRU CECRL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LIMBA FRANCEZ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4:36:34Z</dcterms:created>
  <dc:creator>Manuela Delia</dc:creator>
  <dc:description/>
  <dc:language>en-US</dc:language>
  <cp:lastModifiedBy>Micky</cp:lastModifiedBy>
  <dcterms:modified xsi:type="dcterms:W3CDTF">2018-09-16T16:59:14Z</dcterms:modified>
  <cp:revision>25</cp:revision>
  <dc:subject/>
  <dc:title>Elemente de noutate ale programei școlare pentru disciplina</dc:title>
</cp:coreProperties>
</file>