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25D-1621-4FB6-8213-B6CF42C9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65E-C952-4D7B-B3CB-474FE640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ED4-BC6A-41EE-8E7C-31AE579A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D6F-9726-4BD0-B8D7-3935E738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572B-D539-4629-A0FD-6326C473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0E88-CB3B-4F7D-AAC5-9EC3C2E8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9FEB-0E2C-4993-BD73-326CB5B3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BEB4-49A2-4A66-A2F4-53B8019B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B452-A8E7-4E27-9C9E-AFF295EF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8F48-B0BC-4EBE-B09E-C99608C1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0D31-FCB0-47C8-A9AA-8F60F968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F70-AB02-477B-A581-9A8FFD5E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8A14-A79A-47E5-9BCD-D68DF981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BC83-254F-472F-8209-D1CAD2D7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E931-44E2-4CB5-87E0-5992830A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213C-6239-45BE-B1F1-F44D677C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04D1-121D-40D7-AB7D-891B84DD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F5558-6F43-4B61-8EB9-CD2808D0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D786A-005C-4CAA-A548-9DBADEE7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EB5BE-E04B-4E02-AE04-2317C787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7CF72-5D20-4F67-BD91-DAFC5094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3CF18-7358-4A2B-8330-87520964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E4E-3CD0-4714-978E-740E09F9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9B55F-79C9-42D6-A976-7CBA26A1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4E68B-97E0-4C9A-B29C-0C9846EA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10937-4C89-476E-840E-7EBDEF4C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B6BD6-8148-42B1-8407-7E7C8E5A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2CDA5-AF87-4DE7-A6B7-744A2704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FDE06-DCDB-4F34-9BCF-4432D379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18579-5710-4199-A340-50F231F5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F6EDE-CBAE-4FCD-840C-4D5D3E72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44E7C-543A-4F2C-883F-CC7ED783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D160-F5E7-4F0F-8329-6CAB78E6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CC4-7F73-4DCE-B793-C4D401EA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BC596-F6C4-44A4-9BF2-049DD1C0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657B-8FDC-4A4C-95D0-A872643D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64237-A886-490A-B1A7-4A9D062E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43F14-7701-496F-AE06-23ECBBD6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7E2F-BF9B-4C34-9EDE-B4036756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9CA0-634E-4B68-AE57-44564556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AD792-28D4-47D6-8476-7C062B08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2297B-1802-4CA9-8AC1-BEA2C945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A068-DE36-4BFC-9BD9-7BB1173D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4FC5F-8AF4-434E-B259-0821CDBF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05F-3CA1-4019-80A1-696C1418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CFBC2-5082-4C4F-B46B-E5125C1F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19FC4-3F67-4635-81AD-A018C682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06C36-EE40-4053-99D2-36E00413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B1912-CFCD-497E-94E9-1D313CCD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36A4B-D175-43A4-8181-4301B3A5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B9C4D-5530-4EA7-BFCC-53EC07BE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691D-4914-44DB-AA64-D3E69A95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05D5B-E220-408A-B3A0-564860A0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EFFC6-3B21-43B8-9843-DDAB10A0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87C3E-7CCD-4F2B-943D-A3E3694C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0FA-2D01-4CBD-B45C-A765FE28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D52F0-5B48-41CE-8013-E3DF7E05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A61-C236-4564-8EF9-305EFBF3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785-A14E-4824-A8E0-29EF7427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BA6-94D8-4982-8E44-EDC850D6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FBFA-2B8A-4696-9682-70DAEE7757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FBED-6A1C-42BF-8062-EA220278E1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72B4-E1BE-4CDF-B8D1-A78D54434A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9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2549-3846-481D-B2D8-D87FC833B3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18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9FA1-A0C3-4665-AD55-902CA36413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FESORULUI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ETODI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ELEV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D708-A7CE-460C-A443-BF2B0DDF1741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prezint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un pact 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elevului de învăţare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e5e5ff"/>
                </a:solidFill>
                <a:uFillTx/>
                <a:latin typeface="Garamond"/>
              </a:rPr>
              <a:t>PORTOFOLIUL ELEVULU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ista conţinutului acestuia, (sumarul, care include titlul fiecărei lucrări/fişe,etc. şi numărul paginii la care se găseşte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ucrările pe care le face elevul individual sau în grup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m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eseu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ticole, referate, comunică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fişe individuale de studiu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iecte şi experimen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mele zilnic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Portofoliul cuprind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bleme rezolv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apoarte scrise – de realizare a proiectel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ste şi lucrări semestrial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hestionare de atitudin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înregistrări, fotografii care reflectă activitatea desfăşurată de elev individual sau împreună cu colegii să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bservaţii pe baza unor ghiduri de observa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flecţiile proprii ale elevului asupra a ceea ce lucrează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utoevaluări scrise de elev sau de membrii grupulu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interviuri de evalua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lte materiale, hărţi cognitive, contribuţii la activitate care reflectă participarea elevului/ grupului la derularea şi soluţionarea temei d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viitoare obiective pornind de la realizările curente ale elevului/grupului, pe baza intereselor şi a progreselor înregistr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suplimentare şi evaluări ale profesorului, ale altor grupuri de învăţare şi/sau ale altor părţi interesate, de exemplu părin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lucrărilor de evaluare efectuate pentru teme din domeniul profesional sau abilităţi che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activităţilor de autoevaluare şi dovezi ale discuţiilor care au avut lo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piniile elevilor privind activităţile desfăşu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lanuri de acţiune/ evaluări/ activităţi viitoare planificate şi efectuate de către ele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ale profesorului privind atitudinea şi rezultatele elevul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1A4D-748E-4B66-A569-2BAC00C39701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egaţia de numire 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urriculum Vitae(Europass)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de evidenţă a inspecţiilor efectuat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inspecţiilor de specialitate şi tematic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Diagnoza procesului de învăţământ de specialitate (in sectorul/zona arondat(ă), la finele fiecărui semestru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opie a rapoartelor de inspecţi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Modele de documente de planificare şi proiecte didactice la nivelul învăţământului primar, gimnazial şi liceal, după ca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Legi, ordine, note ale M.E.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.S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., Guvernului privind  învăţământul preuniversit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ul formularelor tip folosite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î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cadrul inspecţiil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AECE-C927-4401-A85B-7BBDDBF5FE4D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2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I DE CATEDRĂ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de activităţi metodico-ştiinţifice ale catedrei pentru anul școlar 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şcolare valabile în anul şcolar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pentru examenele naţionale (bacalaureat) şi concursurile şcol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ificări le calendaristice ale membrilor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rile -cadru pentru anul şcolar cur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abel  nominal cu membrii catedrei şi datele lor personale (telefon, adresa de e-mail, şcoala de provenienţă, grad didactic, specialitatea, vechimea în învăţământ etc.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şi tematica activităţi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– verbale ale şedinţe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atedr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I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 DE CERC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şcolilor arondate cerculu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şefului cercului metodi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ematica şedinţelor de cerc, data şi locul de desfăşura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-verbale încheiate la activităţile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PROFESOR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6E98-9545-4C26-B685-C0E94DBC1895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7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pentru profesorii debutanț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Substituent număr diapozitiv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FF2A-801C-42E9-81E0-6D5777D9163D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perfecțion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BE93-B8F6-416C-9F30-C47375A05E71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Micky</cp:lastModifiedBy>
  <dcterms:modified xsi:type="dcterms:W3CDTF">2016-09-18T12:33:24Z</dcterms:modified>
  <cp:revision>612</cp:revision>
  <dc:subject/>
  <dc:title>Comisia Nationala de Informatica</dc:title>
</cp:coreProperties>
</file>