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97F83-B9FE-4C87-9AF0-A5036840C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21345-8C45-4CE0-807A-E446FFDCD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F0BFA-BC75-4C82-86E3-03C43F847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EA521-2823-4F95-88FC-308348EE6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4EC32-6A90-45E7-A79E-C80D58654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7E1C4-84D1-4C3F-8380-11A9E6AE6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512F7-B21D-4561-8CD2-A8AC09DC2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F7536-BEE4-4CB8-8CF7-5A60B2F70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9B0FC-01D2-434E-AFC5-D5BAC618F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33B49-4A47-406C-95A4-A4616EC51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6BA4F-9ADA-469C-8D66-5978F25BA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77155-0E29-404A-8372-E4803AD93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455DF-553B-4008-8EB2-660C8A019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3E166-D523-4F60-ABDA-22E7CA627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20951-FE33-41F1-B586-38AF02795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04548-6B82-4908-9CF5-5C78FF560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14A7C-F810-4252-B304-0E1CD2536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47109DA-E0FD-49FA-B8C2-DF7EA2ED3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BD7F665-2809-40BB-9DC8-45148DC5A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FC6EAD3-C16F-4071-9D27-179365510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4E805CA-DB1D-45B9-A4C2-BA289B8BA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3936A43-461D-40FC-95BA-CC18CA67F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6F2A2-0A7F-4994-8938-11089D0F0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C7FC802-20D8-45C5-8826-705A7201A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AB94C8D-6CDE-4BC2-834E-F23818831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7E86A4-8537-462C-ABAC-B391BA189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91D0957-9B87-4F1C-AE64-A22BB1E72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6431442-E05F-477B-82C9-9417CC2AD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1FA7B32-1DF7-423A-A93A-776CB5A5D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0B2751A-9548-4D1C-A2FA-34C7EFE8B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7910A3-3A03-41E0-86AD-11864C832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99AD24-686E-4B77-9BCA-89A2AB983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4302F4-4241-46BF-A288-79337360F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DD722-FB8B-446C-A35D-93A404388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98E4F1-3EAC-4647-BF00-2432A0B1C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102518-D2A7-493F-9703-F16110468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005FEB-8866-455B-8B74-ACF359C8F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7C71E3-9CBC-4F08-9DC3-A8393E960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D9486C-A6B7-41B8-BAF5-E851A9834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630906-EF7D-40C4-BDD2-539A0270E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7B6F81-7506-4FC0-8EB8-70675F856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D0BDEE-48D9-42D2-B16A-97ADC43F8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C02D55-AE2B-403F-9410-3AF00B111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E48CCD-8366-4249-A78E-5C77F45FB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EABA1-EABA-4041-BD02-8F3831A3D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562BF1-2621-44BC-8D67-6D9471470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E4AC5A-A20F-4274-B5B7-35B196610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98431C-D6FC-4B53-B346-6A7CC2744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F37C84-D198-4BBC-85B7-7FE7A2958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D73D1F-2414-4DA0-B126-DEC082D70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CA9A3A-8E0F-453B-A182-CE87ED9E9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7C0281-860B-4797-A11F-7C6694784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3F2399-6118-4469-BAC6-E11261814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64C460-4ED0-4149-8130-DEDA8A8CC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619D0A-CE89-4D8A-B07F-71883AB73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5E011-9435-43AB-9F80-4F53F8BC8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C28ACF-1870-4C57-9B5A-E2A7DBD7C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CCE87-B268-4F7A-B9DB-F34FCDFD0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08CD8-E049-4CBC-BA03-01272ECBD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F1529-B081-4AEC-83DD-1396F6AF8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905120" y="2819160"/>
            <a:ext cx="6781680" cy="33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586800" indent="-22572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2" marL="902880" indent="-18036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3" marL="1263960" indent="-18036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4" marL="1625040" indent="-18036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5" marL="1625040" indent="-18036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6" marL="1625040" indent="-18036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 Black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spector Şăitan Trai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292CD-64F0-4966-831B-F9FC67137FF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52120" y="1676520"/>
            <a:ext cx="7086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752120" y="2819520"/>
            <a:ext cx="70866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857160" indent="-1713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199880" indent="-1713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 Black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inspector Şăitan Traia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EF7E4-EAEC-4658-B639-D26FFA24057D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ldNum" idx="8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744BD-3BD4-4110-B0FF-F4568B094B9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4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85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86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5f5f5f"/>
                  </a:solidFill>
                  <a:latin typeface="Arial Black"/>
                </a:endParaRPr>
              </a:p>
            </p:txBody>
          </p:sp>
          <p:sp>
            <p:nvSpPr>
              <p:cNvPr id="87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5f5f5f"/>
                  </a:solidFill>
                  <a:latin typeface="Arial Black"/>
                </a:endParaRPr>
              </a:p>
            </p:txBody>
          </p:sp>
          <p:sp>
            <p:nvSpPr>
              <p:cNvPr id="88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5f5f5f"/>
                  </a:solidFill>
                  <a:latin typeface="Arial Black"/>
                </a:endParaRPr>
              </a:p>
            </p:txBody>
          </p:sp>
          <p:sp>
            <p:nvSpPr>
              <p:cNvPr id="89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5f5f5f"/>
                  </a:solidFill>
                  <a:latin typeface="Arial Black"/>
                </a:endParaRPr>
              </a:p>
            </p:txBody>
          </p:sp>
          <p:sp>
            <p:nvSpPr>
              <p:cNvPr id="90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5f5f5f"/>
                  </a:solidFill>
                  <a:latin typeface="Arial Black"/>
                </a:endParaRPr>
              </a:p>
            </p:txBody>
          </p:sp>
        </p:grpSp>
        <p:sp>
          <p:nvSpPr>
            <p:cNvPr id="91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 Black"/>
              </a:endParaRPr>
            </a:p>
          </p:txBody>
        </p:sp>
        <p:sp>
          <p:nvSpPr>
            <p:cNvPr id="92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 Black"/>
              </a:endParaRPr>
            </a:p>
          </p:txBody>
        </p:sp>
      </p:grpSp>
      <p:sp>
        <p:nvSpPr>
          <p:cNvPr id="93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9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spector Şăitan Traia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905120" y="2819160"/>
            <a:ext cx="6781680" cy="33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586800" indent="-22572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2" marL="902880" indent="-18036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3" marL="1263960" indent="-18036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4" marL="1625040" indent="-18036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5" marL="1625040" indent="-18036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6" marL="1625040" indent="-18036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 Blac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spector Şăitan Trai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CF451-6217-49C7-978D-50024B545BE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74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75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5f5f5f"/>
                  </a:solidFill>
                  <a:latin typeface="Arial Black"/>
                </a:endParaRPr>
              </a:p>
            </p:txBody>
          </p:sp>
          <p:sp>
            <p:nvSpPr>
              <p:cNvPr id="176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5f5f5f"/>
                  </a:solidFill>
                  <a:latin typeface="Arial Black"/>
                </a:endParaRPr>
              </a:p>
            </p:txBody>
          </p:sp>
          <p:sp>
            <p:nvSpPr>
              <p:cNvPr id="177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5f5f5f"/>
                  </a:solidFill>
                  <a:latin typeface="Arial Black"/>
                </a:endParaRPr>
              </a:p>
            </p:txBody>
          </p:sp>
          <p:sp>
            <p:nvSpPr>
              <p:cNvPr id="178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5f5f5f"/>
                  </a:solidFill>
                  <a:latin typeface="Arial Black"/>
                </a:endParaRPr>
              </a:p>
            </p:txBody>
          </p:sp>
          <p:sp>
            <p:nvSpPr>
              <p:cNvPr id="179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5f5f5f"/>
                  </a:solidFill>
                  <a:latin typeface="Arial Black"/>
                </a:endParaRPr>
              </a:p>
            </p:txBody>
          </p:sp>
        </p:grpSp>
        <p:sp>
          <p:nvSpPr>
            <p:cNvPr id="180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 Black"/>
              </a:endParaRPr>
            </a:p>
          </p:txBody>
        </p:sp>
        <p:sp>
          <p:nvSpPr>
            <p:cNvPr id="181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 Black"/>
              </a:endParaRPr>
            </a:p>
          </p:txBody>
        </p:sp>
      </p:grp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dt" idx="13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 Black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 type="ftr" idx="14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spector Şăitan Traia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 type="sldNum" idx="15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83E94-83A9-43F6-BD69-F5BEB9C0D8C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ffffff"/>
                </a:solidFill>
                <a:latin typeface="Garamond"/>
              </a:rPr>
              <a:t>PORTOFOLIUL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ROFESORULUI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METODIST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98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98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5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PORTOFOLIUL ELEVULUI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7" name="Slide Number Placeholder 3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EE232-D2CA-4468-ACDD-848A12DF2BF8}" type="slidenum">
              <a:rPr b="0" lang="en-US" sz="12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5f5f5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24720" indent="-227160" algn="just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Garamond"/>
              </a:rPr>
              <a:t>Portofoliul </a:t>
            </a:r>
            <a:r>
              <a:rPr b="0" lang="ro-RO" sz="2800" spc="-1" strike="noStrike">
                <a:solidFill>
                  <a:srgbClr val="ffffff"/>
                </a:solidFill>
                <a:latin typeface="Garamond"/>
              </a:rPr>
              <a:t>reprezintă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4720" indent="-227160" algn="just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Garamond"/>
              </a:rPr>
              <a:t>„</a:t>
            </a:r>
            <a:r>
              <a:rPr b="0" lang="ro-RO" sz="2800" spc="-1" strike="noStrike">
                <a:solidFill>
                  <a:srgbClr val="ffffff"/>
                </a:solidFill>
                <a:latin typeface="Garamond"/>
              </a:rPr>
              <a:t>cartea de vizită” a elevului, prin care profesorul poate să-i urmărească progresul – în plan cognitiv, atitudinal şi comportamental – la o anumită disciplină, de-a lungul unui interval mai lung de timp (un semestru sau un an şcolar)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4720" indent="-227160" algn="just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Garamond"/>
              </a:rPr>
              <a:t>un pact între elev şi profesorul care trebuie să-l ajute pe elev să se autoevalueze. Profesorul discută cu elevul despre ce trebuie să ştie şi ce trebuie să facă acesta de-a lungul procesului de învăţare. La începutul demersului educativ se realizează un diagnostic asupra necesităţilor elevului de învăţare pentru a stabili obiectivele şi criteriile de evaluare. Diagnosticul este făcut de profesor şi este discutat cu elevul implicat în evaluar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 u="sng">
                <a:solidFill>
                  <a:srgbClr val="e5e5ff"/>
                </a:solidFill>
                <a:uFillTx/>
                <a:latin typeface="Garamond"/>
              </a:rPr>
              <a:t>PORTOFOLIUL ELEVULUI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0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 txBox="1"/>
          <p:nvPr/>
        </p:nvSpPr>
        <p:spPr>
          <a:xfrm>
            <a:off x="457200" y="105264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21120" indent="-2246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Garamond"/>
              </a:rPr>
              <a:t>lista conţinutului acestuia, (sumarul, care include titlul fiecărei lucrări/fişe,etc. şi numărul paginii la care se găseşte)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1120" indent="-2246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Garamond"/>
              </a:rPr>
              <a:t>argumentaţia care explică ce lucrări sunt incluse în portofoliu, de ce este importantă fiecare şi cum se articulează între ele într-o viziune de ansamblu a elevului/grupului cu privire la subiectul respectiv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1120" indent="-2246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Garamond"/>
              </a:rPr>
              <a:t>lucrările pe care le face elevul individual sau în grup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1120" indent="-2246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Garamond"/>
              </a:rPr>
              <a:t>rezumate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1120" indent="-2246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Garamond"/>
              </a:rPr>
              <a:t>eseuri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1120" indent="-2246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Garamond"/>
              </a:rPr>
              <a:t>articole, referate, comunicări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1120" indent="-2246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Garamond"/>
              </a:rPr>
              <a:t>fişe individuale de studiu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1120" indent="-2246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Garamond"/>
              </a:rPr>
              <a:t>proiecte şi experimente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1120" indent="-2246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Garamond"/>
              </a:rPr>
              <a:t>temele zilnice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e5e5ff"/>
                </a:solidFill>
                <a:latin typeface="Garamond"/>
              </a:rPr>
              <a:t>Portofoliul cuprinde: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0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2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2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2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2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457200" y="62064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40120">
              <a:lnSpc>
                <a:spcPct val="7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240120">
              <a:lnSpc>
                <a:spcPct val="7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Garamond"/>
              </a:rPr>
              <a:t>probleme rezolvate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240120">
              <a:lnSpc>
                <a:spcPct val="7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Garamond"/>
              </a:rPr>
              <a:t>rapoarte scrise – de realizare a proiectelo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240120">
              <a:lnSpc>
                <a:spcPct val="7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Garamond"/>
              </a:rPr>
              <a:t>teste şi lucrări semestriale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240120">
              <a:lnSpc>
                <a:spcPct val="7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Garamond"/>
              </a:rPr>
              <a:t>chestionare de atitudini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240120">
              <a:lnSpc>
                <a:spcPct val="7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Garamond"/>
              </a:rPr>
              <a:t>înregistrări, fotografii care reflectă activitatea desfăşurată de elev individual sau împreună cu colegii săi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240120">
              <a:lnSpc>
                <a:spcPct val="7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Garamond"/>
              </a:rPr>
              <a:t>observaţii pe baza unor ghiduri de observaţii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240120">
              <a:lnSpc>
                <a:spcPct val="7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Garamond"/>
              </a:rPr>
              <a:t>reflecţiile proprii ale elevului asupra a ceea ce lucrează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240120">
              <a:lnSpc>
                <a:spcPct val="7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Garamond"/>
              </a:rPr>
              <a:t>autoevaluări scrise de elev sau de membrii grupului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240120">
              <a:lnSpc>
                <a:spcPct val="7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Garamond"/>
              </a:rPr>
              <a:t>interviuri de evaluare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240120">
              <a:lnSpc>
                <a:spcPct val="7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Garamond"/>
              </a:rPr>
              <a:t>alte materiale, hărţi cognitive, contribuţii la activitate care reflectă participarea elevului/ grupului la derularea şi soluţionarea temei date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240120">
              <a:lnSpc>
                <a:spcPct val="7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 thruBlk="true"/>
  </p:transition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2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2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2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2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2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2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2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2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2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2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2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2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2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2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2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2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2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2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2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2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5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1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7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3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9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2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2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2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2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1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2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2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2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2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7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2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2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2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2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3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2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2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2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2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9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2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2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2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2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533520" y="685440"/>
            <a:ext cx="81532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9480" indent="-2376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Garamond"/>
              </a:rPr>
              <a:t>viitoare obiective pornind de la realizările curente ale elevului/grupului, pe baza intereselor şi a progreselor înregistrate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2376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Garamond"/>
              </a:rPr>
              <a:t>comentarii suplimentare şi evaluări ale profesorului, ale altor grupuri de învăţare şi/sau ale altor părţi interesate, de exemplu părinţii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2376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Garamond"/>
              </a:rPr>
              <a:t>rezultate ale lucrărilor de evaluare efectuate pentru teme din domeniul profesional sau abilităţi chei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2376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Garamond"/>
              </a:rPr>
              <a:t>rezultate ale activităţilor de autoevaluare şi dovezi ale discuţiilor care au avut loc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2376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Garamond"/>
              </a:rPr>
              <a:t>opiniile elevilor privind activităţile desfăşur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2376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Garamond"/>
              </a:rPr>
              <a:t>planuri de acţiune/ evaluări/ activităţi viitoare planificate şi efectuate de către elev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2376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Garamond"/>
              </a:rPr>
              <a:t>comentarii ale profesorului privind atitudinea şi rezultatele elevulu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2376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9CFDD-85A2-4940-85F3-47FED37E8DAB}" type="slidenum">
              <a:rPr b="0" lang="en-US" sz="12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5f5f5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457200" y="6854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Delegaţia de numire 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Garamond"/>
              </a:rPr>
              <a:t>Curriculum Vitae(Europass).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Garamond"/>
              </a:rPr>
              <a:t>Graficul de evidenţă a inspecţiilor efectuate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Garamond"/>
              </a:rPr>
              <a:t>Graficul inspecţiilor de specialitate şi tematice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Garamond"/>
              </a:rPr>
              <a:t>Diagnoza procesului de învăţământ de specialitate (in sectorul/zona arondat(ă), la finele fiecărui semestru);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Garamond"/>
              </a:rPr>
              <a:t>Copie a rapoartelor de inspecţie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Garamond"/>
              </a:rPr>
              <a:t>Modele de documente de planificare şi proiecte didactice la nivelul învăţământului primar, gimnazial şi liceal, după caz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Garamond"/>
              </a:rPr>
              <a:t>Legi, ordine, note ale M.E.</a:t>
            </a:r>
            <a:r>
              <a:rPr b="0" lang="ro-RO" sz="2400" spc="-1" strike="noStrike">
                <a:solidFill>
                  <a:srgbClr val="ffffff"/>
                </a:solidFill>
                <a:latin typeface="Garamond"/>
              </a:rPr>
              <a:t>C.S</a:t>
            </a:r>
            <a:r>
              <a:rPr b="0" lang="fr-FR" sz="2400" spc="-1" strike="noStrike">
                <a:solidFill>
                  <a:srgbClr val="ffffff"/>
                </a:solidFill>
                <a:latin typeface="Garamond"/>
              </a:rPr>
              <a:t>., Guvernului privind  învăţământul preuniversitar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Modelul formularelor tip folosite </a:t>
            </a:r>
            <a:r>
              <a:rPr b="0" lang="ro-RO" sz="2400" spc="-1" strike="noStrike">
                <a:solidFill>
                  <a:srgbClr val="ffffff"/>
                </a:solidFill>
                <a:latin typeface="Garamond"/>
              </a:rPr>
              <a:t>î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n cadrul inspecţiilor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70DBC-B6CB-43F7-A940-9313EE8CCB07}" type="slidenum">
              <a:rPr b="0" lang="en-US" sz="1200" spc="-1" strike="noStrike">
                <a:solidFill>
                  <a:srgbClr val="5f5f5f"/>
                </a:solidFill>
                <a:latin typeface="Arial"/>
              </a:rPr>
              <a:t>2</a:t>
            </a:fld>
            <a:endParaRPr b="0" lang="en-US" sz="1200" spc="-1" strike="noStrike">
              <a:solidFill>
                <a:srgbClr val="5f5f5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5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ffffff"/>
                </a:solidFill>
                <a:latin typeface="Garamond"/>
              </a:rPr>
              <a:t>PORTOFOLIUL 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RESPONSABILULU</a:t>
            </a:r>
            <a:r>
              <a:rPr b="1" lang="ro-RO" sz="4400" spc="-1" strike="noStrike">
                <a:solidFill>
                  <a:srgbClr val="ffffff"/>
                </a:solidFill>
                <a:latin typeface="Garamond"/>
              </a:rPr>
              <a:t>I DE CATEDRĂ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ipe dir="d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898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457200" y="692280"/>
            <a:ext cx="8229600" cy="56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lnSpc>
                <a:spcPct val="7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Garamond"/>
              </a:rPr>
              <a:t>Planul de activităţi metodico-ştiinţifice ale catedrei pentru anul școlar  în curs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65040" indent="-255600" algn="just">
              <a:lnSpc>
                <a:spcPct val="7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Garamond"/>
              </a:rPr>
              <a:t>Programele şcolare valabile în anul şcolar în curs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65040" indent="-255600" algn="just">
              <a:lnSpc>
                <a:spcPct val="7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Garamond"/>
              </a:rPr>
              <a:t>Programele pentru examenele naţionale (bacalaureat) şi concursurile şcolare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65040" indent="-255600" algn="just">
              <a:lnSpc>
                <a:spcPct val="7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Garamond"/>
              </a:rPr>
              <a:t>Planificări le calendaristice ale membrilor catedrei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65040" indent="-255600" algn="just">
              <a:lnSpc>
                <a:spcPct val="7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Garamond"/>
              </a:rPr>
              <a:t>Planurile -cadru pentru anul şcolar curent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65040" indent="-255600" algn="just">
              <a:lnSpc>
                <a:spcPct val="7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Garamond"/>
              </a:rPr>
              <a:t>Tabel  nominal cu membrii catedrei şi datele lor personale (telefon, adresa de e-mail, şcoala de provenienţă, grad didactic, specialitatea, vechimea în învăţământ etc.)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65040" indent="-255600" algn="just">
              <a:lnSpc>
                <a:spcPct val="7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Garamond"/>
              </a:rPr>
              <a:t>Planul managerial al catedrei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65040" indent="-255600" algn="just">
              <a:lnSpc>
                <a:spcPct val="7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Garamond"/>
              </a:rPr>
              <a:t>Calendarul şi tematica activităţilor de catedră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65040" indent="-255600" algn="just">
              <a:lnSpc>
                <a:spcPct val="7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Garamond"/>
              </a:rPr>
              <a:t>Procesele – verbale ale şedinţelor de catedră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65040" indent="-255600" algn="just">
              <a:lnSpc>
                <a:spcPct val="7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Garamond"/>
              </a:rPr>
              <a:t>Materialele ştiinţifice şi metodice prezentate în cadrul activităţilor de catedră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65040" indent="-255600" algn="just">
              <a:lnSpc>
                <a:spcPct val="7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Garamond"/>
              </a:rPr>
              <a:t>Calendarul olimpiadelor şi concursurilor şcolare la care participă elevii unității de învățământ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pull dir="d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2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2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2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2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2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2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2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2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2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2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2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2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2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2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2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1" dur="5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4" dur="50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7" dur="500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0" dur="500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6" dur="500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9" dur="500"/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2" dur="500"/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5" dur="500"/>
                                        <p:tgtEl>
                                          <p:spTgt spid="2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8" dur="500"/>
                                        <p:tgtEl>
                                          <p:spTgt spid="2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1" dur="500"/>
                                        <p:tgtEl>
                                          <p:spTgt spid="2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5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ffffff"/>
                </a:solidFill>
                <a:latin typeface="Garamond"/>
              </a:rPr>
              <a:t>PORTOFOLIUL 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RESPONSABILULUI</a:t>
            </a:r>
            <a:r>
              <a:rPr b="1" lang="ro-RO" sz="4400" spc="-1" strike="noStrike">
                <a:solidFill>
                  <a:srgbClr val="ffffff"/>
                </a:solidFill>
                <a:latin typeface="Garamond"/>
              </a:rPr>
              <a:t> DE CERC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split dir="in" orient="vert"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42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Garamond"/>
              </a:rPr>
              <a:t>Lista şcolilor arondate cercului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6680" indent="-242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Garamond"/>
              </a:rPr>
              <a:t>Lista nominală a cadrelor didactice din cadrul cercului, cu datele lor personale (şcoala de provenienţă, telefon, adresa de e-mail, specialitatea,  gradul didactic, vechimea în învăţământ, modul de încadrare: suplinitor calificat/necalificat, titular, pensionar, detaşat)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6680" indent="-242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Garamond"/>
              </a:rPr>
              <a:t>Planul managerial al şefului cercului metodic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6680" indent="-242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Garamond"/>
              </a:rPr>
              <a:t>Tematica şedinţelor de cerc, data şi locul de desfăşurare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6680" indent="-242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Garamond"/>
              </a:rPr>
              <a:t>Procesele -verbale încheiate la activităţile de cerc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6680" indent="-242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Garamond"/>
              </a:rPr>
              <a:t>Materialele ştiinţifice şi metodice prezentate în cadrul activităţilor de cerc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6680" indent="-242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Garamond"/>
              </a:rPr>
              <a:t>Calendarul examenelor naţionale (evaluare – clasa a VI-a, bacalaureat), al olimpiadelor şi al concursurilor şcolare din anul școlar respectiv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ipe dir="d"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898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898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898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898" fill="hold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898" fill="hold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898" fill="hold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898" fill="hold"/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5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PORTOFOLIUL PROFESORULUI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1" name="Slide Number Placeholder 3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03CF1-768E-4DC1-B4A8-F8DEC9F9749A}" type="slidenum">
              <a:rPr b="0" lang="en-US" sz="1200" spc="-1" strike="noStrike">
                <a:solidFill>
                  <a:srgbClr val="5f5f5f"/>
                </a:solidFill>
                <a:latin typeface="Arial"/>
              </a:rPr>
              <a:t>7</a:t>
            </a:fld>
            <a:endParaRPr b="0" lang="en-US" sz="1200" spc="-1" strike="noStrike">
              <a:solidFill>
                <a:srgbClr val="5f5f5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0" y="685800"/>
            <a:ext cx="914400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 algn="just">
              <a:lnSpc>
                <a:spcPct val="15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 u="sng">
                <a:solidFill>
                  <a:srgbClr val="ffffff"/>
                </a:solidFill>
                <a:uFillTx/>
                <a:latin typeface="Garamond"/>
                <a:ea typeface="Tahoma"/>
              </a:rPr>
              <a:t>Partea I</a:t>
            </a:r>
            <a:r>
              <a:rPr b="0" lang="ro-RO" sz="2800" spc="-1" strike="noStrike">
                <a:solidFill>
                  <a:srgbClr val="ffffff"/>
                </a:solidFill>
                <a:latin typeface="Garamond"/>
                <a:ea typeface="Tahoma"/>
              </a:rPr>
              <a:t>: structura anului școlar, încadrarea (clase, nr. de ore), orarul, fișa postului, calendarul activităților pe anul în cu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 algn="just">
              <a:lnSpc>
                <a:spcPct val="15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 u="sng">
                <a:solidFill>
                  <a:srgbClr val="ffffff"/>
                </a:solidFill>
                <a:uFillTx/>
                <a:latin typeface="Garamond"/>
                <a:ea typeface="Tahoma"/>
              </a:rPr>
              <a:t>Partea a II-a</a:t>
            </a:r>
            <a:r>
              <a:rPr b="0" lang="ro-RO" sz="2800" spc="-1" strike="noStrike">
                <a:solidFill>
                  <a:srgbClr val="ffffff"/>
                </a:solidFill>
                <a:latin typeface="Garamond"/>
                <a:ea typeface="Tahoma"/>
              </a:rPr>
              <a:t>: programele școlare, programele opționalelor în derulare, planificarea anuală și semestrială a materiei pe unități de învățare, proiecte didactice, teste de evaluare inițială, curentă și sumativă-concluzii, modalități alternative de evaluare (proiecte, referate, portofolii întocmite de elevi), fișe de lucru, caietul –catalog, inventarul materialului didactic din școală, fișe cu asistențe la ore pentru profesorii debutanț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3" name="Substituent număr diapozitiv 3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A8156-8818-493E-9FE6-969E133EE118}" type="slidenum">
              <a:rPr b="0" lang="en-US" sz="12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5f5f5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457200" y="45684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 u="sng">
                <a:solidFill>
                  <a:srgbClr val="ffffff"/>
                </a:solidFill>
                <a:uFillTx/>
                <a:latin typeface="Garamond"/>
                <a:ea typeface="Tahoma"/>
              </a:rPr>
              <a:t>Partea a III-a </a:t>
            </a:r>
            <a:r>
              <a:rPr b="0" lang="ro-RO" sz="2400" spc="-1" strike="noStrike">
                <a:solidFill>
                  <a:srgbClr val="ffffff"/>
                </a:solidFill>
                <a:latin typeface="Garamond"/>
                <a:ea typeface="Tahoma"/>
              </a:rPr>
              <a:t>: regulamentul, precizările și programele pentru olimpiada națională școlară la disciplina..., subiecte de olimpiadă propuse, lista elevilor selectați pentru olimpiade, rezultatele obținute la diferite competiții/activități specifice disciplinei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 u="sng">
                <a:solidFill>
                  <a:srgbClr val="ffffff"/>
                </a:solidFill>
                <a:uFillTx/>
                <a:latin typeface="Garamond"/>
                <a:ea typeface="Tahoma"/>
              </a:rPr>
              <a:t>Partea a IV-a </a:t>
            </a:r>
            <a:r>
              <a:rPr b="0" lang="ro-RO" sz="2400" spc="-1" strike="noStrike">
                <a:solidFill>
                  <a:srgbClr val="ffffff"/>
                </a:solidFill>
                <a:latin typeface="Garamond"/>
                <a:ea typeface="Tahoma"/>
              </a:rPr>
              <a:t>:  Proiecte personale sau proiecte/programe în care este angajat pentru implementare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 algn="just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 u="sng">
                <a:solidFill>
                  <a:srgbClr val="ffffff"/>
                </a:solidFill>
                <a:uFillTx/>
                <a:latin typeface="Garamond"/>
                <a:ea typeface="Tahoma"/>
              </a:rPr>
              <a:t>Partea a V-a </a:t>
            </a:r>
            <a:r>
              <a:rPr b="0" lang="ro-RO" sz="2400" spc="-1" strike="noStrike">
                <a:solidFill>
                  <a:srgbClr val="ffffff"/>
                </a:solidFill>
                <a:latin typeface="Garamond"/>
                <a:ea typeface="Tahoma"/>
              </a:rPr>
              <a:t>: perfecționar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 algn="just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 u="sng">
                <a:solidFill>
                  <a:srgbClr val="ffffff"/>
                </a:solidFill>
                <a:uFillTx/>
                <a:latin typeface="Garamond"/>
                <a:ea typeface="Tahoma"/>
              </a:rPr>
              <a:t>Partea a VI-a </a:t>
            </a:r>
            <a:r>
              <a:rPr b="0" lang="ro-RO" sz="2400" spc="-1" strike="noStrike">
                <a:solidFill>
                  <a:srgbClr val="ffffff"/>
                </a:solidFill>
                <a:latin typeface="Garamond"/>
                <a:ea typeface="Tahoma"/>
              </a:rPr>
              <a:t>: materiale didactice –produse proprii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B2BAA-D612-4540-B72D-46881ECDD8F9}" type="slidenum">
              <a:rPr b="0" lang="en-US" sz="12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5f5f5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3T04:38:28Z</dcterms:created>
  <dc:creator>manu</dc:creator>
  <dc:description/>
  <dc:language>en-US</dc:language>
  <cp:lastModifiedBy>Micky</cp:lastModifiedBy>
  <dcterms:modified xsi:type="dcterms:W3CDTF">2016-09-18T12:33:24Z</dcterms:modified>
  <cp:revision>612</cp:revision>
  <dc:subject/>
  <dc:title>Comisia Nationala de Informatica</dc:title>
</cp:coreProperties>
</file>